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312025" cy="12341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21B-B512-4573-894F-65AFD02A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6D3-8C36-440D-962E-61FE21ED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886-2B52-468E-B88A-3BD36B3A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D9F-DEC4-4B5C-9AD2-05D17BD2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870D-E887-49D7-8F91-4A20755D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EDA7-1B4D-417D-82D9-2967AB8A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ED00-E7FF-46CF-BCA6-6B917699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7153-1A79-44DA-91ED-C8A87431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BEB2-C49F-4086-8DFB-17B9F741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019A-7E16-4FD0-A865-EB310D62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03B4-8F26-441F-B470-47F5B86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142-1814-4323-B36A-A4FDB493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3B9D-6380-4C0C-B89E-C8CAA846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B287-7FD3-40FA-9B61-4BAD84D6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201E-336D-4D6C-A67C-69BE3EC4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CCE1-D087-41D6-A9CB-29811D07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052A-052D-4DFC-A696-C3F0B7DF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47C-EF0C-4B83-A9AF-DA5F6C20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BC3-4DAE-47DF-99A5-11E406C0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BCC-4A16-4B49-978D-C3CDF8F6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465-4833-4FA1-ACF8-248AEF2C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AEF-05F8-4DDD-B469-1B1EAF53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DE6-67BE-4751-AE28-AD77E90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1DA-57B3-4C3B-8830-B041BE1B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46CD-C791-46DD-91A6-7640FF9E073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33C-1D5F-48F8-80ED-B8882F9E069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UIA PARA PRUE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4440"/>
            <a:ext cx="80010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Verdana"/>
              </a:rPr>
              <a:t>GUIA DE ESTUD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752480"/>
            <a:ext cx="8353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Relacionar los 14 autores expuestos (hacer una tabla)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u época (siglo, eventos importantes) y luga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os textos que escribieron (principal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us slogan e ideas principales (la máquina de habitar, ornamento o delito, la arquitectura de las sombras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nombre de algunas obras (cuando las tenga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Desarrollar brevemente conceptos com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Arquitectura orgán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uncionalis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uncionalismo psicológic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Bauha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Racionalis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orma y diseño (para L.I. Kah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conomí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irmitas, venustas, utilitas…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mparar parejas de autores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(tras una lectura hermenéutic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6-25T17:17:05Z</dcterms:modified>
  <cp:revision>21</cp:revision>
  <dc:subject/>
  <dc:title>TEORIA DE LA ARQUITECTURA I</dc:title>
</cp:coreProperties>
</file>