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312025" cy="12341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9FE2-0CF9-4EB9-BC01-C31D8A51B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5E23-77AB-42C2-BBCA-E58D0E48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97B3-674B-47EF-9872-D7DA0A03A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3DC9-8BC2-4280-B854-E96D732E4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0AFE-C3B9-4512-A639-087B5CAE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F605-B371-4400-87EF-27BC8C5F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ACF7-7163-4691-8FF4-7177DB38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3A37-A9EC-4D3D-8E9A-A5FE612A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693E-C285-41F0-8E5E-BE3804AE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594A-5173-45EF-9F6E-B4A6A691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89EA-6D0F-47D5-AB09-8F0E9FBF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AA0B-D3BA-4655-AC02-2848C9AA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19C6-B0C3-4737-BDF8-C0EE2AD7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F300-CC0B-44CF-BA23-9A9C1908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44F9-E4BC-42CB-91E9-1272A939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0B4E-CBCC-499B-A5CA-0AFF222B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8D65-4087-4786-BEFF-43D42D44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A921-F12D-4845-AE05-21D4FE7C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4810-168D-4E3A-BD3A-E6A81DD0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344F-895D-4E62-BBDE-08618B18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10F9-CCDB-43FA-BEB1-EB3A3234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5D5A-DDF4-4241-9169-F76F2FF9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8BB6-4CBE-4834-9806-82E5C381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DE97-0C0A-491E-A1DD-ECFF8FDA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636A-B55E-42A7-88C4-16AA3C825D5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A927-CDAB-4FB9-B2A0-EC56CE9D6DD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Verdana"/>
              </a:rPr>
              <a:t>TEORIA DE LA ARQUITECTURA I</a:t>
            </a:r>
            <a:br>
              <a:rPr sz="3200"/>
            </a:b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UIA PARA PRUEB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ROFESORA: PILAR BARB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YUDANTE: CRISTIAN RAYNA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874440"/>
            <a:ext cx="80010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Verdana"/>
              </a:rPr>
              <a:t>GUIA DE ESTUDI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752480"/>
            <a:ext cx="8353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Relacionar los 14 autores expuestos (hacer una tabla)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su época (siglo, eventos importantes) y lugar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Los textos que escribieron (principale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Sus slogan e ideas principales (la máquina de habitar, ornamento o delito, la arquitectura de las sombras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El nombre de algunas obras (cuando las tenga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Desarrollar brevemente conceptos com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Arquitectura orgánic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Funcionalism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Funcionalismo psicológic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Bauhau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Racionalism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Forma y diseño (para L.I. Kah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Economí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Firmitas, venustas, utilitas…etc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mparar parejas de autores</a:t>
            </a: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 (tras una lectura hermenéutic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03:28:31Z</dcterms:created>
  <dc:creator>Pilar Barba</dc:creator>
  <dc:description/>
  <dc:language>en-US</dc:language>
  <cp:lastModifiedBy>Pilar Barba</cp:lastModifiedBy>
  <dcterms:modified xsi:type="dcterms:W3CDTF">2007-06-25T17:17:05Z</dcterms:modified>
  <cp:revision>21</cp:revision>
  <dc:subject/>
  <dc:title>TEORIA DE LA ARQUITECTURA I</dc:title>
</cp:coreProperties>
</file>