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312025" cy="12341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072C-131B-42FF-8F01-71F3675E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08F8-14E1-43AC-A2A1-6DC67626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62DB-780B-4D09-BF8D-75E773C0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AE1B-9EC2-4495-AC61-FF4C6A1D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E346-9EBA-49EA-8412-7E58FBC5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C131-21F5-437D-A967-C67A2323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E6F0-2B06-4428-8E34-3327463D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94C0-08E3-4B16-8B3E-90239803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2B0E-10C2-45B2-B717-1D6E008F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31D3-474B-443F-A47B-344EF80C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EBC6-BB0B-405A-B846-44C7727D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3BB7-709E-4565-9564-E2E9ED6C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C562-BABC-4CFB-B4FA-4518B122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BEE1-DF35-4F6F-AC3B-49EEFCCB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C15C-F562-441A-A618-936536AE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9EF9-2A33-4585-82B2-7D757886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1873-95DF-4AB0-8ACF-4C193863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CE6F-4689-41F7-8E85-5F7762AD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1BFE-1746-4B1A-8261-89CD6B9F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1C45-9277-4F63-8A6B-6925A875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D92B-A8E1-49FD-8009-B08E3CA7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E9CB-BC3E-4F4E-B412-680DFCD9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FC4E-1F62-49E6-8CE7-8B93F747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D9F5-7671-4942-A3D9-6B0C17E8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AAB3-B105-4439-A819-C7FE36C40E4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2187-7CF3-4291-924B-3311CD53822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TEORIA DE LA ARQUITECTURA I</a:t>
            </a:r>
            <a:br>
              <a:rPr sz="32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UIA PARA PRUEB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ROFESORA: PILAR BARB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YUDANTE: CRISTIAN RAYNA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874440"/>
            <a:ext cx="80010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Verdana"/>
              </a:rPr>
              <a:t>GUIA DE ESTUD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752480"/>
            <a:ext cx="8353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Relacionar los 14 autores expuestos (hacer una tabla)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su época (siglo, eventos importantes) y luga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Los textos que escribieron (principale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Sus slogan e ideas principales (la máquina de habitar, ornamento o delito, la arquitectura de las sombras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El nombre de algunas obras (cuando las tenga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Desarrollar brevemente conceptos com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Arquitectura orgáni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Funcionalism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Funcionalismo psicológic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Bauhau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Racionalism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Forma y diseño (para L.I. Kah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Economí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Firmitas, venustas, utilitas…etc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mparar parejas de autores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 (tras una lectura hermenéutic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03:28:31Z</dcterms:created>
  <dc:creator>Pilar Barba</dc:creator>
  <dc:description/>
  <dc:language>en-US</dc:language>
  <cp:lastModifiedBy>Pilar Barba</cp:lastModifiedBy>
  <dcterms:modified xsi:type="dcterms:W3CDTF">2007-06-25T17:17:05Z</dcterms:modified>
  <cp:revision>21</cp:revision>
  <dc:subject/>
  <dc:title>TEORIA DE LA ARQUITECTURA I</dc:title>
</cp:coreProperties>
</file>