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65D9D-1B10-4509-AD1E-112AEFB6C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4DAF8-B0CB-4D48-B8A3-ACD2C0231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2CD2D-EEDD-45AE-9918-4050C866C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25952-7829-4867-85E4-2AB533A29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EAD89-31FF-435D-9D23-EA7B8FFF5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6A9A5-D546-4662-AD21-1253180EA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4D6FB-831C-4F9E-984B-4B1806B01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CA0E4-FAE5-4A20-BCCD-BA7AF8028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41E71-EF3D-4A0E-A1C5-1245DC2A4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C507A-A7C9-4B0A-BD24-CC9C46ADB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72C2D-5E52-4230-BA37-6FAC60E4B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45AA-E1BB-4E09-90BB-BE474CE5E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9CEC5-A732-4A46-9B1A-6722A73B6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A05AA-B30A-46B3-B507-1FF5FD16A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A95B3-BA34-41C7-975A-07E85E719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0BD8C-D64E-4E60-9A01-CFCE4AC1E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C4DD5-3604-4F24-A4E2-7DBC2F823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8FCB6-C59B-4A16-9942-8E00C83D7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C469E-E787-4E63-940E-D7C05C429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62B05-4DD8-4FF2-B5C8-3077B25D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9C8BC-162E-4029-80F9-2D7E6BF91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E068-C818-441F-8B75-755FA7755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E182F-C6AB-429B-8EF0-89AC17E5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CB23-08A4-4AC9-965F-76B3A6F48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0F8A-34EE-42F0-B2E2-E2F0F48D846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E3FD-72D2-4080-815C-22317F43F254}"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4 </a:t>
            </a:r>
            <a:r>
              <a:rPr b="0" lang="es-CL" sz="1600" spc="-1" strike="noStrike">
                <a:solidFill>
                  <a:srgbClr val="000000"/>
                </a:solidFill>
                <a:latin typeface="Verdana"/>
              </a:rPr>
              <a:t>28 de marzo 2007</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 descr=""/>
          <p:cNvPicPr/>
          <p:nvPr/>
        </p:nvPicPr>
        <p:blipFill>
          <a:blip r:embed="rId2"/>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0"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fontScale="97000"/>
          </a:bodyPr>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4-01T05:35:10Z</dcterms:modified>
  <cp:revision>18</cp:revision>
  <dc:subject/>
  <dc:title>TEORIA DE LA ARQUITECTURA I</dc:title>
</cp:coreProperties>
</file>