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D0B82-3EB1-4D60-B2AC-1A0A7C9B5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2568-312A-4C74-B694-3DD00120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F6114-8724-464E-A14A-F846668D1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C01F-3E40-4695-9723-08E89203A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14CD1-B8B4-4722-8F89-D48B4BC45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13B65-7907-4741-BB7A-81FAA7C8F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EFEE-7A5E-4DA3-A6C7-B866604BE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32058-4C1A-44F0-A6B0-49A35C758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4154F-9480-45AD-8834-A58730C4F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42470-DF74-4AE8-B6B2-6A8C04CB0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5C10F-2402-45EC-9062-337572D35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FC68-7892-4514-8A7D-A260E78F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5A435-DD39-4116-9644-853824A6A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C3E93-537D-4108-999F-2FEC7D6DF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F04D-918F-40EC-ADD1-26B3FEF4D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CB937-5431-4BA8-8C2A-2FA6FB1AB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83CF0-8F6D-4D70-9AE0-A6AE037DA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999C-87E8-4BA0-87AF-1F30932B8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70B1-C459-4845-BABB-F4FEF281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A984D-464A-4B77-9639-92DF7C68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67AA1-B834-42DA-8109-2D46F29AB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B277-1CF9-4E47-B73B-D6ED1EA3D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1823-28DE-415A-A9D0-E6D0584D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0D3E-2A24-4022-B671-46460F33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8A32-E862-4910-8F47-0BDABB6B45E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4FC7-41D1-4018-9950-B91DC04176D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4 </a:t>
            </a:r>
            <a:r>
              <a:rPr b="0" lang="es-CL" sz="1600" spc="-1" strike="noStrike">
                <a:solidFill>
                  <a:srgbClr val="000000"/>
                </a:solidFill>
                <a:latin typeface="Verdana"/>
              </a:rPr>
              <a:t>28 de marzo 2007</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 descr=""/>
          <p:cNvPicPr/>
          <p:nvPr/>
        </p:nvPicPr>
        <p:blipFill>
          <a:blip r:embed="rId2"/>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0"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fontScale="97000"/>
          </a:bodyPr>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4-01T05:35:10Z</dcterms:modified>
  <cp:revision>18</cp:revision>
  <dc:subject/>
  <dc:title>TEORIA DE LA ARQUITECTURA I</dc:title>
</cp:coreProperties>
</file>