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79733-EBA1-47D4-8A52-A8114467E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E0BE0-C59D-4F38-B509-ED73F5EB8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B7BDE-DE84-4083-96EA-A662DD360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90FA2-04E9-4FCA-93E3-06C0EBA89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62D1C-8645-41A0-B781-B877ACC51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88404-AF94-4357-A553-F6CCF2DCC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53D01-FCC1-4FB2-8654-57A9F3240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460E8-B93A-4A3E-B67C-0F2B13431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3363F-66AD-4653-AFD3-84B6A68CE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A5358-DFA0-4FBD-BF80-FDF744E75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CA445-6A9C-43C0-8282-C863862E5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ABBF2-A662-4AB1-B228-4B7316CE4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226B2-DD11-4913-A668-662C082F5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A8BBC-8B0A-45C9-9C97-17FECA90E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8AD24-0BB1-4344-AA7F-97A1A1511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76411-F39E-4AEB-B525-E5B1AC2C5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D6992-D57B-47F3-B4EB-5696B82B7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1481B-9281-46FC-848A-F1F19526E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B578B-0804-4FFA-BB38-EE1716720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AAC0-26F2-4693-A5D0-571826CE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68346-A94F-4229-A6DF-FC38247FC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43B2-05A7-4A61-BB46-47BA8878F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8CC1-1CE0-4155-8388-0DA89B7B8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643B-4902-4683-9819-6F5247174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F52D-C991-41FC-AD95-D7FAED8F7F91}"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FF2E-E4D5-4D35-A2A0-5468B9F55986}"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4 </a:t>
            </a:r>
            <a:r>
              <a:rPr b="0" lang="es-CL" sz="1600" spc="-1" strike="noStrike">
                <a:solidFill>
                  <a:srgbClr val="000000"/>
                </a:solidFill>
                <a:latin typeface="Verdana"/>
              </a:rPr>
              <a:t>28 de marzo 2007</a:t>
            </a:r>
            <a:endParaRPr b="0" lang="en-US" sz="1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invisibilidad</a:t>
            </a:r>
            <a:endParaRPr b="0" lang="en-US" sz="3000" spc="-1" strike="noStrike">
              <a:solidFill>
                <a:srgbClr val="000000"/>
              </a:solidFill>
              <a:latin typeface="Verdana"/>
            </a:endParaRPr>
          </a:p>
        </p:txBody>
      </p:sp>
      <p:sp>
        <p:nvSpPr>
          <p:cNvPr id="10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lusión de coherencia histórica y acumulativa del nuevo paradigma con la experiencia anterior de la ciencia.</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 principio de autoridad fuertemente reforzada por el paradigma que se apoya en los libros de texto (comunican vocabulario y sintaxis de un lenguaje científico contemporáneo), las obras de divulgación (la misma información en un lenguaje cotidiano) y la filosofía (la lógica del mismo lenguaje y cuerpo de conocimientos).</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adie vuelve a preguntarse por los orígenes de su paradigma (punto ciego) una vez que este funciona como productor de ciencia normal, es decir cuando ser científico es hacer precisamente lo que determina el paradig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5. Recapitulemos</a:t>
            </a:r>
            <a:endParaRPr b="0" lang="en-US" sz="3000" spc="-1" strike="noStrike">
              <a:solidFill>
                <a:srgbClr val="000000"/>
              </a:solidFill>
              <a:latin typeface="Verdana"/>
            </a:endParaRPr>
          </a:p>
        </p:txBody>
      </p:sp>
      <p:sp>
        <p:nvSpPr>
          <p:cNvPr id="10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uando se considera la historia se puede comprobar que cada gran cambio conceptual inaugura una época de descubrimientos, y no, como se esperaría, que una época de descubrimientos culmina en un gran cambio conceptual.</a:t>
            </a:r>
            <a:endParaRPr b="0" lang="en-US" sz="2100" spc="-1" strike="noStrike">
              <a:solidFill>
                <a:srgbClr val="000000"/>
              </a:solidFill>
              <a:latin typeface="Verdana"/>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estos grandes cambios conceptuales Kunh los llama “revoluciones científicas”...Los científicos, de hecho no aceptan instancias refutadoras y, por otro lado, la ciencia no progresa linealmente, sino que progresa a través de reordenamientos radicales de evidencias e ideas que ya existe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6. Para reflexionar</a:t>
            </a:r>
            <a:endParaRPr b="0" lang="en-US" sz="3000" spc="-1" strike="noStrike">
              <a:solidFill>
                <a:srgbClr val="000000"/>
              </a:solidFill>
              <a:latin typeface="Verdana"/>
            </a:endParaRPr>
          </a:p>
        </p:txBody>
      </p:sp>
      <p:sp>
        <p:nvSpPr>
          <p:cNvPr id="10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cuadro de Leonardo que uno de Picasso?</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templo griego que un rascacielos?</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lación ciencia – tecnología</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homas Samuel Kuhn</a:t>
            </a:r>
            <a:br>
              <a:rPr sz="3800"/>
            </a:br>
            <a:r>
              <a:rPr b="0" lang="es-CL" sz="1900" spc="-1" strike="noStrike">
                <a:solidFill>
                  <a:srgbClr val="000000"/>
                </a:solidFill>
                <a:latin typeface="Verdana"/>
              </a:rPr>
              <a:t>Cincinnati, 1922-1996</a:t>
            </a:r>
            <a:endParaRPr b="0" lang="en-US" sz="1900" spc="-1" strike="noStrike">
              <a:solidFill>
                <a:srgbClr val="000000"/>
              </a:solidFill>
              <a:latin typeface="Verdana"/>
            </a:endParaRPr>
          </a:p>
        </p:txBody>
      </p:sp>
      <p:pic>
        <p:nvPicPr>
          <p:cNvPr id="88" name="" descr=""/>
          <p:cNvPicPr/>
          <p:nvPr/>
        </p:nvPicPr>
        <p:blipFill>
          <a:blip r:embed="rId2"/>
          <a:stretch/>
        </p:blipFill>
        <p:spPr>
          <a:xfrm>
            <a:off x="4572000" y="1143000"/>
            <a:ext cx="4033800" cy="49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estructura de las revoluciones científicas</a:t>
            </a:r>
            <a:r>
              <a:rPr b="0" lang="es-CL" sz="3000" spc="-1" strike="noStrike">
                <a:solidFill>
                  <a:srgbClr val="000000"/>
                </a:solidFill>
                <a:latin typeface="Verdana"/>
              </a:rPr>
              <a:t>(1962)</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Breviarios. Fondo de Cultura Económica S.A. 2da edición 1986</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Falsacionismo de Popper y Psicología del aprendizaje.</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mpacto en las ciencias socia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Un papel para la historia</a:t>
            </a:r>
            <a:endParaRPr b="0" lang="en-US" sz="30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os científicos no se cambiaron al sistema de Copérnico porque hubieran descubierto algo: una vez que se cambiaron al sistema de Copérnico pudieron descubrir muchas cos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udas sobre la acumulación de conocimiento.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stalt y “reordenamiento radical de las evidanci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la historia nos revela una ciencia coherente y auténtica en cada época, se dificulta la noción de “acumulación” del conocimiento, y se hace necesario concebir la idea de discontinuidades a la manera de revolucione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discontinuidades entre las “ciencias”de cada época están reflejadas en modos de ver el mundo </a:t>
            </a:r>
            <a:r>
              <a:rPr b="0" lang="es-CL" sz="2100" spc="-1" strike="noStrike">
                <a:solidFill>
                  <a:srgbClr val="000000"/>
                </a:solidFill>
                <a:latin typeface="Verdana"/>
              </a:rPr>
              <a:t>inconmensurables</a:t>
            </a:r>
            <a:r>
              <a:rPr b="0" lang="es-CL" sz="2100" spc="-1" strike="noStrike">
                <a:solidFill>
                  <a:srgbClr val="000000"/>
                </a:solidFill>
                <a:latin typeface="Verdana"/>
              </a:rPr>
              <a:t> entre s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a tarea científica es algo que se ejerce en comunidad: No hay científico individual frente a un problema individual, sino una comunidad frente a una problemática</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Problema es algo que está ahí, aunque nadie esté considerándolo, problemática es algo que la comunidad se ha dad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la ciencia pre-paradigmática. Situación anterior al desarrollo de una ciencia. Ante una misma gama de fenómenos, diferentes hombres los interpretan de modo diferent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constituirse en paradigma una teoría debe parecer mejor que sus competidoras, pero no tiene que explicarlo todo.</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reglas de la ciencia no se discuten cuando el paradigma funciona, sólo durante la crisis tiene sentido volver sobre ella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hay paradigma</a:t>
            </a:r>
            <a:r>
              <a:rPr b="0" lang="es-CL" sz="2100" spc="-1" strike="noStrike" u="sng">
                <a:solidFill>
                  <a:srgbClr val="000000"/>
                </a:solidFill>
                <a:uFillTx/>
                <a:latin typeface="Verdana"/>
              </a:rPr>
              <a:t>s</a:t>
            </a:r>
            <a:r>
              <a:rPr b="0" lang="es-CL" sz="2100" spc="-1" strike="noStrike">
                <a:solidFill>
                  <a:srgbClr val="000000"/>
                </a:solidFill>
                <a:latin typeface="Verdana"/>
              </a:rPr>
              <a:t> sino teorías en competencia.</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digma como modelo ejemplar &gt; consenso de todos los profesionales de una comunidad científic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jemplo: cuál es elemento básico de la realidad que investigan?..para el físico, el biólogo, el psicoanalísta...</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9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un campo común de investigació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lo que hay y lo que no hay en el mundo. Lo que puede resolverse y lo que tiene sentido preguntar dentro del paradigm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tarea fundamental de la ciencia normal es ajustar todo lo posible la teoría con los hechos. Articulación de la teoría. Mediciones más precisas, determinación de constantes universales y leyes cuantitativas. Fabricación de instrumentos paradigmáticos para desarrollar experimentos acordes con la realidad.</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qué es relevante (y científico) en el camp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100"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solución de enigmas (p73): puzzle que implica reglas, piezas y soluciones. Lo desconocido es el procedimiento para su desciframient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iferencia con Popper cuya producción teórica es científica si se la confronta con la “realidad” para refutarl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científico como personaje altamente conservador. Nada nuevo se crea a partir de los procedimientos propios de la ciencia normal.</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es tareas de la ciencia normal:</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determinación del hecho significativo.</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coplamiento de los hechos con la teoría</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ticulación de la teo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09400"/>
            <a:ext cx="800100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naturaleza y necesidad</a:t>
            </a:r>
            <a:endParaRPr b="0" lang="en-US" sz="3000" spc="-1" strike="noStrike">
              <a:solidFill>
                <a:srgbClr val="000000"/>
              </a:solidFill>
              <a:latin typeface="Verdana"/>
            </a:endParaRPr>
          </a:p>
        </p:txBody>
      </p:sp>
      <p:sp>
        <p:nvSpPr>
          <p:cNvPr id="10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fontScale="97000"/>
          </a:bodyPr>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voluciones como cambios del concepto del mundo.</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Al enfrentarse anomalías o crísis, los científicos adoptan una actitud diferente hacia el paradigma existente y en consecuencia, la naturaleza de su investigación cambia. La proliferación de articulaciones en competencia, la disposición para ensayarlo todo, la expresión del descontento explícito, el recurso a la filosofía y el debate sobre los fundamentos, son síntomas de una transición de la investigación normal a la no-ordinaria...” (extraordinaria).(P148).</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cambios de un paradigma a otro son:</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ápido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nerale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adicales</a:t>
            </a:r>
            <a:endParaRPr b="0" lang="en-US" sz="2100" spc="-1" strike="noStrike">
              <a:solidFill>
                <a:srgbClr val="000000"/>
              </a:solidFill>
              <a:latin typeface="Verdana"/>
            </a:endParaRPr>
          </a:p>
          <a:p>
            <a:pPr marL="51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cp:lastModifiedBy>
  <dcterms:modified xsi:type="dcterms:W3CDTF">2007-04-01T05:35:10Z</dcterms:modified>
  <cp:revision>18</cp:revision>
  <dc:subject/>
  <dc:title>TEORIA DE LA ARQUITECTURA I</dc:title>
</cp:coreProperties>
</file>