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331-E096-4372-BD52-36F18C8F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BEF-1BFE-407F-A2E3-C88400F5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2FA-72CD-4245-BB49-4BA767ED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CD7-1734-43AC-8056-85E15AA2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866C-0B6E-434E-BCB1-E01E20E7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C4E4-424D-4ABD-AB70-C76DDA30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C4BC-49CA-4C17-9914-53A41CA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82D-F78C-4CEE-BB42-5F6C961C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FAA1-C61A-4D03-882F-B26A6A9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7AAC-73F9-4210-B20D-E496C18F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0258-74A5-4C9B-8E25-FC9385F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687-44BF-4848-849F-3B85D4A8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C01A-D6B3-4485-A9DA-419354A5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0E95-D540-4911-8A53-48667DC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AA2C-8488-45DD-AE25-3D58B3B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5263-94EF-44D4-996A-09117FF0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567A-6314-45BA-AD53-A7F7A711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AF9-DF14-4E73-A064-10C09BEF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81E-D4ED-442B-A15D-8EBDC7D2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36E-7082-4EC7-B538-442FCA4B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BC6-A214-416D-A8A0-F1A15FD5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698-6CD6-49EA-B917-A1EEFD4F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148-EFC3-484F-AC34-2FDAB74E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6D0-1707-4EB5-8584-3296F999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10F0-E389-4878-B0EF-74C0AC073F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47D0-FB47-4671-BA82-B9DFED6A24C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UIA DE VISITA A EXPO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PRECIACION ARTIS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42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isitamos exposiciones para saber qué pasa en el campo del Arte hoy; reconocer las reflexiones, sentimientos, inquietudes, cuestionamientos y críticas que nos muestra el artista e integrar estas visiones a nuestro pensar y hac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 partir de ahora consideremos cada cosa expuesta como un discurso, un “informe” por parte del artista, o sea, un punto de vista, un pronunciamiento o un senti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xperiencia Estétic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se produce cuando se logra el “conectar” el mundo del artista –alguien desconocido- con nuestro propio mundo, a través de su trabaj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PRECIACION ARTIS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Ya que consideramos la totalidad de la exposición como un intento de comunicación tanto a nivel intelectual como emocional, nuestro esfuerzo estará en buscar “claves de interpretació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as claves aparecerán al estudiar con detención lo que se expone en la mayor cantidad de aspectos posibles: formales, simbólicos, cultur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que lo que vemos no nos guste cabalmente, o no lo entendamos completamente, pero seguramente si habrá aspectos que podamos interpretar y valor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te es un ejercicio d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preciación Artíst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ntificar qué se exhi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Retrospectiva de Pintura Chilena Contemporánea, Jóvenes Fotógrafos Alemane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Cuál es el sopor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Pintura, Fotografía, Instalaciones, Video, BodyArt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Existe alguna temática desarrollad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La ciudad, el dolor, el amor, el paisaje, la justi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es el montaj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la percepción del espacio y los obje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el recorrido, la aproximación y la dista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la perspectiva de la tot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focos de atención o 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percepción de la iluminación, sonidos, mater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Es este un lugar adecuado para expon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Reconoces citas a otras ob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Otros cuadros, citas literarias, personajes conocidos, símbolos culturale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nalmente, ¿qué te deja la muest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erda que estos son sólo aspectos que sirven sólo como guía para elaborar estos informes, un texto que se arma a partir de tu propia experiencia frente a la obra y el lugar que lo aco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DICIONES DE ENTREG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asta final del primer semest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informe por exposi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ínimo 1 página de texto que puede ir acompañado con fotos o dibuj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3-14T03:14:27Z</dcterms:modified>
  <cp:revision>33</cp:revision>
  <dc:subject/>
  <dc:title>TEORIA DE LA ARQUITECTURA I</dc:title>
</cp:coreProperties>
</file>