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EE4-6A1E-4E7B-B5AB-E781B187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E73-0196-4BF6-B519-CBD6583D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CDE-088F-4C34-8D83-DF6116AC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EEE-6C6A-4924-966C-734CCBE0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2C91-DDB3-46E6-998D-90C5BFDB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213-B8AE-437A-94B5-3BBB6EEB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231-A258-4B20-A848-84B0B1C3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ADF-50A7-42E6-AC75-0133B6EA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682C-CB67-40C9-9675-3BEFAE6B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953F-30F1-4D89-BDE3-F48CA85D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E47-A5CE-4DC0-A023-39EEC83B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C43-56AA-462A-A756-C8ACB66E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1C3D-F9EA-4EDF-8F05-0465B06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CEB-48AE-4F31-B45B-B60F7AE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B13C-742C-4CE0-92E6-0A77B0A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716-07B2-41B8-BA3E-462BAADB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5C0B-5F49-4041-8553-402B1453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DAA-63B4-4044-A4E0-6D40422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E51-0708-453B-A6FC-E607952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F25-2BC3-441C-8F6E-564E85D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992-B4BA-49F5-A033-5506C7CF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537-77A5-4989-B367-6B1C4193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73D-30A4-45DE-A048-554BC2E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5E7-8D74-4AD1-B260-330801F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83F-A87B-456B-A969-0FDF641AB6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F58-57F2-4DE5-B6D9-166A737326A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DE VISITA A EXPO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isitamos exposiciones para saber qué pasa en el campo del Arte hoy; reconocer las reflexiones, sentimientos, inquietudes, cuestionamientos y críticas que nos muestra el artista e integrar estas visiones a nuestro pensar y hac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 partir de ahora consideremos cada cosa expuesta como un discurso, un “informe” por parte del artista, o sea, un punto de vista, un pronunciamiento o un sent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xperiencia Estétic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se produce cuando se logra el “conectar” el mundo del artista –alguien desconocido- con nuestro propio mundo, a través de su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Ya que consideramos la totalidad de la exposición como un intento de comunicación tanto a nivel intelectual como emocional, nuestro esfuerzo estará en buscar “claves de interpretació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claves aparecerán al estudiar con detención lo que se expone en la mayor cantidad de aspectos posibles: formales, simbólicos, cultur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que lo que vemos no nos guste cabalmente, o no lo entendamos completamente, pero seguramente si habrá aspectos que podamos interpretar y valor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te es un ejercicio d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preciación Artís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qué se exhi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Retrospectiva de Pintura Chilena Contemporánea, Jóvenes Fotógrafos Aleman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Cuál es el so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Pintura, Fotografía, Instalaciones, Video, BodyArt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xiste alguna temática desarrollad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La ciudad, el dolor, el amor, el paisaje, la justi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es el montaj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cepción del espacio y los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el recorrido, la aproximación y la dista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spectiva de la tot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focos de atención o 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percepción de la iluminación, sonidos, mater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s este un lugar adecuado para expon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Reconoces citas a otras ob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Otros cuadros, citas literarias, personajes conocidos, símbolos cultural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lmente, ¿qué te deja la muest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erda que estos son sólo aspectos que sirven sólo como guía para elaborar estos informes, un texto que se arma a partir de tu propia experiencia frente a la obra y el lugar que lo aco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DICIONES DE ENTREG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asta final del primer semes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informe por exposi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ínimo 1 página de texto que puede ir acompañado con fotos o dibuj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14T03:14:27Z</dcterms:modified>
  <cp:revision>33</cp:revision>
  <dc:subject/>
  <dc:title>TEORIA DE LA ARQUITECTURA I</dc:title>
</cp:coreProperties>
</file>