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F8E-C9E8-4FFE-A9E3-6EFD6B34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08C-DFBC-4EFD-81E2-4816F511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4F7-3A80-492B-A2CA-49E2717C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2EE-BA98-4C35-B40C-A6D2AFEB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4A0D-689F-4621-BC5C-CA8B9726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F16-0B3C-4039-8351-171F62C9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4A01-3DD4-40BF-9874-8073BAAB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5F32-2FD0-4025-AA99-FF918EE1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3F6C-8844-44D2-BE20-D292D9BD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8A11-7889-481D-A9B3-F632D8C6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7A2-8FFE-44E9-8512-90E8DEB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A9A-78D6-4A51-B4B8-CE22B4AE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ADD1-3D86-4581-96FB-DAD3CA6B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7674-07DE-43BC-B3AA-77362456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657D-AD02-4463-9480-7BEE9002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791D-5C6E-4390-8103-DFB3D30E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EA05-58F3-45D3-996B-33903571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0F9-2ED4-46BE-A195-8B3A5DBD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A7A-84BB-4E20-A00F-2C25C1BD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4387-16D7-413A-B3DD-21762643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6B2-8894-4013-8F18-02DE0F39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F04-760D-409C-A3A4-A1751E3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20A-36D2-4BF3-8824-2762CA1A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8FD-1C16-447C-B56F-01DFC53C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0F14-B4B2-431D-AC02-DEAC0F6E5DE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45D2-3F5E-4ADF-BE19-8EB80355513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UIA DE VISITA A EXPO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RECIACION ARTIS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42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Visitamos exposiciones para saber qué pasa en el campo del Arte hoy; reconocer las reflexiones, sentimientos, inquietudes, cuestionamientos y críticas que nos muestra el artista e integrar estas visiones a nuestro pensar y hac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 partir de ahora consideremos cada cosa expuesta como un discurso, un “informe” por parte del artista, o sea, un punto de vista, un pronunciamiento o un senti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Experiencia Estética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se produce cuando se logra el “conectar” el mundo del artista –alguien desconocido- con nuestro propio mundo, a través de su trabaj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RECIACION ARTIS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Ya que consideramos la totalidad de la exposición como un intento de comunicación tanto a nivel intelectual como emocional, nuestro esfuerzo estará en buscar “claves de interpretació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stas claves aparecerán al estudiar con detención lo que se expone en la mayor cantidad de aspectos posibles: formales, simbólicos, cultur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de que lo que vemos no nos guste cabalmente, o no lo entendamos completamente, pero seguramente si habrá aspectos que podamos interpretar y valor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te es un ejercicio d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preciación Artístic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ntificar qué se exhib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Retrospectiva de Pintura Chilena Contemporánea, Jóvenes Fotógrafos Alemane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Cuál es el so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Pintura, Fotografía, Instalaciones, Video, BodyArt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Existe alguna temática desarrollad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La ciudad, el dolor, el amor, el paisaje, la justi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es el montaj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la percepción del espacio y los obje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el recorrido, la aproximación y la dista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la perspectiva de la tot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focos de atención o 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-percepción de la iluminación, sonidos, materi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Es este un lugar adecuado para expone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¿Reconoces citas a otras ob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J: Otros cuadros, citas literarias, personajes conocidos, símbolos culturales,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inalmente, ¿qué te deja la muest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7 ASPECTOS PARA ABORDAR EN EL INFOR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erda que estos son sólo aspectos que sirven sólo como guía para elaborar estos informes, un texto que se arma a partir de tu propia experiencia frente a la obra y el lugar que lo aco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DICIONES DE ENTREG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asta final del primer semes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informe por exposi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ínimo 1 página de texto que puede ir acompañado con fotos o dibuj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3-14T03:14:27Z</dcterms:modified>
  <cp:revision>33</cp:revision>
  <dc:subject/>
  <dc:title>TEORIA DE LA ARQUITECTURA I</dc:title>
</cp:coreProperties>
</file>