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94C-FDBB-4C23-9AA2-1B21C4DD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C26-0AD1-48F8-A09C-1CE4992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34A-5E49-4DCE-90A2-A8546575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A62-4A82-4708-9F9F-C7F4D613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6F2E-4F72-4B9E-9069-5C0CB01F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A318-F3AA-4058-8AEC-CF26220D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8CEB-A1CB-411F-8DE4-316ED38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F88D-15BB-4E88-8441-3F7FB3C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7A7-4D94-478F-AB14-8766C86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802-53A2-4D31-99E9-6EDDB099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E73-CEE8-407B-A73E-CD8DE27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5B4-7555-4C87-987B-659B19C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D666-54A1-4050-92F9-7BEBE04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D3C-25E7-4BB7-8668-4AAFB0A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B1D6-5C32-445B-9349-D8511236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E5F8-4752-4156-825B-A462D37A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BD82-882C-443F-B6E5-7FC693DA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6E5-97C3-43DA-8026-1C21ED74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B86-A2C6-4346-BD8B-54BBC6F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DD7-68F6-4795-A41D-8C3AA2A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E4B-3B0B-46A5-AD1E-6E61C141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B7D-D267-48B8-903C-88C9A43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6F5-6DD6-45BE-8FBB-3394C0A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DD6-32D9-4D39-AF92-02F7FF5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119-4133-463F-AB11-B1F65369DFFB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1069-6263-40B3-9E21-9B7B3BEBC9BB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Verdana"/>
              </a:rPr>
              <a:t>Teorías de Aprendizaje y el Proceso de Evaluació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Proceso activo, individual y social en el que el aprendiz construye conocimientos a partir del establecimiento de relaciones significativas entre las nuevas informaciones y los conocimientos previ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es el establecimiento de relaciones entre los nuevos conocimientos y los conocimientos anteri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requiere la organización constante de conocimie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concierne tanto a los conocimientos teóricos como a las habilidades y estratég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centra en dos ejes: individual y colec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ve influido por los aspectos cognitivos como por los afec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ocurre en un contexto determin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La enseñanza y 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fin último de todo proceso de enseñanza es el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está teñido –de manera explícita o implícita- de un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enfoque de aprendizaje</a:t>
            </a: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y sus componentes debe ser coherente con el enfoque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de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duct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gnosc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struct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duct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ser humano es un ser reactiv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Responde a los estímulos del medioambien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tivación controlada por refuerzos exterio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aprendizaje se produce por asociación estímulo-respuest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Por aproximaciones sucesiva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entrada en alcanzar los objetivos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dela el contenid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que privilegian la ejercitación y práctic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valuación restringi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gnosci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ser humano es un procesador de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produce por el establecimiento de interrelaciones entre la nueva información y el bagaje de conocimientos que se pose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ebe atribuir sentido a la información que incorpora al sistema cogn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urante el proceso aplica estratégias para el mejor procesamiento de la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didácticos que apoyan el proceso cognitivo de los estudiant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Uso de medios que “activen” procesos de selección, organización e incorporación de informació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Actividades evaluativas que involucren la aplicación y transferencia de los aprendizaj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struc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Ideas centra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realid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interacción human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conocimiento resulta de la experiencia person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os conocimientos son válidos en la medida que sean socialmente aceptado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Importancia a las interacciones entre el aprendizaje y su mediambiente soc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Situaciones de aprendizaje tienen un carácter reflex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 evaluación privilegia la transferencia de aprendizaj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debe ser contextu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implica un proceso personal y colect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s situaciones de aprendizaje deben ser dinámic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profesor es un guía y facilitador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2:01:43Z</dcterms:created>
  <dc:creator>Pilar Barba</dc:creator>
  <dc:description/>
  <dc:language>en-US</dc:language>
  <cp:lastModifiedBy>Pilar Barba</cp:lastModifiedBy>
  <dcterms:modified xsi:type="dcterms:W3CDTF">2007-03-14T03:36:56Z</dcterms:modified>
  <cp:revision>10</cp:revision>
  <dc:subject/>
  <dc:title>Teorías de Aprendizaje y el Proceso de Evaluación</dc:title>
</cp:coreProperties>
</file>