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622-8134-45F9-97FC-2AEE17E6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4D5-3DB3-42D7-85E1-94E47404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29D-C55F-48AA-BB55-BBE89CD3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04A-AFCE-47CA-8734-72A66CC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4193-2CB7-430E-A54A-19718CAF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0D79-74BA-4B55-A948-F159BDB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7881-7931-4202-84A9-06573E23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03B1-A22E-45C1-8E0B-E0A67EC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03CA-068C-4D5E-BB28-9EBDCA53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0ED-ED89-466B-8D53-3E967C2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E4EA-04BE-41AE-945E-DC6E9A3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133-1EB3-4D69-9C74-E65D06CC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0E57-954F-4895-AE53-07BD2F4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2E8D-3149-47B9-9B9F-1723C14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31FA-D8A5-4B24-8D56-DC9D388A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BEA5-253A-4D0B-8892-DCE873FF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71BC-73F4-4CD5-978C-0631E811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81D-E601-4C24-9976-CFF42729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F54-73BE-4B7A-B8A3-202AC42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2C8-DFBD-4899-86B0-D8F769C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4ED-25B9-4D58-878B-CDEF71A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C45-FE43-4B04-B1A4-98305BD1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8ED-9626-49C6-9A7F-FA4CBEE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93A-6B4F-4BA5-AFA7-B79EDE9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8863-2E6C-456F-BD77-655BBA824518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1027-B232-4DB3-9942-E809DE0CB446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Verdana"/>
              </a:rPr>
              <a:t>Teorías de Aprendizaje y el Proceso de Evaluació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Proceso activo, individual y social en el que el aprendiz construye conocimientos a partir del establecimiento de relaciones significativas entre las nuevas informaciones y los conocimientos previ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es el establecimiento de relaciones entre los nuevos conocimientos y los conocimientos anteri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requiere la organización constante de conocimie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concierne tanto a los conocimientos teóricos como a las habilidades y estratég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Hacia una conceptualización d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centra en dos ejes: individual y colec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ve influido por los aspectos cognitivos como por los afectivo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ocurre en un contexto determin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La enseñanza y el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fin último de todo proceso de enseñanza es el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está teñido –de manera explícita o implícita- de un </a:t>
            </a:r>
            <a:r>
              <a:rPr b="0" lang="es-CL" sz="3000" spc="-1" strike="noStrike">
                <a:solidFill>
                  <a:srgbClr val="666699"/>
                </a:solidFill>
                <a:latin typeface="Verdana"/>
              </a:rPr>
              <a:t>enfoque de aprendizaje</a:t>
            </a: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Todo proceso de enseñanza-aprendizaje y sus componentes debe ser coherente con el enfoque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de Aprendizaj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duct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gnosc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onstructivist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Otro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duct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ser humano es un ser reactiv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Responde a los estímulos del medioambient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tivación controlada por refuerzos exterior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aprendizaje se produce por asociación estímulo-respuest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Por aproximaciones sucesiva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Centrada en alcanzar los objetivos de aprendizaj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odela el contenid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que privilegian la ejercitación y práctic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valuación restringi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gnosci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ser humano es un procesador de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aje se produce por el establecimiento de interrelaciones entre la nueva información y el bagaje de conocimientos que se pose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ebe atribuir sentido a la información que incorpora al sistema cogn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Verdana"/>
              </a:rPr>
              <a:t>El aprendiz durante el proceso aplica estratégias para el mejor procesamiento de la información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Métodos didácticos que apoyan el proceso cognitivo de los estudiante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Uso de medios que “activen” procesos de selección, organización e incorporación de información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Actividades evaluativas que involucren la aplicación y transferencia de los aprendizaj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Enfoques Constructivista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Ideas centra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realid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a naturaleza de la interacción human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El conocimiento resulta de la experiencia personal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Verdana"/>
              </a:rPr>
              <a:t>Los conocimientos son válidos en la medida que sean socialmente aceptado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ffffff"/>
                </a:solidFill>
                <a:latin typeface="Verdana"/>
              </a:rPr>
              <a:t>Implicancias para la enseñanz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Importancia a las interacciones entre el aprendizaje y su mediambiente soc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Situaciones de aprendizaje tienen un carácter reflex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 evaluación privilegia la transferencia de aprendizaj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debe ser contextu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aprendizaje implica un proceso personal y colectiv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Las situaciones de aprendizaje deben ser dinámic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Verdana"/>
              </a:rPr>
              <a:t>El profesor es un guía y facilitador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2:01:43Z</dcterms:created>
  <dc:creator>Pilar Barba</dc:creator>
  <dc:description/>
  <dc:language>en-US</dc:language>
  <cp:lastModifiedBy>Pilar Barba</cp:lastModifiedBy>
  <dcterms:modified xsi:type="dcterms:W3CDTF">2007-03-14T03:36:56Z</dcterms:modified>
  <cp:revision>10</cp:revision>
  <dc:subject/>
  <dc:title>Teorías de Aprendizaje y el Proceso de Evaluación</dc:title>
</cp:coreProperties>
</file>