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501-E9F0-4D8A-989E-57A6396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260-F12E-47FC-B46D-38FB0AA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6D6-4C59-41E9-ABB5-E7739A8A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621-334B-4C9E-A0EA-3CE1CD64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193A-E831-41A2-A19C-C7F26DC5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3DD-032C-4BA1-81F1-1D63F9E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F19-7ECB-4D0D-9C96-E87A025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E4F-C4FA-4972-A990-2437FBE4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A0F-52F7-4CB2-8A9B-B9D5EA8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AFAF-5786-46B4-8E03-FE4A609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79D-69F2-4E88-AD81-E3B04C2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625-754E-4DA8-A908-74D1B167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9F9-D418-4C67-A36E-B4DA4CD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4B9-6DB5-4C14-9AF6-608476A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836A-8593-429F-A601-46326C6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837C-453F-4A16-BAA0-FDECC053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D68-E573-46B4-8430-92531441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1E1-5C0F-46D4-9D24-5E889BD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82D-6097-440E-BE09-D4E9E21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957-7F0A-4776-B864-1A8EB9D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81A-5F5A-46DF-A4FB-38AAC137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7B4-3123-4D72-9861-3BFCE04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E00-5FE3-42C4-96DD-6849F75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01D-72CB-4EB8-B226-F7AFA58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1719-567A-416A-9666-B2F0796EA133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207-2465-4CE8-ABCD-A5C074D82856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Verdana"/>
              </a:rPr>
              <a:t>Teorías de Aprendizaje y el Proceso de Evaluació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Proceso activo, individual y social en el que el aprendiz construye conocimientos a partir del establecimiento de relaciones significativas entre las nuevas informaciones y los conocimientos previ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es el establecimiento de relaciones entre los nuevos conocimientos y los conocimientos anteri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requiere la organización constante de conocimie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concierne tanto a los conocimientos teóricos como a las habilidades y estratég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centra en dos ejes: individual y colec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ve influido por los aspectos cognitivos como por los afec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ocurre en un contexto determin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La enseñanza y 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fin último de todo proceso de enseñanza es el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está teñido –de manera explícita o implícita- de un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enfoque de aprendizaje</a:t>
            </a: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y sus componentes debe ser coherente con el enfoque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de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duct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gnosc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struct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duct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ser humano es un ser reactiv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Responde a los estímulos del medioambien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tivación controlada por refuerzos exterio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aprendizaje se produce por asociación estímulo-respuest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Por aproximaciones sucesiva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entrada en alcanzar los objetivos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dela el contenid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que privilegian la ejercitación y práctic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valuación restringi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gnosci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ser humano es un procesador de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produce por el establecimiento de interrelaciones entre la nueva información y el bagaje de conocimientos que se pose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ebe atribuir sentido a la información que incorpora al sistema cogn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urante el proceso aplica estratégias para el mejor procesamiento de la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didácticos que apoyan el proceso cognitivo de los estudiant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Uso de medios que “activen” procesos de selección, organización e incorporación de informació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Actividades evaluativas que involucren la aplicación y transferencia de los aprendizaj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struc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Ideas centra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realid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interacción human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conocimiento resulta de la experiencia person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os conocimientos son válidos en la medida que sean socialmente aceptado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Importancia a las interacciones entre el aprendizaje y su mediambiente soc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Situaciones de aprendizaje tienen un carácter reflex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 evaluación privilegia la transferencia de aprendizaj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debe ser contextu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implica un proceso personal y colect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s situaciones de aprendizaje deben ser dinámic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profesor es un guía y facilitador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2:01:43Z</dcterms:created>
  <dc:creator>Pilar Barba</dc:creator>
  <dc:description/>
  <dc:language>en-US</dc:language>
  <cp:lastModifiedBy>Pilar Barba</cp:lastModifiedBy>
  <dcterms:modified xsi:type="dcterms:W3CDTF">2007-03-14T03:36:56Z</dcterms:modified>
  <cp:revision>10</cp:revision>
  <dc:subject/>
  <dc:title>Teorías de Aprendizaje y el Proceso de Evaluación</dc:title>
</cp:coreProperties>
</file>