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6C3-42AA-4AE1-91C0-77E73FA3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468-19E7-43A0-9746-5D32DE1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765-E55A-4420-B747-0760AA04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809-C766-48ED-A121-075648AA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EEC0-B16B-4744-A728-24F7EACE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2F90-64E2-484C-80E1-1540FC0A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1F1E-A7BA-42CD-A58D-29462F9F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73DC-24C9-49BB-A63A-CCB20B2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FFB9-18B6-4BCC-A438-1686E8E0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4C25-D8A8-48B8-B263-2520CAAC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890-C2E1-4E75-AE3F-239E040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0E3-4020-46E2-98D8-79984B2C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E188-1CB7-473E-A1E9-A68F4EB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B18C-300F-4885-8DCE-5E6576B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0437-437F-4D4B-A2E5-D156A1F2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C3C-3F0E-4303-A81C-D013CCFD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C32A-8648-479B-8F42-7D33B25A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A18-98CB-4AD5-ADD9-44FBA7C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C9B-FD83-4937-915A-1308068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0EF-4297-4FA1-93B2-AD23EDDC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4AD-9C5D-4275-9190-077655D4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2BE-9115-4842-8688-851395E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7D0-6351-4603-B21A-73673CE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FF3-3C9C-4A06-ACDB-6AC013C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976F-B745-4C28-BEE0-12B5044517D6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A6F5-DEE0-4492-822C-C1A7A5D6EE2D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Verdana"/>
              </a:rPr>
              <a:t>Teorías de Aprendizaje y el Proceso de Evaluació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Proceso activo, individual y social en el que el aprendiz construye conocimientos a partir del establecimiento de relaciones significativas entre las nuevas informaciones y los conocimientos previ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es el establecimiento de relaciones entre los nuevos conocimientos y los conocimientos anteri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requiere la organización constante de conocimie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concierne tanto a los conocimientos teóricos como a las habilidades y estratég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centra en dos ejes: individual y colec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ve influido por los aspectos cognitivos como por los afec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ocurre en un contexto determinad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La enseñanza y 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fin último de todo proceso de enseñanza es el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está teñido –de manera explícita o implícita- de un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enfoque de aprendizaje</a:t>
            </a: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y sus componentes debe ser coherente con el enfoque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de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duct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gnosc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struct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Otr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duct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ser humano es un ser reactiv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Responde a los estímulos del medioambien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tivación controlada por refuerzos exterior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aprendizaje se produce por asociación estímulo-respuest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Por aproximaciones sucesiva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entrada en alcanzar los objetivos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dela el contenid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que privilegian la ejercitación y práctic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valuación restringi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gnosci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ser humano es un procesador de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produce por el establecimiento de interrelaciones entre la nueva información y el bagaje de conocimientos que se pose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ebe atribuir sentido a la información que incorpora al sistema cogn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urante el proceso aplica estratégias para el mejor procesamiento de la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didácticos que apoyan el proceso cognitivo de los estudiant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Uso de medios que “activen” procesos de selección, organización e incorporación de informació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Actividades evaluativas que involucren la aplicación y transferencia de los aprendizaj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struc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Ideas centra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realid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interacción human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conocimiento resulta de la experiencia persona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os conocimientos son válidos en la medida que sean socialmente aceptado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Importancia a las interacciones entre el aprendizaje y su mediambiente soc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Situaciones de aprendizaje tienen un carácter reflex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 evaluación privilegia la transferencia de aprendizaj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debe ser contextu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implica un proceso personal y colect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s situaciones de aprendizaje deben ser dinámic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profesor es un guía y facilitador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2:01:43Z</dcterms:created>
  <dc:creator>Pilar Barba</dc:creator>
  <dc:description/>
  <dc:language>en-US</dc:language>
  <cp:lastModifiedBy>Pilar Barba</cp:lastModifiedBy>
  <dcterms:modified xsi:type="dcterms:W3CDTF">2007-03-14T03:36:56Z</dcterms:modified>
  <cp:revision>10</cp:revision>
  <dc:subject/>
  <dc:title>Teorías de Aprendizaje y el Proceso de Evaluación</dc:title>
</cp:coreProperties>
</file>