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2EFE-AB70-4615-83D6-7F8DAE037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E5EF-1E51-45D8-8A39-ED8F5491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48DC-26E7-4504-B568-4CDA5A6D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1060-8D49-4098-9DCB-3FDB63F9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0241-17DC-46AB-8FB3-6D4005BB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228D-0DAB-4666-9429-791B5009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34C9-165F-4FEC-8026-9C89815F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CD74-A128-44AD-BED9-10169767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FE50-6317-4FEC-B0A0-79DFD88C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ABCE-8B4B-442F-9A2F-10E1982B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069B-927A-4C5E-85C1-D3516469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8309-3F0C-41A6-AC4F-F44AAAA0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BC40-A4ED-4C73-BAAE-77E824FA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44F5-D632-435D-98BA-5CC72B45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1994-2285-4650-A3B3-A32E583C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08E9-2E99-4DA7-93F8-DBB8459A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520D-1AF6-401F-B540-D86832939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04DB-B9C2-49CA-882B-30D620F4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CCD4-8E3C-47CF-99DE-F73F5811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F769-9090-4FC0-9F9C-A074E498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CAFE-EE74-43B1-B3F6-0C56D212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9D28-2E63-45DE-A5CB-6FF97EDF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7848-00A2-492A-B97E-93DC7945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16AB-6114-4DD0-8D4E-69578114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BDFD-0DA0-4807-A4A1-0CBE3C7E54DC}" type="slidenum">
              <a:rPr b="0" lang="es-E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9598-87F3-4732-8D02-A3EAE02DFC9D}" type="slidenum">
              <a:rPr b="0" lang="es-E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Verdana"/>
              </a:rPr>
              <a:t>Teorías de Aprendizaje y el Proceso de Evaluació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Hacia una conceptualización del aprendizaj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Proceso activo, individual y social en el que el aprendiz construye conocimientos a partir del establecimiento de relaciones significativas entre las nuevas informaciones y los conocimientos previ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El aprendizaje es el establecimiento de relaciones entre los nuevos conocimientos y los conocimientos anterior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El aprendizaje requiere la organización constante de conocimient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El aprendizaje concierne tanto a los conocimientos teóricos como a las habilidades y estratégia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Hacia una conceptualización del aprendizaj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Verdana"/>
              </a:rPr>
              <a:t>El aprendizaje se centra en dos ejes: individual y colectiv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Verdana"/>
              </a:rPr>
              <a:t>El aprendizaje se ve influido por los aspectos cognitivos como por los afectivo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Verdana"/>
              </a:rPr>
              <a:t>El aprendizaje ocurre en un contexto determinad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La enseñanza y el aprendizaj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El fin último de todo proceso de enseñanza es el </a:t>
            </a:r>
            <a:r>
              <a:rPr b="0" lang="es-CL" sz="3000" spc="-1" strike="noStrike">
                <a:solidFill>
                  <a:srgbClr val="666699"/>
                </a:solidFill>
                <a:latin typeface="Verdana"/>
              </a:rPr>
              <a:t>aprendizaje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Todo proceso de enseñanza-aprendizaje está teñido –de manera explícita o implícita- de un </a:t>
            </a:r>
            <a:r>
              <a:rPr b="0" lang="es-CL" sz="3000" spc="-1" strike="noStrike">
                <a:solidFill>
                  <a:srgbClr val="666699"/>
                </a:solidFill>
                <a:latin typeface="Verdana"/>
              </a:rPr>
              <a:t>enfoque de aprendizaje</a:t>
            </a: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Todo proceso de enseñanza-aprendizaje y sus componentes debe ser coherente con el enfoque de aprendizaje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Enfoques de Aprendizaj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Conductista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Cognoscivista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Constructivista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Otro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Enfoques Conductista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El ser humano es un ser reactiv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Responde a los estímulos del medioambient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Motivación controlada por refuerzos exteriores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El aprendizaje se produce por asociación estímulo-respuesta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Por aproximaciones sucesivas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Implicancias para la enseñanza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Centrada en alcanzar los objetivos de aprendizaje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Modela el contenido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Métodos que privilegian la ejercitación y práctica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Evaluación restringida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Enfoques Cognoscitivista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Verdana"/>
              </a:rPr>
              <a:t>El ser humano es un procesador de información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Verdana"/>
              </a:rPr>
              <a:t>El aprendizaje se produce por el establecimiento de interrelaciones entre la nueva información y el bagaje de conocimientos que se pose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Verdana"/>
              </a:rPr>
              <a:t>El aprendiz debe atribuir sentido a la información que incorpora al sistema cognitiv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Verdana"/>
              </a:rPr>
              <a:t>El aprendiz durante el proceso aplica estratégias para el mejor procesamiento de la información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Implicancias para la enseñanza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Métodos didácticos que apoyan el proceso cognitivo de los estudiantes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Uso de medios que “activen” procesos de selección, organización e incorporación de información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Actividades evaluativas que involucren la aplicación y transferencia de los aprendizaj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Enfoques Constructivista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Ideas central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La naturaleza de la realida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La naturaleza de la interacción human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El conocimiento resulta de la experiencia personal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Los conocimientos son válidos en la medida que sean socialmente aceptados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Implicancias para la enseñanza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Importancia a las interacciones entre el aprendizaje y su mediambiente social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Situaciones de aprendizaje tienen un carácter reflexiv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La evaluación privilegia la transferencia de aprendizaj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El aprendizaje debe ser contextual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El aprendizaje implica un proceso personal y colectiv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Las situaciones de aprendizaje deben ser dinámica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El profesor es un guía y facilitador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2T22:01:43Z</dcterms:created>
  <dc:creator>Pilar Barba</dc:creator>
  <dc:description/>
  <dc:language>en-US</dc:language>
  <cp:lastModifiedBy>Pilar Barba</cp:lastModifiedBy>
  <dcterms:modified xsi:type="dcterms:W3CDTF">2007-03-14T03:36:56Z</dcterms:modified>
  <cp:revision>10</cp:revision>
  <dc:subject/>
  <dc:title>Teorías de Aprendizaje y el Proceso de Evaluación</dc:title>
</cp:coreProperties>
</file>