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131-5F41-48D6-86A6-28040F8A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838-3E53-49E2-8863-E32CFC8D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05D-EDF3-4545-8A87-8F8FE57A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707-74CD-42FD-9B77-471ED060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652F-D763-4170-984D-D2D29C59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B452-02A7-4562-8538-4604718B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2FB5-5512-4421-9112-82B22EA9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DF26-8FFF-4B2E-B63F-BEC10FE0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0EA3-8168-48BC-8ABB-ABAA088E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71FC-3FA4-45B9-9A6E-6FC47328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4BB5-847C-4127-97C8-8285B7B6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F34-4615-4751-9871-801608A1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77B4-8B4E-4D8B-83C6-2BB9A3B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FA4D-974E-4D4B-876B-56C7129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8D4F-CC83-46CA-91A6-074E94F6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147D-AB2C-403F-81A3-530B98EA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D158-DA1C-4921-B4AB-29130882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C4C-D85F-4097-A3D1-3F86EF40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288-85F9-47BB-9895-35363BC5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C54-7564-4143-99D2-D682C8D5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B1B-AFD1-4841-85A0-43D3DA2F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CF3-9759-455B-995F-F9FA448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28D-E38E-425A-877E-6E44B54B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562-5A7A-48B2-AD9F-489F4F84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D31C-54FD-46D5-875C-7A638099E77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679F-5BD9-498C-97B5-C8F311DB069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LASE 3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21/03/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aceptación por la ciencia de una ley o de una teoría es sol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tentativa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es decir no a priori valederas y confirmables (verificables), sin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falsable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Luego los datos observacionales pueden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deductivamant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refutar una teorí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Cómo son posibles las hipótesis entonce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oda teoría (hipótesis) es un salto. Toda teoría tiene como fundamento otra teoría, creencia o mito previo, y no la observ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pregunta sobre la fuente del conocimiento es inútil para la producción de teoría científic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4. Está todo dic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saltamos de un enunciado observacional a una teorí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salto no se produce a partir de un enunciado observacional, sino a partir de una situación-problema, y que la teoría debe permitirnos explicar las observaciones que originaron el problema (deducirlas de la teoría). Pág.8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5. Recapitulemos (problemas original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distinguir entre ciencia y magia primi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acionalidad del procedimiento científico o crítico y el papel de la observación dentro de és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racionalidad de nuestra aceptación de teorí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6. Para reflexiona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e en la ci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o estudiamos temas, sino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563400"/>
            <a:ext cx="8001000" cy="9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Raimund Popper</a:t>
            </a:r>
            <a:br>
              <a:rPr sz="3800"/>
            </a:b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Viena, 1902-199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360" y="1541520"/>
            <a:ext cx="56516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Qué es la cienci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niño que hace esta pregun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filósofo que nos interpela de igual for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ómo lo sab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n qué se basa para afirmar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ex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Lógica de la investigación científica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.(193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Conjeturas y refutaciones. El desarrollo del conocimiento científico.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(1963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idós Básica. 1994. Barcelo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s artícul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Sobre las fuentes del conocimiento y de la ignorancia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SFCI) págs.23-5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La ciencia: conjeturas y refutaciones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LCCR) págs. 57-9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asunto de la ver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ctrina de la verdad manifiesta y del pecado de la ignora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timismo y pesimismo epistemológ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ortación liberal del conocimiento:”El hombre puede conocer, por lo tanto, puede ser lib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método para el conocimiento verdadero (Bacon, 1561-1626): </a:t>
            </a: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interpretatio naturae – antipatio ment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2. El problema de la demarcación entre ciencia y pseudoci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 la enorme capacidad explicativa de la pseudoci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bilidad de las ciencias duras para con el fracaso de sus predi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l método de la verificabil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onclusiones (pág. 61): La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refutabilidad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de una teoría, o sea la capacidad de ser testeada y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falsada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, es lo que hace auténticamente científica a una teorí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inducción es la inferencia de una ley general, desde lo particular de los casos experimentados y las observ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deducción, inferencia de lo particular a partir de lo gen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omen papel y lápiz, observen cuidadosamente y escriban lo que han observad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inducción... es un mito. No es un hecho psicológico, ni un hecho de la vida cotidiana, ni un procedimiento científ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procedimiento real de la ciencia consiste en trabajar con conjeturas: en saltar a conclusiones, a menudo después de una sola observ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s observaciones y experimentos repetidos funcionan en la ciencia como test de nuestras conjeturas o hipótesis, es decir, como intentos de refu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errónea creencia en la inducción se fortifica por la necesidad de un criterio de demarcación que, según se cree tradicional pero erróneamente, sólo lo puede suministrar el método induc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concepción de este método inductivo, como el criterio de verificabilidad, supone una demarcación defectuo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ada de lo anterior cambia lo más mínimo con afirmar que la inducción no hace seguras a las teorías, sino sólo prob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3-21T03:22:01Z</dcterms:modified>
  <cp:revision>11</cp:revision>
  <dc:subject/>
  <dc:title>TEORIA DE LA ARQUITECTURA I</dc:title>
</cp:coreProperties>
</file>