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107-D83E-492D-A389-1AD01318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ADB-F218-481D-AA9E-CDB54D3A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322-6657-4EF2-B7D8-9715DFF5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20F-6033-4770-9872-8283259F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8DE8-0ED2-44EA-B192-97F956A1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8D17-88D3-443E-BC99-7375BB8F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C7DC-2472-4A88-B760-8BD2C965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B263-B9B4-4B31-9D50-5645C615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52EB-5EE5-44FD-8A9A-AC769BA8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C275-C220-40A1-A36A-645AAA9C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5AA7-6A1F-420E-B70B-7DD25DDF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514-C4C4-4D8B-91FA-C095CBC5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E288-A418-4892-BA3C-08DC760F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5B52-471D-4029-8FBB-CDE11588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8AC1-5AB8-4472-A4E4-180C1C5C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9D07-16B9-458A-99D1-5B88A192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3F0A-1003-43E9-9DEE-94681ADE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307-3753-4A5D-AB4B-085BACF8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1D3-2591-44B9-A4DB-75115B5B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5E5-0937-45E8-80F4-231C9649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209-E7D1-48C5-B56C-62B5ECB4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DA7-BAAB-41E6-9DC8-43B03076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87F-6A8F-46AF-999C-99347A28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DF6-9BDB-4E11-9D95-398D3FA0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1A71-33D4-4BAA-A11E-ED2431E0C12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CCFC-7515-426E-AC8F-F28D84A176B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CLASE 3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21/03/0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ROFESORA: PILAR BAR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YUDANTE: CRISTIAN RA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 (conclusiones de Popp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La aceptación por la ciencia de una ley o de una teoría es solo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Verdana"/>
              </a:rPr>
              <a:t>tentativa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, es decir no a priori valederas y confirmables (verificables), sino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Verdana"/>
              </a:rPr>
              <a:t>falsables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. Luego los datos observacionales pueden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Verdana"/>
              </a:rPr>
              <a:t>deductivamante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refutar una teorí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Cómo son posibles las hipótesis entonce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Toda teoría (hipótesis) es un salto. Toda teoría tiene como fundamento otra teoría, creencia o mito previo, y no la observ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La pregunta sobre la fuente del conocimiento es inútil para la producción de teoría científic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975960"/>
            <a:ext cx="8001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4. Está todo dich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ómo saltamos de un enunciado observacional a una teorí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l salto no se produce a partir de un enunciado observacional, sino a partir de una situación-problema, y que la teoría debe permitirnos explicar las observaciones que originaron el problema (deducirlas de la teoría). Pág.8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975960"/>
            <a:ext cx="8001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5. Recapitulemos (problemas original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ómo distinguir entre ciencia y magia primi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acionalidad del procedimiento científico o crítico y el papel de la observación dentro de és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racionalidad de nuestra aceptación de teorí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6. Para reflexiona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Fe en la ci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No estudiamos temas, sino probl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563400"/>
            <a:ext cx="8001000" cy="9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Karl Raimund Popper</a:t>
            </a:r>
            <a:br>
              <a:rPr sz="3800"/>
            </a:b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Viena, 1902-1994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92360" y="1541520"/>
            <a:ext cx="565164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Qué es la ciencia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Qué responder a un niño que hace esta pregun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Qué responder a un filósofo que nos interpela de igual for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ómo lo sab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n qué se basa para afirmarl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ex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Lógica de la investigación científica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.(1935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Conjeturas y refutaciones. El desarrollo del conocimiento científico.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 (1963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Paidós Básica. 1994. Barcelo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os artícul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Sobre las fuentes del conocimiento y de la ignorancia. 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(SFCI) págs.23-5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La ciencia: conjeturas y refutaciones. 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(LCCR) págs. 57-9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asunto de la ver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octrina de la verdad manifiesta y del pecado de la ignora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ptimismo y pesimismo epistemológ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xortación liberal del conocimiento:”El hombre puede conocer, por lo tanto, puede ser libre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l método para el conocimiento verdadero (Bacon, 1561-1626): </a:t>
            </a: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interpretatio naturae – antipatio ment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2. El problema de la demarcación entre ciencia y pseudoci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bjeción de Popper a la enorme capacidad explicativa de la pseudocie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ebilidad de las ciencias duras para con el fracaso de sus predic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bjeción de Popper al método de la verificabilida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onclusiones (pág. 61): La </a:t>
            </a: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refutabilidad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 de una teoría, o sea la capacidad de ser testeada y </a:t>
            </a: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falsada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, es lo que hace auténticamente científica a una teorí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975960"/>
            <a:ext cx="8001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a inducción es la inferencia de una ley general, desde lo particular de los casos experimentados y las observacio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a deducción, inferencia de lo particular a partir de lo gener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Tomen papel y lápiz, observen cuidadosamente y escriban lo que han observado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 (conclusiones de Popp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inducción... es un mito. No es un hecho psicológico, ni un hecho de la vida cotidiana, ni un procedimiento científic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l procedimiento real de la ciencia consiste en trabajar con conjeturas: en saltar a conclusiones, a menudo después de una sola observ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s observaciones y experimentos repetidos funcionan en la ciencia como test de nuestras conjeturas o hipótesis, es decir, como intentos de refut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 (conclusiones de Popp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errónea creencia en la inducción se fortifica por la necesidad de un criterio de demarcación que, según se cree tradicional pero erróneamente, sólo lo puede suministrar el método inductiv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concepción de este método inductivo, como el criterio de verificabilidad, supone una demarcación defectuos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Nada de lo anterior cambia lo más mínimo con afirmar que la inducción no hace seguras a las teorías, sino sólo prob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Pilar Barba</cp:lastModifiedBy>
  <dcterms:modified xsi:type="dcterms:W3CDTF">2007-03-21T03:22:01Z</dcterms:modified>
  <cp:revision>11</cp:revision>
  <dc:subject/>
  <dc:title>TEORIA DE LA ARQUITECTURA I</dc:title>
</cp:coreProperties>
</file>