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D95-FDC9-4C1B-9DE9-B1D31067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9CBB-1D92-4208-B9A4-04DA2D85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C79-9B53-46C3-BD9A-BB8F6B2E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367-99BA-4454-BB76-BF43BC09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C379-0EA4-4DFD-AF39-6E60F549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6F6C-C542-4650-9BB7-A8597B5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C43C-6524-4E5A-97CC-E712DB51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8027-B076-4F7A-8FF0-363B6A3A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3C04-CBE2-4E68-9E9B-F005A193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E0E0-0BB0-458F-887F-514A4306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DF2D-5943-41D7-B4A0-6C45D08D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A4E-EF0F-4A04-A4A5-EE449ED5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6597-8595-41E6-81F0-73B5A7B4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5B72-9B62-4A10-94EC-1D665CA6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EE69-A539-450D-98DA-2B22C108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CA80-76AD-4A92-ACA6-8C7CB056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BC97-CAEB-4100-B84C-5DA3D014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B57-6802-4B48-84C2-0FE41610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1BC-89C4-4749-B249-C0C5B89F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1E3-1389-42FF-97DA-766E3C3E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9E0-93E3-4252-BC9B-312FEFD9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43E8-DC00-49B5-993A-57C4E3ED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91DC-CBA0-4BBB-8445-7A452B01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69BF-E2EE-4947-8123-6B437E19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8699-FC16-4FAC-A9AD-1E901655608D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87E5-47A3-415A-8282-30A4999FE0D8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LASE 3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21/03/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aceptación por la ciencia de una ley o de una teoría es sol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tentativa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es decir no a priori valederas y confirmables (verificables), sin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falsable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Luego los datos observacionales pueden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deductivamant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refutar una teorí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Cómo son posibles las hipótesis entonce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oda teoría (hipótesis) es un salto. Toda teoría tiene como fundamento otra teoría, creencia o mito previo, y no la observ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pregunta sobre la fuente del conocimiento es inútil para la producción de teoría científic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4. Está todo dic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saltamos de un enunciado observacional a una teorí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salto no se produce a partir de un enunciado observacional, sino a partir de una situación-problema, y que la teoría debe permitirnos explicar las observaciones que originaron el problema (deducirlas de la teoría). Pág.8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5. Recapitulemos (problemas original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distinguir entre ciencia y magia primi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acionalidad del procedimiento científico o crítico y el papel de la observación dentro de és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racionalidad de nuestra aceptación de teorí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6. Para reflexiona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e en la ci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o estudiamos temas, sino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563400"/>
            <a:ext cx="8001000" cy="9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Raimund Popper</a:t>
            </a:r>
            <a:br>
              <a:rPr sz="3800"/>
            </a:b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Viena, 1902-199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360" y="1541520"/>
            <a:ext cx="56516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Qué es la cienci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niño que hace esta pregun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filósofo que nos interpela de igual for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ómo lo sab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n qué se basa para afirmar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ex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Lógica de la investigación científica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.(1935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Conjeturas y refutaciones. El desarrollo del conocimiento científico.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(1963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idós Básica. 1994. Barcelo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s artícul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Sobre las fuentes del conocimiento y de la ignorancia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SFCI) págs.23-5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La ciencia: conjeturas y refutaciones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LCCR) págs. 57-9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asunto de la ver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ctrina de la verdad manifiesta y del pecado de la ignora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timismo y pesimismo epistemológ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ortación liberal del conocimiento:”El hombre puede conocer, por lo tanto, puede ser lib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método para el conocimiento verdadero (Bacon, 1561-1626): </a:t>
            </a: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interpretatio naturae – antipatio ment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2. El problema de la demarcación entre ciencia y pseudoci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 la enorme capacidad explicativa de la pseudoci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bilidad de las ciencias duras para con el fracaso de sus predi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l método de la verificabil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onclusiones (pág. 61): La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refutabilidad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de una teoría, o sea la capacidad de ser testeada y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falsada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, es lo que hace auténticamente científica a una teorí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inducción es la inferencia de una ley general, desde lo particular de los casos experimentados y las observacio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a deducción, inferencia de lo particular a partir de lo gener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omen papel y lápiz, observen cuidadosamente y escriban lo que han observado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inducción... es un mito. No es un hecho psicológico, ni un hecho de la vida cotidiana, ni un procedimiento científ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procedimiento real de la ciencia consiste en trabajar con conjeturas: en saltar a conclusiones, a menudo después de una sola observ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s observaciones y experimentos repetidos funcionan en la ciencia como test de nuestras conjeturas o hipótesis, es decir, como intentos de refu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errónea creencia en la inducción se fortifica por la necesidad de un criterio de demarcación que, según se cree tradicional pero erróneamente, sólo lo puede suministrar el método induc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concepción de este método inductivo, como el criterio de verificabilidad, supone una demarcación defectuo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ada de lo anterior cambia lo más mínimo con afirmar que la inducción no hace seguras a las teorías, sino sólo prob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3-21T03:22:01Z</dcterms:modified>
  <cp:revision>11</cp:revision>
  <dc:subject/>
  <dc:title>TEORIA DE LA ARQUITECTURA I</dc:title>
</cp:coreProperties>
</file>