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10511-BF30-41B7-97D4-FDCD85F16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0E556-2AB0-494B-8209-CD1413CC8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6902D-8857-4887-B926-422E93A2B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A2854-BFE2-4110-96CE-4FB7A8F11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41BAC0-D668-49DD-BF49-270931B09B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6E711-A844-42FC-B805-AC0F2B437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91435-DFCE-4449-8253-68F75C19B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9C7F6-2CFA-4342-9175-1EBC95F0E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5DBEE-4033-4316-9297-9816F9D2C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407E4-2B32-456F-BD96-6DF9FAFC7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49B39-C139-4AFA-8F95-54F9552E0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F7F2D-532F-43E7-8EFF-4B412E333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8B69D-40A8-4800-B183-E52AC6DDF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53C0E-563E-40F2-9DAE-D464334BD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900FB-0F3F-4196-A42F-CDC146D9E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B2B0B2-04DD-4BAD-A564-2097F53ACD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E7B15E-142A-45D0-A327-88E503DD8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7C4E0-67F9-452C-8B86-903237D4B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612E7-4E66-4416-B2D7-AADBF5D34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A2927-DAC8-4869-8E13-317559D1D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3FEB3-D739-4E15-BDC9-DBBD30BF2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E49D2-1509-4629-B0D3-FF7681D72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9334F-5666-473C-A9B9-D493E829E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502E0-9D9B-4C9A-9D00-70324C61F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3E69E-5106-4FDF-A7B3-8C78538CF371}"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99F00-0D1F-4531-AEC1-E113D719E609}"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ORIA DE LA ARQUITECTURA I</a:t>
            </a:r>
            <a:br>
              <a:rPr sz="3200"/>
            </a:br>
            <a:endParaRPr b="0" lang="en-US" sz="32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I.- EL CAMPO DE LA TEORI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1.</a:t>
            </a:r>
            <a:r>
              <a:rPr b="0" lang="es-CL" sz="3800" spc="-1" strike="noStrike">
                <a:solidFill>
                  <a:srgbClr val="000000"/>
                </a:solidFill>
                <a:latin typeface="Verdana"/>
              </a:rPr>
              <a:t> </a:t>
            </a:r>
            <a:r>
              <a:rPr b="0" lang="es-CL" sz="3000" spc="-1" strike="noStrike">
                <a:solidFill>
                  <a:srgbClr val="000000"/>
                </a:solidFill>
                <a:latin typeface="Verdana"/>
              </a:rPr>
              <a:t>TRATANDO DE DEFINIR TEORIA</a:t>
            </a:r>
            <a:endParaRPr b="0" lang="en-US" sz="3000" spc="-1" strike="noStrike">
              <a:solidFill>
                <a:srgbClr val="000000"/>
              </a:solidFill>
              <a:latin typeface="Verdana"/>
            </a:endParaRPr>
          </a:p>
        </p:txBody>
      </p:sp>
      <p:sp>
        <p:nvSpPr>
          <p:cNvPr id="88"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lgn="just">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quel efecto de la CONSTRUCCIÓN DE IDEAS en el lenguaje que nos otorga la posibilidad de hablar sobre algo</a:t>
            </a:r>
            <a:endParaRPr b="0" lang="en-US" sz="2400" spc="-1" strike="noStrike">
              <a:solidFill>
                <a:srgbClr val="000000"/>
              </a:solidFill>
              <a:latin typeface="Verdana"/>
            </a:endParaRPr>
          </a:p>
          <a:p>
            <a:pPr marL="469800" indent="0" algn="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Programa del curso Teoría I</a:t>
            </a:r>
            <a:endParaRPr b="0" lang="en-US" sz="1700" spc="-1" strike="noStrike">
              <a:solidFill>
                <a:srgbClr val="000000"/>
              </a:solidFill>
              <a:latin typeface="Verdana"/>
            </a:endParaRPr>
          </a:p>
          <a:p>
            <a:pPr marL="469800" indent="0" algn="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 menudo se designa como teoría a la idea que anticipa a la acción, y que es en esta acción donde la “teoría” se confirma, esto se refiere a un proceso lineal y convergente en que ambos polos están separados</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2.</a:t>
            </a:r>
            <a:r>
              <a:rPr b="0" lang="es-CL" sz="3800" spc="-1" strike="noStrike">
                <a:solidFill>
                  <a:srgbClr val="000000"/>
                </a:solidFill>
                <a:latin typeface="Verdana"/>
              </a:rPr>
              <a:t> </a:t>
            </a:r>
            <a:r>
              <a:rPr b="0" lang="es-CL" sz="3000" spc="-1" strike="noStrike">
                <a:solidFill>
                  <a:srgbClr val="000000"/>
                </a:solidFill>
                <a:latin typeface="Verdana"/>
              </a:rPr>
              <a:t>CONCEPTOS DE TEORIA</a:t>
            </a:r>
            <a:endParaRPr b="0" lang="en-US" sz="3000" spc="-1" strike="noStrike">
              <a:solidFill>
                <a:srgbClr val="000000"/>
              </a:solidFill>
              <a:latin typeface="Verdana"/>
            </a:endParaRPr>
          </a:p>
        </p:txBody>
      </p:sp>
      <p:sp>
        <p:nvSpPr>
          <p:cNvPr id="90"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TEORIA COMO FILOSOFIA</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Es la exposición y meditación serena acerca de la naturaleza de la actividad, se usa en consonancia de “un pensar finalizado en sí mismo”, un “pensar por pensar y no para actuar”, una Teoría distanciada</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TEORIA COMO TRADICION</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Es la sedimentación de principios o normas para el ejercicio de la actividad, estos “Principios” o criterios operativos basados en la experiencia forman un compedio que tambien se suele llamar Teoría</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TEORIA COMO ARGUMENTACION</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Dirigida a la justificación o explicación de un determinado modo de proyectar o construir</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3. DISTANCIA ENTRE TEORIA Y PRACTICA</a:t>
            </a:r>
            <a:endParaRPr b="0" lang="en-US" sz="2800" spc="-1" strike="noStrike">
              <a:solidFill>
                <a:srgbClr val="000000"/>
              </a:solidFill>
              <a:latin typeface="Verdana"/>
            </a:endParaRPr>
          </a:p>
        </p:txBody>
      </p:sp>
      <p:sp>
        <p:nvSpPr>
          <p:cNvPr id="92"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Hemos creado un problema al separar Teoría y Práctica, en el sistema clásico de pensamiento, la Teoría constituiría un “Marco de Referencia”, externo, distante y anterior a la práctica.</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ara acceder a un concepto de Teoría que incluya aquellos procesos no lineales, divergentes, como en ele caso del proyecto de Arquitectura debemos </a:t>
            </a:r>
            <a:r>
              <a:rPr b="0" i="1" lang="es-ES_tradnl" sz="1700" spc="-1" strike="noStrike">
                <a:solidFill>
                  <a:srgbClr val="000000"/>
                </a:solidFill>
                <a:latin typeface="Verdana"/>
              </a:rPr>
              <a:t>salvar</a:t>
            </a:r>
            <a:r>
              <a:rPr b="0" lang="es-ES_tradnl" sz="1800" spc="-1" strike="noStrike">
                <a:solidFill>
                  <a:srgbClr val="000000"/>
                </a:solidFill>
                <a:latin typeface="Verdana"/>
              </a:rPr>
              <a:t> esta distancia.</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gn="just">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A PRAXIS</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A fines del siglo XIX el espíritu moderno desafía esta actitud de la Teoría distante, por un pensar con otra vocación que anule esta distancia. Karl Marx en 1898 y, más tarde, los filósofos de la Escuela de Frankfurt construyen el concepto de </a:t>
            </a:r>
            <a:r>
              <a:rPr b="1" lang="es-ES_tradnl" sz="1800" spc="-1" strike="noStrike">
                <a:solidFill>
                  <a:srgbClr val="000000"/>
                </a:solidFill>
                <a:latin typeface="Verdana"/>
              </a:rPr>
              <a:t>PRAXIS</a:t>
            </a:r>
            <a:r>
              <a:rPr b="0" lang="es-ES_tradnl" sz="1800" spc="-1" strike="noStrike">
                <a:solidFill>
                  <a:srgbClr val="000000"/>
                </a:solidFill>
                <a:latin typeface="Verdana"/>
              </a:rPr>
              <a:t>, entendiéndola como una Teoría con incidencia en la Historia, con intersección real con el devenir de los acontecimientos.</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4. TEORIA-PRACTICA-PRAXIS</a:t>
            </a:r>
            <a:endParaRPr b="0" lang="en-US" sz="2800" spc="-1" strike="noStrike">
              <a:solidFill>
                <a:srgbClr val="000000"/>
              </a:solidFill>
              <a:latin typeface="Verdana"/>
            </a:endParaRPr>
          </a:p>
        </p:txBody>
      </p:sp>
      <p:sp>
        <p:nvSpPr>
          <p:cNvPr id="94"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endParaRPr b="0" lang="en-US" sz="2400" spc="-1" strike="noStrike">
              <a:solidFill>
                <a:srgbClr val="000000"/>
              </a:solidFill>
              <a:latin typeface="Verdana"/>
            </a:endParaRPr>
          </a:p>
          <a:p>
            <a:pPr marL="469800" indent="-469800" algn="just">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PRAXIS COMO PUENTE</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Manejando el concepto de PRAXIS, entendiéndola como el momento simultáneo y de articulación entre Teoría y Práctica, en términos simples de teorizar constante y continuamente en cada momento que efectuamos una práctica, podemos llegar a integrar estos conceptos que parecía separados.</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5. FORMALIZACION DE LA TEORIA</a:t>
            </a:r>
            <a:endParaRPr b="0" lang="en-US" sz="2800" spc="-1" strike="noStrike">
              <a:solidFill>
                <a:srgbClr val="000000"/>
              </a:solidFill>
              <a:latin typeface="Verdana"/>
            </a:endParaRPr>
          </a:p>
        </p:txBody>
      </p:sp>
      <p:sp>
        <p:nvSpPr>
          <p:cNvPr id="96"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endParaRPr b="0" lang="en-US" sz="2400" spc="-1" strike="noStrike">
              <a:solidFill>
                <a:srgbClr val="000000"/>
              </a:solidFill>
              <a:latin typeface="Verdana"/>
            </a:endParaRPr>
          </a:p>
          <a:p>
            <a:pPr marL="469800" indent="-469800" algn="just">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construcción de un discurso debería formalizarse de alguna manera, es decir, para que sea materia de conocimiento ha de registrarse de algún modo. Es el texto teórico el que da cuenta de este pensar.</a:t>
            </a:r>
            <a:endParaRPr b="0" lang="en-US" sz="2400" spc="-1" strike="noStrike">
              <a:solidFill>
                <a:srgbClr val="000000"/>
              </a:solidFill>
              <a:latin typeface="Verdana"/>
            </a:endParaRPr>
          </a:p>
          <a:p>
            <a:pPr marL="469800" indent="-469800" algn="just">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 través del tiempo, para la Arquitectura y las Artes, estos textos han tomado la forma Tratados, Manifiestos y Ensayos. En ellos se relacionan, se rozan, a veces se funden, la Teoría, la Historia y la Crítica.</a:t>
            </a:r>
            <a:endParaRPr b="0" lang="en-US" sz="2400" spc="-1" strike="noStrike">
              <a:solidFill>
                <a:srgbClr val="000000"/>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563400"/>
            <a:ext cx="8001000" cy="95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6. EL TRATADO COMO FUENTE TEORICA</a:t>
            </a:r>
            <a:endParaRPr b="0" lang="en-US" sz="2800" spc="-1" strike="noStrike">
              <a:solidFill>
                <a:srgbClr val="000000"/>
              </a:solidFill>
              <a:latin typeface="Verdana"/>
            </a:endParaRPr>
          </a:p>
        </p:txBody>
      </p:sp>
      <p:sp>
        <p:nvSpPr>
          <p:cNvPr id="98" name=""/>
          <p:cNvSpPr/>
          <p:nvPr/>
        </p:nvSpPr>
        <p:spPr>
          <a:xfrm>
            <a:off x="684360" y="1735200"/>
            <a:ext cx="7991280" cy="38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Verdana"/>
              </a:rPr>
              <a:t>-¿Qué es un Tratado?</a:t>
            </a:r>
            <a:endParaRPr b="0" lang="en-US" sz="2400" spc="-1" strike="noStrike">
              <a:solidFill>
                <a:srgbClr val="000000"/>
              </a:solidFill>
              <a:latin typeface="Arial"/>
            </a:endParaRPr>
          </a:p>
          <a:p>
            <a:pPr algn="just">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Género literario perteneciente a la didáctica, que consiste en la exposición integral, objetiva y ordenada de conocimientos sobre una cuestión o tema concreto; para ello adopta una estructura en progresivas subdivisiones denominadas apartad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Verdana"/>
              </a:rPr>
              <a:t>-¿Qué es un Ensay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Género literario de indagación libre y creativa, no exhaustiva ni especializada, sin un carácter rigurosamente sistemático. El Ensayo intenta hilvanar razonamientos y comparaciones inédit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563400"/>
            <a:ext cx="8001000" cy="95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6. EL TRATADO COMO FUENTE TEORICA</a:t>
            </a:r>
            <a:endParaRPr b="0" lang="en-US" sz="2800" spc="-1" strike="noStrike">
              <a:solidFill>
                <a:srgbClr val="000000"/>
              </a:solidFill>
              <a:latin typeface="Verdana"/>
            </a:endParaRPr>
          </a:p>
        </p:txBody>
      </p:sp>
      <p:sp>
        <p:nvSpPr>
          <p:cNvPr id="100" name=""/>
          <p:cNvSpPr/>
          <p:nvPr/>
        </p:nvSpPr>
        <p:spPr>
          <a:xfrm>
            <a:off x="684360" y="1735200"/>
            <a:ext cx="7991280" cy="221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lantea preguntas, es una reflexión abierta e inacabada que parte de la duda y esto le permite una concepción multidisciplinar del conocimien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Verdana"/>
              </a:rPr>
              <a:t>-¿Qué es un Manifiesto?</a:t>
            </a:r>
            <a:endParaRPr b="0" lang="en-US" sz="2400" spc="-1" strike="noStrike">
              <a:solidFill>
                <a:srgbClr val="000000"/>
              </a:solidFill>
              <a:latin typeface="Arial"/>
            </a:endParaRPr>
          </a:p>
          <a:p>
            <a:pPr algn="just">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 una declaración pública de principios e intenciones, a menudo de naturaleza polí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563400"/>
            <a:ext cx="8001000" cy="957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7. TEORIA-HISTORIA-CRITICA</a:t>
            </a:r>
            <a:endParaRPr b="0" lang="en-US" sz="2800" spc="-1" strike="noStrike">
              <a:solidFill>
                <a:srgbClr val="000000"/>
              </a:solidFill>
              <a:latin typeface="Verdana"/>
            </a:endParaRPr>
          </a:p>
        </p:txBody>
      </p:sp>
      <p:sp>
        <p:nvSpPr>
          <p:cNvPr id="102" name=""/>
          <p:cNvSpPr/>
          <p:nvPr/>
        </p:nvSpPr>
        <p:spPr>
          <a:xfrm>
            <a:off x="684360" y="1735200"/>
            <a:ext cx="79912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crítica comporta un juicio estético. Dicho juicio consiste en una valoración individual de la obra arquitectónica que el crítico realiza a partir de los conocimientos de que dispone, de la metodología que usa, su capacidad analítica y sintética y también su sensibilidad, intuición y gus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actividad del crítico se dirige a comprender la obra para explicar al público su contenido…La crítica se sitúa…entre dos extremos: el exceso racionalista y metodológico…y el exceso irracionalista y arbitrario…lejos de ambos límites absurdos se sitúa el campo de la interpreta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Josep María Montan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t>
            </a:r>
            <a:r>
              <a:rPr b="0" lang="es-ES_tradnl" sz="2000" spc="-1" strike="noStrike">
                <a:solidFill>
                  <a:srgbClr val="000000"/>
                </a:solidFill>
                <a:latin typeface="Verdana"/>
              </a:rPr>
              <a:t>Crít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3:28:31Z</dcterms:created>
  <dc:creator>Pilar Barba</dc:creator>
  <dc:description/>
  <dc:language>en-US</dc:language>
  <cp:lastModifiedBy>Pilar Barba</cp:lastModifiedBy>
  <dcterms:modified xsi:type="dcterms:W3CDTF">2007-03-14T03:52:51Z</dcterms:modified>
  <cp:revision>29</cp:revision>
  <dc:subject/>
  <dc:title>TEORIA DE LA ARQUITECTURA I</dc:title>
</cp:coreProperties>
</file>