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EFADF-6A97-4DD7-B98A-259F1BC4E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41125-4658-4578-8409-6F4F5C51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00C1E-83C0-43CA-ABCC-85223CF82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E621E-C37C-4947-8016-4686BF5A0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0585A-D3E2-4859-859A-D682499E7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ABA13-FCD7-4D29-876C-4A0F6368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DC81A-BAA2-420B-89B8-209CECE68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30005-910E-488D-B0C0-6EA4FB0D3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7B692-8600-4BC1-875B-575493365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D3125-7D7D-499C-AF0D-DB9CD4F30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B2A42-CE2E-482A-A4B8-E5D6A0F8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97750-796D-49F1-BF00-8BEC92BC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2C0BD-1636-41A9-A4BF-31F90B6A7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92575-28F7-41AD-8620-72B739FC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1538D-A0FE-44F8-9473-E0ACCC82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342D3-FA2F-4E6E-BBCB-731EB5EDC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30D15-189D-48A3-BEDA-E8A02A91F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380E-5060-4B06-88CB-28159A6C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4D55-E21D-4971-A94C-A3016429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85B6-D9E8-4F0F-8606-3F133E21F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2CD8C-E738-48F7-BC6C-C89AA180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49C0-C7F7-47F5-809F-C304D4F9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4DCD-C258-42F6-BC5A-3B4A4F18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9D14-EE0E-4B1F-A729-889FF5446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6388-E344-4966-99BE-C8F25129D62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BEAD-A460-45B9-A0B2-FB7AB0DDD334}"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endParaRPr b="0" lang="en-US" sz="32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 EL CAMPO DE LA TEOR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TRATANDO DE DEFINIR TEORIA</a:t>
            </a:r>
            <a:endParaRPr b="0" lang="en-US" sz="3000" spc="-1" strike="noStrike">
              <a:solidFill>
                <a:srgbClr val="000000"/>
              </a:solidFill>
              <a:latin typeface="Verdana"/>
            </a:endParaRPr>
          </a:p>
        </p:txBody>
      </p:sp>
      <p:sp>
        <p:nvSpPr>
          <p:cNvPr id="8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quel efecto de la CONSTRUCCIÓN DE IDEAS en el lenguaje que nos otorga la posibilidad de hablar sobre algo</a:t>
            </a:r>
            <a:endParaRPr b="0" lang="en-US" sz="24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grama del curso Teoría I</a:t>
            </a:r>
            <a:endParaRPr b="0" lang="en-US" sz="17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menudo se designa como teoría a la idea que anticipa a la acción, y que es en esta acción donde la “teoría” se confirma, esto se refiere a un proceso lineal y convergente en que ambos polos están separa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a:t>
            </a:r>
            <a:r>
              <a:rPr b="0" lang="es-CL" sz="3800" spc="-1" strike="noStrike">
                <a:solidFill>
                  <a:srgbClr val="000000"/>
                </a:solidFill>
                <a:latin typeface="Verdana"/>
              </a:rPr>
              <a:t> </a:t>
            </a:r>
            <a:r>
              <a:rPr b="0" lang="es-CL" sz="3000" spc="-1" strike="noStrike">
                <a:solidFill>
                  <a:srgbClr val="000000"/>
                </a:solidFill>
                <a:latin typeface="Verdana"/>
              </a:rPr>
              <a:t>CONCEPTOS DE TEORIA</a:t>
            </a:r>
            <a:endParaRPr b="0" lang="en-US" sz="3000" spc="-1" strike="noStrike">
              <a:solidFill>
                <a:srgbClr val="000000"/>
              </a:solidFill>
              <a:latin typeface="Verdana"/>
            </a:endParaRPr>
          </a:p>
        </p:txBody>
      </p:sp>
      <p:sp>
        <p:nvSpPr>
          <p:cNvPr id="9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FILOSOFIA</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exposición y meditación serena acerca de la naturaleza de la actividad, se usa en consonancia de “un pensar finalizado en sí mismo”, un “pensar por pensar y no para actuar”, una Teoría distanciad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TRADI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sedimentación de principios o normas para el ejercicio de la actividad, estos “Principios” o criterios operativos basados en la experiencia forman un compedio que tambien se suele llamar Teorí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ARGUMENTA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Dirigida a la justificación o explicación de un determinado modo de proyectar o construir</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3. DISTANCIA ENTRE TEORIA Y PRACTICA</a:t>
            </a:r>
            <a:endParaRPr b="0" lang="en-US" sz="28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Hemos creado un problema al separar Teoría y Práctica, en el sistema clásico de pensamiento, la Teoría constituiría un “Marco de Referencia”, externo, distante y anterior a la práctic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ara acceder a un concepto de Teoría que incluya aquellos procesos no lineales, divergentes, como en ele caso del proyecto de Arquitectura debemos </a:t>
            </a:r>
            <a:r>
              <a:rPr b="0" i="1" lang="es-ES_tradnl" sz="1700" spc="-1" strike="noStrike">
                <a:solidFill>
                  <a:srgbClr val="000000"/>
                </a:solidFill>
                <a:latin typeface="Verdana"/>
              </a:rPr>
              <a:t>salvar</a:t>
            </a:r>
            <a:r>
              <a:rPr b="0" lang="es-ES_tradnl" sz="1800" spc="-1" strike="noStrike">
                <a:solidFill>
                  <a:srgbClr val="000000"/>
                </a:solidFill>
                <a:latin typeface="Verdana"/>
              </a:rPr>
              <a:t> esta distanci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AXI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 fines del siglo XIX el espíritu moderno desafía esta actitud de la Teoría distante, por un pensar con otra vocación que anule esta distancia. Karl Marx en 1898 y, más tarde, los filósofos de la Escuela de Frankfurt construyen el concepto de </a:t>
            </a:r>
            <a:r>
              <a:rPr b="1" lang="es-ES_tradnl" sz="1800" spc="-1" strike="noStrike">
                <a:solidFill>
                  <a:srgbClr val="000000"/>
                </a:solidFill>
                <a:latin typeface="Verdana"/>
              </a:rPr>
              <a:t>PRAXIS</a:t>
            </a:r>
            <a:r>
              <a:rPr b="0" lang="es-ES_tradnl" sz="1800" spc="-1" strike="noStrike">
                <a:solidFill>
                  <a:srgbClr val="000000"/>
                </a:solidFill>
                <a:latin typeface="Verdana"/>
              </a:rPr>
              <a:t>, entendiéndola como una Teoría con incidencia en la Historia, con intersección real con el devenir de los acontecimiento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4. TEORIA-PRACTICA-PRAXIS</a:t>
            </a:r>
            <a:endParaRPr b="0" lang="en-US" sz="28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AXIS COMO PUENTE</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Manejando el concepto de PRAXIS, entendiéndola como el momento simultáneo y de articulación entre Teoría y Práctica, en términos simples de teorizar constante y continuamente en cada momento que efectuamos una práctica, podemos llegar a integrar estos conceptos que parecía separados.</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5. FORMALIZACION DE LA TEORIA</a:t>
            </a:r>
            <a:endParaRPr b="0" lang="en-US" sz="28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onstrucción de un discurso debería formalizarse de alguna manera, es decir, para que sea materia de conocimiento ha de registrarse de algún modo. Es el texto teórico el que da cuenta de este pensar.</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 través del tiempo, para la Arquitectura y las Artes, estos textos han tomado la forma Tratados, Manifiestos y Ensayos. En ellos se relacionan, se rozan, a veces se funden, la Teoría, la Historia y la Crítica.</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98" name=""/>
          <p:cNvSpPr/>
          <p:nvPr/>
        </p:nvSpPr>
        <p:spPr>
          <a:xfrm>
            <a:off x="684360" y="1735200"/>
            <a:ext cx="7991280" cy="38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Tratad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perteneciente a la didáctica, que consiste en la exposición integral, objetiva y ordenada de conocimientos sobre una cuestión o tema concreto; para ello adopta una estructura en progresivas subdivisiones denominadas apart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Ensa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de indagación libre y creativa, no exhaustiva ni especializada, sin un carácter rigurosamente sistemático. El Ensayo intenta hilvanar razonamientos y comparaciones inédi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100" name=""/>
          <p:cNvSpPr/>
          <p:nvPr/>
        </p:nvSpPr>
        <p:spPr>
          <a:xfrm>
            <a:off x="684360" y="1735200"/>
            <a:ext cx="7991280" cy="221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lantea preguntas, es una reflexión abierta e inacabada que parte de la duda y esto le permite una concepción multidisciplinar del conoc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Manifiest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 una declaración pública de principios e intenciones, a menudo de naturaleza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7. TEORIA-HISTORIA-CRITICA</a:t>
            </a:r>
            <a:endParaRPr b="0" lang="en-US" sz="2800" spc="-1" strike="noStrike">
              <a:solidFill>
                <a:srgbClr val="000000"/>
              </a:solidFill>
              <a:latin typeface="Verdana"/>
            </a:endParaRPr>
          </a:p>
        </p:txBody>
      </p:sp>
      <p:sp>
        <p:nvSpPr>
          <p:cNvPr id="102" name=""/>
          <p:cNvSpPr/>
          <p:nvPr/>
        </p:nvSpPr>
        <p:spPr>
          <a:xfrm>
            <a:off x="684360" y="1735200"/>
            <a:ext cx="7991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crítica comporta un juicio estético. Dicho juicio consiste en una valoración individual de la obra arquitectónica que el crítico realiza a partir de los conocimientos de que dispone, de la metodología que usa, su capacidad analítica y sintética y también su sensibilidad, intuición y gus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tividad del crítico se dirige a comprender la obra para explicar al público su contenido…La crítica se sitúa…entre dos extremos: el exceso racionalista y metodológico…y el exceso irracionalista y arbitrario…lejos de ambos límites absurdos se sitúa el campo de la interpret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Josep María Monta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t>
            </a:r>
            <a:r>
              <a:rPr b="0" lang="es-ES_tradnl" sz="2000" spc="-1" strike="noStrike">
                <a:solidFill>
                  <a:srgbClr val="000000"/>
                </a:solidFill>
                <a:latin typeface="Verdana"/>
              </a:rPr>
              <a:t>Crí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3-14T03:52:51Z</dcterms:modified>
  <cp:revision>29</cp:revision>
  <dc:subject/>
  <dc:title>TEORIA DE LA ARQUITECTURA I</dc:title>
</cp:coreProperties>
</file>