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013E8F8-0D4E-45B0-A2EE-F6D7525B0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86DE2E9-E679-416E-9AF3-8E217AEF2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A515EF5-9E00-4516-910E-644D6745B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C31992F-2813-4226-ACD3-D0631E931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998C3-CC13-4A05-B5A4-1854213DE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23AEE-F3E8-4BD2-A555-3AE36E82D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78091-FAC5-4056-950D-501918E39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481FA-9B51-4CCC-842D-372942C8C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84747-C3F1-430D-AC2E-1B1076C74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A4370-8B8D-41D2-AEB7-B3BBC71F5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80EB6-3135-4BDD-8685-7B6320629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41AD37-6EC3-4D21-87F3-D77F5D713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511DE-C6FD-4AE3-BBC1-13D1C574E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ECE22-60E2-40F0-9C56-A68B1FA6D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D1284-091A-4F0A-B233-C590578B8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EC6CC-B211-44F0-9FE9-466B7D5AB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56C091-31EA-4836-8A1A-8E57E1DDE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69A08AD-A5B5-4906-8679-25F73FE70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1FD4A9-8934-42B0-8354-1AA8A7958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FAB2F1-8A29-4D3D-8F77-560298335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2A7D353-996C-41D3-92C1-890C87F23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2B9AD3-93CE-4758-A068-DE8AC3159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CCC172-EAF4-4A85-B340-09017F193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58416D-8C57-4323-A2E6-82B49916B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80C8-8503-45DC-96BF-5A057DD09BB3}"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7321-5B0E-4C1D-86B8-4ADAB1AD84B4}"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ESTADO Y SOCOEDAD CONTEMPORANE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76280"/>
            <a:ext cx="8229600" cy="5649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una relación de soberanía la función sujeto se desplaza y circula por encima y por debajo de las singularidades somáticas; y, a la inversa, los cuerpos circularán, se desplazarán, se apoyarán aquí o allá, huirán.  </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692280"/>
            <a:ext cx="8229600" cy="5433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fijación de la función sujeto en un cuerpo determinado solo puede hacer de una manera discontinua, incidental, ocasional, por ejemplo en la ceremonias, en ese momento, el cuerpo del individuo esta marcado por una insignia, por el gesto que hace; en el homenaje, por ejemplo, es el momento en que una singularidad somática se hace marcar concretamente por el sello de la soberanía que la acepta, o bien la soberanía hace valer sus derechos por medio de la violencia y los impone por la fuerza a alguien a quien somete.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or el contrario, si miramos hacia la cima, veremos en ella la individualización que no encontramos abaj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la medida en que ese poder de soberanía no es isotópico, sino que implica litigios y desplazamientos continuos, en la medida en que por detrás de las relaciones soberanas murmuran aun la depredación, el saqueo, la guerra, etc., y el individuo como tal no esta nunca contenido en la relación, es preciso que haya, en un momento dado y hacia lo alto, algo que asegure el arbitraje.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haya un punto único, individual, que sea el vértice de todo ese conjunto de relaciones heterotópicas entre sí, y absolutamente imposibles de incluir en solo cuadro.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76280"/>
            <a:ext cx="8229600" cy="564984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a:t>
            </a:r>
            <a:r>
              <a:rPr b="0" lang="es-ES" sz="3200" spc="-1" strike="noStrike">
                <a:solidFill>
                  <a:srgbClr val="ffffff"/>
                </a:solidFill>
                <a:latin typeface="Garamond"/>
              </a:rPr>
              <a:t>La individualidad del soberano está implicada por la falta de individualización de los elementos a los cuales se aplica la relación de soberanía. Necesidad, por consiguiente, de un soberano que sea en su propio cuerpo el punto hacia el cual convergen todas esas relaciones tan múltiples, tan diferentes, tan irreconciliab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333000"/>
            <a:ext cx="8229600" cy="579276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Creo, entonces, que se puede decir lo siguiente: la relación de soberanía, aplica algo que es un poder político sobre el cuerpo, pero nunca pone de manifiesto la individualidad. Es un poder que no tiene función individualizadora o que solo esboza la individualidad por el lado del soberano, y además, al precio de cierta curiosa, paradójica y mitológica multiplicación de los cuerpos. Por un lado, cuerpos pero no individualidad; por otro, una individualidad pero una multiplicidad de cuerpo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SOCIEDAD DISCIPLINARIA </a:t>
            </a:r>
            <a:endParaRPr b="1" lang="en-US" sz="4400" spc="-1" strike="noStrike">
              <a:solidFill>
                <a:srgbClr val="e5e5ff"/>
              </a:solidFill>
              <a:latin typeface="Garamond"/>
            </a:endParaRPr>
          </a:p>
        </p:txBody>
      </p:sp>
      <p:sp>
        <p:nvSpPr>
          <p:cNvPr id="117" name=""/>
          <p:cNvSpPr txBox="1"/>
          <p:nvPr/>
        </p:nvSpPr>
        <p:spPr>
          <a:xfrm>
            <a:off x="457200" y="1268280"/>
            <a:ext cx="8229600" cy="485784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tre los siglos XVII y XVIII comienza a expandirse una nueva mecánica de poder, el poder disciplinario, que se ejerce sobre los individuos, particularmente sobre los cuerpos, con poderosos resultados de normaliza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racticas disciplinarias originadas durante la Edad Media en comunidades religiosas, gradualmente fueron extendiéndose a la escuela, a las prisiones al ejercito, a los talleres productivos, a las colonias.</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Bajo vigilancia constante y permanente y por medio de un sistema reglamentario exhaustivo se controlan los tiempos, las actividades y el uso del cuerpo de los individuos. </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333360"/>
            <a:ext cx="8229600" cy="564840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implica (a diferencia del anterior) una sustracción del producto, de una parte del tiempo o de tal o cual categoría de servicio, sino un a captura total o, en todo caso, que tiende a ser una captura exhaustiva del cuerpo, los gestos, el tiempo, el comportamiento del individuo. Es una captura del cuerpo y del producto; es una captura del tiempo en su totalidad y no del servici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jemplo disciplina militar – ejerci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76280"/>
            <a:ext cx="8229600" cy="564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No necesita de ese juego discontinuo y ritual, mas o mensos cíclico, de las ceremonias y las marcas. El poder disciplinario no es discontinuo; implica al contrario, un procedimiento de control constante; en el sistema disciplinario uno no está a la eventual disposición de otra persona., sino perpetuamente bajo la mirada de alguien, o en todo caso, en situación de ser observ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esta marcado por un gesto hecho de una vez por todas o por una situación planteada desde el inicio; uno es visible y esta en situación de ser contantemente mirado.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 relación de poder disciplinario no hay referencia a un acto, un acontecimiento, un derecho originario; al contrario el poder disciplinario se refiere a un estado terminal u optim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404280"/>
            <a:ext cx="8229600" cy="572148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ra hacia el provenir, hacia el momento en que todo funcione por sí solo y la vigilancia no tenga más que un carácter virtual, cuando la disciplina se haya convertido en un habit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a que la disciplina sea siempre ese control, esa captura permanente y global del cuerpo del individuo, esta necesariamente obligada a utilizar un instrumento clave que es la escritu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280"/>
            <a:ext cx="7772400" cy="2700360"/>
          </a:xfrm>
          <a:prstGeom prst="rect">
            <a:avLst/>
          </a:prstGeom>
          <a:solidFill>
            <a:srgbClr val="4d25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5e5ff"/>
                </a:solidFill>
                <a:latin typeface="Garamond"/>
              </a:rPr>
              <a:t>TRANSITOS DE LOS MECANISMOS DE PODER </a:t>
            </a:r>
            <a:br>
              <a:rPr sz="3200"/>
            </a:b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fontScale="92000"/>
          </a:bodyPr>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entras la relación de soberanía implica la actualización de la marca, la disciplina, con sus exigencia de completa visibilidad, su constitución de moldes genéticos, esa suerte de continuum jerárquico que la caracteriza, apela por fuerza a la escritura. </a:t>
            </a:r>
            <a:endParaRPr b="0" lang="en-US" sz="3200" spc="-1" strike="noStrike">
              <a:solidFill>
                <a:srgbClr val="ffffff"/>
              </a:solidFill>
              <a:latin typeface="Garamond"/>
            </a:endParaRPr>
          </a:p>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velar por la anotación y el registro de todo lo que ocurre, de todo lo que hace el individuo, todo lo que dice; para transmitir la información de abajo hacia arriba a lo largo de la escala jerárqu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mos ante una nueva relación, una relación directa y continua de la escritura con el cuerpo. La visibilidad del cuerpo y la permanencia de la escritura van a la par y producen lo que podríamos llamar individualización esquemática y centraliz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89000"/>
            <a:ext cx="8229600" cy="593712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visibilidad continua y perpetua garantizada por la escritura tiene un efecto importante: la extrema prontitud de la reacción del poder de disciplina permitida por esa visibilidad que es constante en el sistema disciplinario. A diferencia del poder soberano, el poder disciplinario podrá intervenir sin descanso desde el primer instante, el primer gesto, el primer esboz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76280"/>
            <a:ext cx="8229600" cy="5649840"/>
          </a:xfrm>
          <a:prstGeom prst="rect">
            <a:avLst/>
          </a:prstGeom>
          <a:noFill/>
          <a:ln w="0">
            <a:noFill/>
          </a:ln>
        </p:spPr>
        <p:txBody>
          <a:bodyPr anchor="t">
            <a:normAutofit fontScale="93000"/>
          </a:bodyPr>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e la tendencia a intervenir en el nivel mismo de lo que sucede, el momento en que la virtualidad se convierte en realidad.   </a:t>
            </a: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de a intervenir previamente, antes del propio acto si es posible, y lo hace a través de un juego de vigilancia., recompensas, castigos y presiones infrajudiciales.  </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36280"/>
            <a:ext cx="8229600" cy="5289480"/>
          </a:xfrm>
          <a:prstGeom prst="rect">
            <a:avLst/>
          </a:prstGeom>
          <a:noFill/>
          <a:ln w="0">
            <a:noFill/>
          </a:ln>
        </p:spPr>
        <p:txBody>
          <a:bodyPr anchor="t">
            <a:normAutofit fontScale="97000"/>
          </a:bodyPr>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gn="just">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aramond"/>
              </a:rPr>
              <a:t>Alrededor de 1791 surge el Panóptico de Bentham constituyéndose en el punto simbólico e histórico de la instalación definitiva del poder disciplinario de la sociedad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C:\Users\Mauricio\Pictures\panocc81ptico-de-jeremy-bentham-new-illinois-state-penitentiary-descontexto.jp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76280"/>
            <a:ext cx="8229600" cy="5649840"/>
          </a:xfrm>
          <a:prstGeom prst="rect">
            <a:avLst/>
          </a:prstGeom>
          <a:noFill/>
          <a:ln w="0">
            <a:noFill/>
          </a:ln>
        </p:spPr>
        <p:txBody>
          <a:bodyPr anchor="t">
            <a:normAutofit fontScale="87000"/>
          </a:bodyPr>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tra característica del dispositivo disciplinario, que lo diferencia del de soberanía, es que los primeros son isotópicos o, al mensos, tienden a la isotopía.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 implica que cada elemento tiene su lugar bien determinado. Tiene sus elementos subordinados y sus elementos superordinados.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or tanto el desplazamiento no puede hacerse por discontinuidad, litigio, guerra, favor, etc. No puede hacerse por medio de la ruptura como sucedía en el poder de soberanía, sino a través de un movimiento reglado que va a ser el del examen, el concurso, la antigüedad, etc.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tre los distintos sistemas no hay conflicto ni incompatibilidad. Los distintos dispositivos disciplinarios deben poder articularse entre sí.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r ultimo, isotópico quiere decir otra cosa: el sistema disciplinario, el principio de distribución y clasificación de todos los elementos implica necesariamente un residuo.; siempre hay entonces algo inclasificabl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fontScale="94000"/>
          </a:bodyPr>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El poder disciplinario tiene la doble propiedad de ser anomizante , vale decir, de poner siempre a distancia a una serie de individuos, exponer la anomia, lo irreductible, y de ser siempre normalizador, inventar siempre nuevos sistemas de recuperación, re-establecer siempre la regla. Los sistemas disciplinarios se caracterizan por un trabajo contante de la norma en la anomi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04280"/>
            <a:ext cx="8229600" cy="5721480"/>
          </a:xfrm>
          <a:prstGeom prst="rect">
            <a:avLst/>
          </a:prstGeom>
          <a:noFill/>
          <a:ln w="0">
            <a:noFill/>
          </a:ln>
        </p:spPr>
        <p:txBody>
          <a:bodyPr anchor="t">
            <a:normAutofit fontScale="97000"/>
          </a:bodyPr>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rincipal efecto del poder disciplinario es lo que podríamos llamar la modificación exhaustiva de las relaciones entre la singularidad somática, el sujeto y el individuo. </a:t>
            </a: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oder disciplinario fabrica cuerpos sujetos, fija con toda exactitud la función sujeto al cuerpo; en individualizante en el sentido de que el individuo no es otra cosa que el cuerpo sujet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404280"/>
            <a:ext cx="8229600" cy="572148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jercicio del poder requiere aparatos de saber que alimentan sus técnicas y tácticas de dominación.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incorporación del saber científico, especialmente a partir del siglo XVIII, será un factor crucial  la complejización de los mecanismos de poder.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 anterior como contrapartida a una sociedad que rápidamente se hacía mas compleja en gener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981000"/>
            <a:ext cx="8229600" cy="514512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disciplinario es individualizante porque ajusta la función sujeto a la singularidad somática, como su prolongación o comienzo, un núcleo de virtualidades, una psique, y establece a demás, la norma como principio de partición y la normalización como prescripción universal para todos esos individuos así constituido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poderes disciplinarios sirven de base para la generación de saberes que, inicialmente asociados a la labor de disciplinamiento, van constituyendo sus propios regímenes de verdad, como cuerpos científicos de conocimiento.   </a:t>
            </a: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el caso de la psiquiatría y las ciencias psicológicas que ya a comienzos del siglo XX cumplen lo que Foucault denomina una </a:t>
            </a:r>
            <a:r>
              <a:rPr b="1" lang="es-ES" sz="2800" spc="-1" strike="noStrike">
                <a:solidFill>
                  <a:srgbClr val="ffffff"/>
                </a:solidFill>
                <a:latin typeface="Garamond"/>
              </a:rPr>
              <a:t>función Psi </a:t>
            </a:r>
            <a:r>
              <a:rPr b="0" lang="es-ES" sz="2800" spc="-1" strike="noStrike">
                <a:solidFill>
                  <a:srgbClr val="ffffff"/>
                </a:solidFill>
                <a:latin typeface="Garamond"/>
              </a:rPr>
              <a:t> de disciplinamiento extendida a todos los sistemas disciplinarios en la forma de pedagogía, psicología laboral, criminología y otras especializaciones simila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iertamente, la función Psi involucra la introducción de esquemas de individualización, normalización y sujeción de los individuos dentro de los sistemas disciplinari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SOCIEDAD GUBERNAMENTAL </a:t>
            </a:r>
            <a:endParaRPr b="1" lang="en-US" sz="3600" spc="-1" strike="noStrike">
              <a:solidFill>
                <a:srgbClr val="e5e5ff"/>
              </a:solidFill>
              <a:latin typeface="Garamond"/>
            </a:endParaRPr>
          </a:p>
        </p:txBody>
      </p:sp>
      <p:sp>
        <p:nvSpPr>
          <p:cNvPr id="136" name=""/>
          <p:cNvSpPr txBox="1"/>
          <p:nvPr/>
        </p:nvSpPr>
        <p:spPr>
          <a:xfrm>
            <a:off x="457200" y="1268280"/>
            <a:ext cx="8229600" cy="4857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el siglo XVIII, complementariamente a la expansión de las tecnologías disciplinarias, se articula una nueva tecnología de poder, de carácter mucho mas abarcativo que las tecnologías disciplinarias, las cuales terminaran supeditadas a esta nueva tecnología mas poderos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549000"/>
            <a:ext cx="8229600" cy="5576760"/>
          </a:xfrm>
          <a:prstGeom prst="rect">
            <a:avLst/>
          </a:prstGeom>
          <a:noFill/>
          <a:ln w="0">
            <a:noFill/>
          </a:ln>
        </p:spPr>
        <p:txBody>
          <a:bodyPr anchor="t">
            <a:normAutofit fontScale="96000"/>
          </a:bodyPr>
          <a:p>
            <a:pPr marL="329040" indent="-3290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dad refiere a “el conjunto integrado por las instituciones, procedimientos, análisis y reflexiones, cálculos y tácticas que permiten el ejercicio de esta muy específica aunque compleja forma de poder que tiene como su objetivo a la población, como su forma principal de conocimiento a la economía política, y como su medio técnico esencial a los dispositivos de seguridad” (Foucault, 2000).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692280"/>
            <a:ext cx="8229600" cy="543384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ucault llama gubernamentalidad a esta nueva forma de poder que incluye nuevas tecnologías de poder, término que no es muy esclarecedor o distintivo de por si.</a:t>
            </a: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le puede entender como una forma moderna de gestión de las conductas; se trata de una gestión o gobierno de las conductas que se sustenta y entrelaza decisivamente con conocimientos científicos, </a:t>
            </a:r>
            <a:r>
              <a:rPr b="1" lang="es-ES" sz="3200" spc="-1" strike="noStrike" u="sng">
                <a:solidFill>
                  <a:srgbClr val="ffffff"/>
                </a:solidFill>
                <a:uFillTx/>
                <a:latin typeface="Garamond"/>
              </a:rPr>
              <a:t>en particular conocimientos de las ciencias sociales</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de la perspectiva de Foucault, el término gubernamentalidad viene asociado al sentido específico que él le da al concepto de gobierno, que no debe de confundirse con la institución de gobierno, aunque ésta última puede ser o sea un elemento del gobierno.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obierno es la conducción de las conductas, de las conductas de otros y de las conductas propias. Se entiende como un conjunto de acciones, para lograr </a:t>
            </a:r>
            <a:r>
              <a:rPr b="1" lang="es-ES" sz="3200" spc="-1" strike="noStrike" u="sng">
                <a:solidFill>
                  <a:srgbClr val="ffffff"/>
                </a:solidFill>
                <a:uFillTx/>
                <a:latin typeface="Garamond"/>
              </a:rPr>
              <a:t>voluntariamente</a:t>
            </a:r>
            <a:r>
              <a:rPr b="0" lang="es-ES" sz="3200" spc="-1" strike="noStrike">
                <a:solidFill>
                  <a:srgbClr val="ffffff"/>
                </a:solidFill>
                <a:latin typeface="Garamond"/>
              </a:rPr>
              <a:t>, acciones posib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620280"/>
            <a:ext cx="8229600" cy="5505480"/>
          </a:xfrm>
          <a:prstGeom prst="rect">
            <a:avLst/>
          </a:prstGeom>
          <a:noFill/>
          <a:ln w="0">
            <a:noFill/>
          </a:ln>
        </p:spPr>
        <p:txBody>
          <a:bodyPr anchor="t">
            <a:normAutofit fontScale="85000"/>
          </a:bodyPr>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rcer el gobierno, implica trabajar sobre el campo de </a:t>
            </a:r>
            <a:r>
              <a:rPr b="1" lang="es-ES" sz="2800" spc="-1" strike="noStrike" u="sng">
                <a:solidFill>
                  <a:srgbClr val="ffffff"/>
                </a:solidFill>
                <a:uFillTx/>
                <a:latin typeface="Garamond"/>
              </a:rPr>
              <a:t>posibilidades</a:t>
            </a:r>
            <a:r>
              <a:rPr b="0" lang="es-ES" sz="2800" spc="-1" strike="noStrike">
                <a:solidFill>
                  <a:srgbClr val="ffffff"/>
                </a:solidFill>
                <a:latin typeface="Garamond"/>
              </a:rPr>
              <a:t> en el que se sitúa el comportamiento de los sujetos que actúan.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gobierno, o la práctica de gobierno con todos su mecanismos y saberes busca incitar, inducir, facilitar o dificultar –en general hacer mas o mensos probable- las conductas de un determinado conjunto de sujetos.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al gobierno incluye el autogobierno, la relación de autodominio que uno puede establecer consigo mismo, cuando, por ejemplo, trata de conducir los deseos o dominar los placere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599840"/>
            <a:ext cx="8229600" cy="2908440"/>
          </a:xfrm>
          <a:prstGeom prst="rect">
            <a:avLst/>
          </a:prstGeom>
          <a:solidFill>
            <a:srgbClr val="6c44af"/>
          </a:solid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 gubernamentalidad es una particular forma de gobierno que se constituye durante el siglo XVIII, en un especial ensamblaje entr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333000"/>
            <a:ext cx="4038480" cy="5792760"/>
          </a:xfrm>
          <a:prstGeom prst="rect">
            <a:avLst/>
          </a:prstGeom>
          <a:noFill/>
          <a:ln w="0">
            <a:noFill/>
          </a:ln>
        </p:spPr>
        <p:txBody>
          <a:bodyPr anchor="t">
            <a:normAutofit fontScale="89000"/>
          </a:bodyPr>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endParaRPr b="0" lang="en-US" sz="18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antiguas prácticas administrativas de control sobre los ciudadanos basadas en la intervención directa sobre ellos.   </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estadísticas que ira incorporando componentes inferenciales y probabilísticos los cuales se agregan a su labor descriptiva sofisticándola.</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aberes en formación de las ciencias sociales, en primer lugar, y preeminentemente,  de la economía política al servicio de la conducción, por parte del Estado,  de las conductas de los ciudadanos.</a:t>
            </a:r>
            <a:endParaRPr b="0" lang="en-US" sz="2000" spc="-1" strike="noStrike">
              <a:solidFill>
                <a:srgbClr val="ffffff"/>
              </a:solidFill>
              <a:latin typeface="Garamond"/>
            </a:endParaRPr>
          </a:p>
          <a:p>
            <a:pPr marL="305280" indent="-3052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3" name=""/>
          <p:cNvSpPr txBox="1"/>
          <p:nvPr/>
        </p:nvSpPr>
        <p:spPr>
          <a:xfrm>
            <a:off x="4648320" y="333000"/>
            <a:ext cx="4038480" cy="5792760"/>
          </a:xfrm>
          <a:prstGeom prst="rect">
            <a:avLst/>
          </a:prstGeom>
          <a:noFill/>
          <a:ln w="0">
            <a:noFill/>
          </a:ln>
        </p:spPr>
        <p:txBody>
          <a:bodyPr anchor="t">
            <a:normAutofit fontScale="98000"/>
          </a:bodyPr>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sistema de información que apoyándose para sus gestión práctica en procedimientos asociados a la recolección, ahora multiplica el tipo de datos que se busca obtener…enriqueciendo su análisis con la teoría de la probabilidad. </a:t>
            </a: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Procesos poblacionales asociados a su crecimiento y a la expansión de la actividad económica y de la vida urbana. </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PODER DE SOBERANIA </a:t>
            </a:r>
            <a:endParaRPr b="1" lang="en-US" sz="3600" spc="-1" strike="noStrike">
              <a:solidFill>
                <a:srgbClr val="e5e5ff"/>
              </a:solidFill>
              <a:latin typeface="Garamond"/>
            </a:endParaRPr>
          </a:p>
        </p:txBody>
      </p:sp>
      <p:sp>
        <p:nvSpPr>
          <p:cNvPr id="105" name=""/>
          <p:cNvSpPr txBox="1"/>
          <p:nvPr/>
        </p:nvSpPr>
        <p:spPr>
          <a:xfrm>
            <a:off x="457200" y="1341000"/>
            <a:ext cx="8229600" cy="4784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Hasta los siglos XVII y XVIII el poder dominante, desde la Edad Media, había sido el poder de soberanía, apoyado en los saberes del derecho y de una administración de baja sofisticación, orientada al manejo de un territorio y de los productos de sus habitan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731880"/>
            <a:ext cx="8229600" cy="543384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de población oponen una resistencia que es de carácter similar a la resistencia propia de las realidades o procesos naturales, con sus leyes o dinámicas propi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aporte de las ciencias sociales, especialmente de la economía política, será poner de manifiesto la existencia de </a:t>
            </a:r>
            <a:r>
              <a:rPr b="1" i="1" lang="es-ES" sz="3200" spc="-1" strike="noStrike" u="sng">
                <a:solidFill>
                  <a:srgbClr val="ffffff"/>
                </a:solidFill>
                <a:uFillTx/>
                <a:latin typeface="Garamond"/>
              </a:rPr>
              <a:t>regularidades</a:t>
            </a:r>
            <a:r>
              <a:rPr b="0" lang="es-ES" sz="3200" spc="-1" strike="noStrike">
                <a:solidFill>
                  <a:srgbClr val="ffffff"/>
                </a:solidFill>
                <a:latin typeface="Garamond"/>
              </a:rPr>
              <a:t> (continuidades) en tales procesos, regularidades que indican la existencia de mecanismos subyacentes inteligibles que pueden ser revelados, requiriendo para ello investigación, sistematización y acumulación de conocimientos, conduciendo de tal modo a la constitución de un régimen de verdad.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549000"/>
            <a:ext cx="8229600" cy="5576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 gubernamentalidad solo podrá dar cuenta de los problemas regulatorios que enfrenta, derivados de los fenómenos poblacionales, si consigue representar, por esa vía, basándose en la investigación, esos procesos naturalizados (segunda naturaleza) y sus principios de funcionamien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s de gobierno (impuestos, aranceles, etc.) quedan, entonces, ligadas a este cuerpo de conocimientos científicos, en un nuevo tipo de dispositivo de saber – poder que inscribe en lo real algo hasta ese momento inexistente: esas fuerzas o leyes de mercado y de otros procesos sociales en la horma de ese conocimiento entrelazado con las prácticas y decisiones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onfigura un nuevo modo de gobierno – gobierno liberal- fundado en responder efectivamente a esos procesos poblacionales, naturales o pseudonaturales. El gobierno se valida en su capacidad de responder a ellos; el mercado, que es expresión eminente de estos procesos, se convierte en fuente de validación o veridicción y operación sirve de criterio para la autolimitación del gobiern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060640"/>
            <a:ext cx="8229600" cy="2952720"/>
          </a:xfrm>
          <a:prstGeom prst="rect">
            <a:avLst/>
          </a:prstGeom>
          <a:solidFill>
            <a:srgbClr val="6c44a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ZACION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3008160" cy="142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e5ff"/>
                </a:solidFill>
                <a:latin typeface="Garamond"/>
              </a:rPr>
              <a:t>NUEVA FORMA DE GOBIERNO </a:t>
            </a:r>
            <a:endParaRPr b="1" lang="en-US" sz="2000" spc="-1" strike="noStrike">
              <a:solidFill>
                <a:srgbClr val="e5e5ff"/>
              </a:solidFill>
              <a:latin typeface="Garamond"/>
            </a:endParaRPr>
          </a:p>
        </p:txBody>
      </p:sp>
      <p:sp>
        <p:nvSpPr>
          <p:cNvPr id="151" name=""/>
          <p:cNvSpPr txBox="1"/>
          <p:nvPr/>
        </p:nvSpPr>
        <p:spPr>
          <a:xfrm>
            <a:off x="3574800" y="272880"/>
            <a:ext cx="5111640" cy="6251760"/>
          </a:xfrm>
          <a:prstGeom prst="rect">
            <a:avLst/>
          </a:prstGeom>
          <a:solidFill>
            <a:srgbClr val="6c44a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DISPOSITIVOS DE SEGURIDAD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diante estos dispositivos se procura controlar los acontecimientos riesgosos que pueden producirse en la población.</a:t>
            </a:r>
            <a:endParaRPr b="0" lang="en-US" sz="3200" spc="-1" strike="noStrike">
              <a:solidFill>
                <a:srgbClr val="ffffff"/>
              </a:solidFill>
              <a:latin typeface="Garamond"/>
            </a:endParaRPr>
          </a:p>
        </p:txBody>
      </p:sp>
      <p:sp>
        <p:nvSpPr>
          <p:cNvPr id="152" name="PlaceHolder 2"/>
          <p:cNvSpPr>
            <a:spLocks noGrp="1"/>
          </p:cNvSpPr>
          <p:nvPr>
            <p:ph/>
          </p:nvPr>
        </p:nvSpPr>
        <p:spPr>
          <a:xfrm>
            <a:off x="468360" y="2204640"/>
            <a:ext cx="3008160" cy="4103640"/>
          </a:xfrm>
          <a:prstGeom prst="rect">
            <a:avLst/>
          </a:prstGeom>
          <a:solidFill>
            <a:srgbClr val="6c44af"/>
          </a:solidFill>
          <a:ln w="0">
            <a:noFill/>
          </a:ln>
        </p:spPr>
        <p:txBody>
          <a:bodyPr anchor="t">
            <a:normAutofit fontScale="94000"/>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nuevo modo de conducción de las conductas, apoyada en nuevos dispositivos de regulación de los procesos poblacionales, enlazados con saberes científicos – regímenes de verdad – particularmente los correspondientes a la economía política.  </a:t>
            </a: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692280"/>
            <a:ext cx="8229600" cy="5433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mpleo de este tipo de conducción en el Estado, de esta nueva forma de control del colectivo social, representa lo que Foucault llamará “Gubernamentalización del Estado”, proceso que marca y caracteriza al Estado moderno.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6 Marcador de contenido" descr=""/>
          <p:cNvPicPr/>
          <p:nvPr/>
        </p:nvPicPr>
        <p:blipFill>
          <a:blip r:embed="rId1"/>
          <a:stretch/>
        </p:blipFill>
        <p:spPr>
          <a:xfrm>
            <a:off x="433440" y="549360"/>
            <a:ext cx="8283600" cy="557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Raíces del estado gubernamentalizado </a:t>
            </a:r>
            <a:endParaRPr b="1" lang="en-US" sz="3600" spc="-1" strike="noStrike">
              <a:solidFill>
                <a:srgbClr val="e5e5ff"/>
              </a:solidFill>
              <a:latin typeface="Garamond"/>
            </a:endParaRPr>
          </a:p>
        </p:txBody>
      </p:sp>
      <p:pic>
        <p:nvPicPr>
          <p:cNvPr id="156" name="3 Marcador de contenido" descr=""/>
          <p:cNvPicPr/>
          <p:nvPr/>
        </p:nvPicPr>
        <p:blipFill>
          <a:blip r:embed="rId1"/>
          <a:stretch/>
        </p:blipFill>
        <p:spPr>
          <a:xfrm>
            <a:off x="444600" y="1116000"/>
            <a:ext cx="8254800" cy="502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692280"/>
            <a:ext cx="8229600" cy="5433840"/>
          </a:xfrm>
          <a:prstGeom prst="rect">
            <a:avLst/>
          </a:prstGeom>
          <a:noFill/>
          <a:ln w="0">
            <a:noFill/>
          </a:ln>
        </p:spPr>
        <p:txBody>
          <a:bodyPr anchor="t">
            <a:normAutofit fontScale="82000"/>
          </a:bodyPr>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s monarquías absolutas la soberanía corresponde al Estado, el cual a su vez queda identificado al rey («El Estado soy yo», dijo Luis XIV). De ahí que el monarca sea llamado soberano, denominación que aún perdura. </a:t>
            </a:r>
            <a:endParaRPr b="0" lang="en-US" sz="3200" spc="-1" strike="noStrike">
              <a:solidFill>
                <a:srgbClr val="ffffff"/>
              </a:solidFill>
              <a:latin typeface="Garamond"/>
            </a:endParaRPr>
          </a:p>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liberalismo subvirtió el concepto de soberanía y concibió dos modalidades de ésta: </a:t>
            </a:r>
            <a:r>
              <a:rPr b="0" lang="es-ES" sz="3200" spc="-1" strike="noStrike" u="sng">
                <a:solidFill>
                  <a:srgbClr val="ffffff"/>
                </a:solidFill>
                <a:uFillTx/>
                <a:latin typeface="Garamond"/>
              </a:rPr>
              <a:t>una, revolucionaria</a:t>
            </a:r>
            <a:r>
              <a:rPr b="0" lang="es-ES" sz="3200" spc="-1" strike="noStrike">
                <a:solidFill>
                  <a:srgbClr val="ffffff"/>
                </a:solidFill>
                <a:latin typeface="Garamond"/>
              </a:rPr>
              <a:t>, en la que el pueblo, considerado como un conjunto de individuos, ejerce el sufragio universal (la soberanía popular); otra, </a:t>
            </a:r>
            <a:r>
              <a:rPr b="0" lang="es-ES" sz="3200" spc="-1" strike="noStrike" u="sng">
                <a:solidFill>
                  <a:srgbClr val="ffffff"/>
                </a:solidFill>
                <a:uFillTx/>
                <a:latin typeface="Garamond"/>
              </a:rPr>
              <a:t>conservadora</a:t>
            </a:r>
            <a:r>
              <a:rPr b="0" lang="es-ES" sz="3200" spc="-1" strike="noStrike">
                <a:solidFill>
                  <a:srgbClr val="ffffff"/>
                </a:solidFill>
                <a:latin typeface="Garamond"/>
              </a:rPr>
              <a:t>, que reside en un parlamento de voto censitario (la soberanía na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203280" y="272520"/>
            <a:ext cx="5483160" cy="6396120"/>
          </a:xfrm>
          <a:prstGeom prst="rect">
            <a:avLst/>
          </a:prstGeom>
          <a:noFill/>
          <a:ln w="0">
            <a:noFill/>
          </a:ln>
        </p:spPr>
        <p:txBody>
          <a:bodyPr anchor="t">
            <a:normAutofit fontScale="93000"/>
          </a:bodyPr>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nueva forma de gobierno de los individuos, esta forma de conducción, esta orientada a la regulación de la población y emerge en el seno del estado, el cual será su foco fundamental, al menos hasta el siglo XIX</a:t>
            </a: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esde finales de dicho siglo se extenderá progresivamente hacia agrupaciones u organizaciones, tales como escuelas, fábricas, hospitales y empresas que hasta ese momento habían sido controladas de manera casi exclusivamente disciplinaria.  </a:t>
            </a: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158" name="PlaceHolder 1"/>
          <p:cNvSpPr>
            <a:spLocks noGrp="1"/>
          </p:cNvSpPr>
          <p:nvPr>
            <p:ph/>
          </p:nvPr>
        </p:nvSpPr>
        <p:spPr>
          <a:xfrm>
            <a:off x="457200" y="1434600"/>
            <a:ext cx="2674800" cy="4691160"/>
          </a:xfrm>
          <a:prstGeom prst="rect">
            <a:avLst/>
          </a:prstGeom>
          <a:solidFill>
            <a:srgbClr val="6c44af"/>
          </a:solid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GUBERNAMENTALIZACION DE LA SOCIEDAD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736640"/>
            <a:ext cx="7772400" cy="1920960"/>
          </a:xfrm>
          <a:prstGeom prst="rect">
            <a:avLst/>
          </a:prstGeom>
          <a:solidFill>
            <a:srgbClr val="6c44a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TECNOLOGIAS DE PODER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las técnicas de gubernamentalidad inicialmente Foucault las llama dispositivos de seguridad o mecanismos de regulación. Posteriormente deja de emplear esos términos y se refiere fundamentalmente a la gubernamentalidad.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e término, que  por cierto es más abarcativo, integra los dispositivos de seguridad o regulación y las tecnologías del self, las cuales son también parte también parte fundamental de la gubernamentalidad moderna, las que por su lado incluyen tecnologías de poder mas primitivas, como los son los mecanismos disciplinarios y el usos de la ley con sus concomitantes sanciones pe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476280"/>
            <a:ext cx="8229600" cy="564984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tintos procedimientos de control han coexistido. Lo que cambiaria son los modos particulares de articulación entre ellos, sus combinaciones y ensamblajes específicos.</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positivos de poder de nuevo cuño no imponen ni prohíben, sino que dejan hacer, dejan que los eventos ocurran. </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620280"/>
            <a:ext cx="8229600" cy="550548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través de la manipulación de los factores pertinentes, buscan hacer que las conductas buscadas sean, para los agentes, más deseables o más convenientes que otras alternativas.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una regulación basada en una anticipación probabilística o, al menos, en una anticipación sistemáticamente apoyada en datos y antecedentes empíricos, bien articulados por explicaciones fundadas en conocimientos científic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404280"/>
            <a:ext cx="8229600" cy="572148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diferencia de las técnicas disciplinarias que buscan normalizar los comportamientos, a partir de normas predefinidas, que poseen un claro carácter prescriptivo – normación- los dispositivos de gubernamentalidad no parten de normas predefinidas sino que analizan distribuciones de casos, y ven en ellas las regularidades que emergen. Lo normal ahora es lo recurrente; es meramente un resultado estadístico a posteriori, no lo que deriva de la aplicación de una norma preexistent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475920"/>
            <a:ext cx="8229600" cy="6048360"/>
          </a:xfrm>
          <a:prstGeom prst="rect">
            <a:avLst/>
          </a:prstGeom>
          <a:solidFill>
            <a:srgbClr val="6c44af"/>
          </a:solid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libertad es el correlato de la aplicación de estos dispositivos y lo que se busca hacer a través de ellos es investigar el contenido de esa libertad…</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t>
            </a:r>
            <a:r>
              <a:rPr b="0" lang="es-ES" sz="3200" spc="-1" strike="noStrike">
                <a:solidFill>
                  <a:srgbClr val="ffffff"/>
                </a:solidFill>
                <a:latin typeface="Garamond"/>
              </a:rPr>
              <a:t>Intereses ------ deseos ----creencias----discursos</a:t>
            </a: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fin de considerarlo en los modelos a seguir para condicionar las conductas de manera efectivas de manera que se acerquen a las conductas esperada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88920" y="69840"/>
          <a:ext cx="8948880" cy="5514840"/>
        </p:xfrm>
        <a:graphic>
          <a:graphicData uri="http://schemas.openxmlformats.org/drawingml/2006/table">
            <a:tbl>
              <a:tblPr/>
              <a:tblGrid>
                <a:gridCol w="2236680"/>
                <a:gridCol w="2238480"/>
                <a:gridCol w="2236680"/>
                <a:gridCol w="2237040"/>
              </a:tblGrid>
              <a:tr h="36612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1440" marR="9144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r>
              <a:tr h="158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Ámbito de ac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aisl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ncentran, encierra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l medio natural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ilimit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tegran sin cesar nuevos element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individuo (Aunque puede ser guiado formando parte de colectivo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s particulares per indistintos</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157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ibertad</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 Constreñida</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daga su operación (Intereses, deseos, etc.)</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indagación sobre su operación, guiada por un maestro</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79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ugar de las normas en la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Modelo normativo previ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usca ajustar el comportamiento a las normas (Carácter prescriptiv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orm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s distribuciones de casos permiten especificar lo “normal”</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 norma se determina a posteriori</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s normaliz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i normación si normalización son relevant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úsqueda abierta</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a:noFill/>
                    </a:lnB>
                    <a:noFill/>
                  </a:tcPr>
                </a:tc>
              </a:tr>
            </a:tbl>
          </a:graphicData>
        </a:graphic>
      </p:graphicFrame>
      <p:sp>
        <p:nvSpPr>
          <p:cNvPr id="167"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
          <p:cNvGraphicFramePr/>
          <p:nvPr/>
        </p:nvGraphicFramePr>
        <p:xfrm>
          <a:off x="88920" y="69840"/>
          <a:ext cx="8948880" cy="5210280"/>
        </p:xfrm>
        <a:graphic>
          <a:graphicData uri="http://schemas.openxmlformats.org/drawingml/2006/table">
            <a:tbl>
              <a:tblPr/>
              <a:tblGrid>
                <a:gridCol w="2236680"/>
                <a:gridCol w="2237040"/>
                <a:gridCol w="2238120"/>
                <a:gridCol w="2237040"/>
              </a:tblGrid>
              <a:tr h="36612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0000" marR="9000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r>
              <a:tr h="3501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rma de regulación o control</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difica lo que se debe hacer, lo obligatorio y lo prohibi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Imposición homogéne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Vigilancia individualizada (Con pautas genérica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mplementa su incidencia a través de disciplinas psi</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busca que los comportamientos o eventos sean deseables o indeseabl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nticipa lo que puede ocurrir</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la población (Gobierno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cción a distancia, sin requerir contact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conocimiento científico- social</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reflexión, revisión personal, exámen de conciencia, desciframiento de si mismo, como base para su transform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cuenta on la ayuda de maestros o expertos que orientan la búsqued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disciplinas psi</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Uso de reglament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Garamond"/>
                        </a:rPr>
                        <a:t>- Se reglamenta todo</a:t>
                      </a:r>
                      <a:endParaRPr b="1" lang="en-US" sz="1400" spc="-1" strike="noStrike">
                        <a:solidFill>
                          <a:srgbClr val="ffffff"/>
                        </a:solidFill>
                        <a:latin typeface="Garamon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69"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549000"/>
            <a:ext cx="8229600" cy="557676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soberano refiere a una relación de poder que liga al soberano y al súbdito según un par de relaciones asimétricas: por un lado la sustracción, por otro el gasto. </a:t>
            </a: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sustracción siempre se impone con mucho al gasto, y la disimetría es tan grande que, detrás de esa relación de soberanía y el par disimétrico sustracción – gasto, se perfila con claridad la depredación, el saqueo, la guer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3 Marcador de contenido" descr=""/>
          <p:cNvPicPr/>
          <p:nvPr/>
        </p:nvPicPr>
        <p:blipFill>
          <a:blip r:embed="rId1"/>
          <a:stretch/>
        </p:blipFill>
        <p:spPr>
          <a:xfrm>
            <a:off x="1335240" y="692280"/>
            <a:ext cx="6473520" cy="5433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428760"/>
            <a:ext cx="8229600" cy="5697360"/>
          </a:xfrm>
          <a:prstGeom prst="rect">
            <a:avLst/>
          </a:prstGeom>
          <a:noFill/>
          <a:ln w="0">
            <a:noFill/>
          </a:ln>
        </p:spPr>
        <p:txBody>
          <a:bodyPr anchor="t">
            <a:normAutofit fontScale="87000"/>
          </a:bodyPr>
          <a:p>
            <a:pPr marL="298440" indent="-2984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800" spc="-1" strike="noStrike">
                <a:solidFill>
                  <a:srgbClr val="ffffff"/>
                </a:solidFill>
                <a:latin typeface="Garamond"/>
              </a:rPr>
              <a:t>Michel Foucault, entre otros autores contribuyó a eliminar la creencia en la existencia de los objetos naturales. “</a:t>
            </a:r>
            <a:r>
              <a:rPr b="1" i="1" lang="es-ES" sz="2800" spc="-1" strike="noStrike">
                <a:solidFill>
                  <a:srgbClr val="ffffff"/>
                </a:solidFill>
                <a:latin typeface="Garamond"/>
              </a:rPr>
              <a:t>Un objeto nunca es exterior a las prácticas que lo construyen, a las estrategias que lo conforman. La genealogía nos muestra no sólo las matrices jurídico-religiosas de producción de verdad: encuesta, examen confesión, sino también sus metamorfosis en nuestra contemporaneidad” (Recio, 198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33000"/>
            <a:ext cx="8229600" cy="5792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relación soberana siempre lleva la marca de una anterioridad fundado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exista algo como un derecho divino, una conquista, una victoria, un acto de sumisión, un juramento de fidelidad, un acto concertado entre el soberano que otorga privilegios, una ayuda, una protec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a relación debe de reactualizarse, generalmente a través de la ceremonia, el ritual y también el relat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actualizada por gestos, marcas, hábitos, insignias, etc.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á dada de una vez por todas pero al mismo tiempo es frágil, susceptible de caducidad, de ruptu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333000"/>
            <a:ext cx="8229600" cy="579276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laciones de soberanía no son isotópicas. Se entrelazan unas con otras de una manera que hace imposible establecer entre ellas un sistema tal que la jerarquía sea exhaustiva y planificada.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gnifica que carecen de una medida común; son heterogéneas entre sí.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620280"/>
            <a:ext cx="8229600" cy="550548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relación de soberanía es una relación en la cual el elemento-sujeto no es tanto –no es casi nunca- un individuo, un cuerpo individual. Esta no se aplica a una singularidad somática sino a multiplicidades que, de alguna forma, están por encima de la individualidad corporal: a familias, usuarios o, al contrario, a fragmentos, aspectos de la individualidad, de la singularidad somátic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9:42Z</dcterms:modified>
  <cp:revision>90</cp:revision>
  <dc:subject/>
  <dc:title>Los Grupos de Discusión como Técnica de Investigación Cualitativa</dc:title>
</cp:coreProperties>
</file>