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4D2-8E96-446E-BB25-C0BDF4D2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EB2-D9E1-4681-921A-FDCE8AA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20E-D987-41D7-A197-6E48B548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A89-79A6-4293-9AE2-F75F6657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242-89C7-4282-A66A-BB7D721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355-BDD3-4B53-A51D-DC4522A7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FC6-CAA2-41A7-B073-2A895A3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E13-8E07-4B6F-8E47-6919D3A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199-6D3E-40F4-9E8F-3727EBA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98C-AFE0-482D-BA92-E44DBF3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842-50D3-4D7F-B52D-15E459F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1E5-56A4-4A20-AC16-7428FFA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FF518-45B0-4089-833E-40FECD17455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HEGEL Y EL TRABAJO NEGATIVO DEL CONCEP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2"/>
          <p:cNvPicPr/>
          <p:nvPr/>
        </p:nvPicPr>
        <p:blipFill>
          <a:blip r:embed="rId1"/>
          <a:stretch/>
        </p:blipFill>
        <p:spPr>
          <a:xfrm>
            <a:off x="2841480" y="1438200"/>
            <a:ext cx="345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Calibri"/>
              </a:rPr>
              <a:t>LA CRÍ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La crítica al dualismo filosófico y al dualismo kantiano entre noumeno y fenómeno → son incapaces de comprender la relación </a:t>
            </a:r>
            <a:r>
              <a:rPr b="1" lang="es-MX" sz="3200" spc="-1" strike="noStrike">
                <a:solidFill>
                  <a:srgbClr val="333333"/>
                </a:solidFill>
                <a:latin typeface="Calibri"/>
              </a:rPr>
              <a:t>finito / in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El dualismo, al separar como 2 dominios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≠s lo finito y lo infinito,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convierte el último en un concepto parcial, limitado por lo finito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→ un infinito fin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LA CRÍTICA HEGELIANA AL PRINCIPI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Una adecuada comprensión de la relación entre lo finito y lo infinito requiere poder efectuar siempre el tránsito de lo finito a lo infinito; concebir el finito como un momento de lo infin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Toda manifestación particular es un momento del movimiento de superación hacia lo Univer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Crítica al principio de identidad o de la no-contradicción de la lógic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Superación del dualismo hacia un monismo que prioriza lo infinito, lo universal, el Espír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Calibri"/>
              </a:rPr>
              <a:t>LA CRÍTICA HEGELIANA A LA LÓGICA 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lógica formal compromete no sólo aspectos formales, sino que implic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alibri"/>
              </a:rPr>
              <a:t>inmutabilidad del ser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Desde la inmutabilidad no es posible explicar el devenir, el cambio histó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Calibri"/>
              </a:rPr>
              <a:t>La dialéctica hegeliana procura superar los límites del dualismo filosófico y de la lógica formal tradicion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La Fenomenología del Espíritu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  180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Ciencia de la Lógica.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1812/181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LA DIALÉC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1. la identidad del pensamiento y del mundo objetivo a través de la primacía de la 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. crítica al principio de ident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1f497d"/>
                </a:solidFill>
                <a:latin typeface="Calibri"/>
              </a:rPr>
              <a:t>3. crítica de la realidad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Calibri"/>
              </a:rPr>
              <a:t>4. la dialéctica de la re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6:03Z</dcterms:created>
  <dc:creator>Teresa Matus</dc:creator>
  <dc:description/>
  <dc:language>en-US</dc:language>
  <cp:lastModifiedBy>Teresa Matus</cp:lastModifiedBy>
  <dcterms:modified xsi:type="dcterms:W3CDTF">2015-08-16T09:47:30Z</dcterms:modified>
  <cp:revision>1</cp:revision>
  <dc:subject/>
  <dc:title>HEGEL Y EL TRABAJO NEGATIVO DEL CONCEPTO</dc:title>
</cp:coreProperties>
</file>