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DE0-EB9B-4568-89CE-28E666B0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8F6-4518-426A-B43E-47626B12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727-0C3F-430B-8F10-E73AF47A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33D-E340-40BF-B079-26E8E6B2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DD1-D221-40E3-89D2-95D53565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02B-1280-47A3-A19E-E1B62E35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AC6-6346-4E1B-BB36-600D137C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D3B-699A-4865-86B9-DD003B5E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950-F9D8-4FF1-A714-0849347C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440-1A05-4570-961D-3A29260B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222-D400-4898-936A-E0852DFA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62C-69BB-4F62-83BE-76E5C4A2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AC3A1-B349-4C71-B19F-3D762C0E9F7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Calibri"/>
              </a:rPr>
              <a:t>HEGEL Y EL TRABAJO NEGATIVO DEL CONCEP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Sin título2"/>
          <p:cNvPicPr/>
          <p:nvPr/>
        </p:nvPicPr>
        <p:blipFill>
          <a:blip r:embed="rId1"/>
          <a:stretch/>
        </p:blipFill>
        <p:spPr>
          <a:xfrm>
            <a:off x="2841480" y="1438200"/>
            <a:ext cx="345456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3300"/>
                </a:solidFill>
                <a:latin typeface="Calibri"/>
              </a:rPr>
              <a:t>LA CRÍTICA HEGELI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La crítica al dualismo filosófico y al dualismo kantiano entre noumeno y fenómeno → son incapaces de comprender la relación </a:t>
            </a:r>
            <a:r>
              <a:rPr b="1" lang="es-MX" sz="3200" spc="-1" strike="noStrike">
                <a:solidFill>
                  <a:srgbClr val="333333"/>
                </a:solidFill>
                <a:latin typeface="Calibri"/>
              </a:rPr>
              <a:t>finito / infin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El dualismo, al separar como 2 dominios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  <a:ea typeface="Arial"/>
              </a:rPr>
              <a:t>≠s lo finito y lo infinito,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</a:rPr>
              <a:t>convierte el último en un concepto parcial, limitado por lo finito </a:t>
            </a:r>
            <a:r>
              <a:rPr b="0" lang="es-MX" sz="3200" spc="-1" strike="noStrike">
                <a:solidFill>
                  <a:srgbClr val="333333"/>
                </a:solidFill>
                <a:latin typeface="Calibri"/>
                <a:ea typeface="Arial"/>
              </a:rPr>
              <a:t>→ un infinito fini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Calibri"/>
              </a:rPr>
              <a:t>LA CRÍTICA HEGELIANA AL PRINCIPI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Una adecuada comprensión de la relación entre lo finito y lo infinito requiere poder efectuar siempre el tránsito de lo finito a lo infinito; concebir el finito como un momento de lo infini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Toda manifestación particular es un momento del movimiento de superación hacia lo Univer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Crítica al principio de identidad o de la no-contradicción de la lógica form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1c1c1c"/>
                </a:solidFill>
                <a:latin typeface="Calibri"/>
              </a:rPr>
              <a:t>Superación del dualismo hacia un monismo que prioriza lo infinito, lo universal, el Espír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Calibri"/>
              </a:rPr>
              <a:t>LA CRÍTICA HEGELIANA A LA LÓGICA F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a lógica formal compromete no sólo aspectos formales, sino que implica la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Calibri"/>
              </a:rPr>
              <a:t>inmutabilidad del ser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Desde la inmutabilidad no es posible explicar el devenir, el cambio históric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Calibri"/>
              </a:rPr>
              <a:t>La dialéctica hegeliana procura superar los límites del dualismo filosófico y de la lógica formal tradicion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La Fenomenología del Espíritu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.  180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Ciencia de la Lógica.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1812/181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LA DIALÉCTICA HEGELI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1. la identidad del pensamiento y del mundo objetivo a través de la primacía de la 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2. crítica al principio de ident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1f497d"/>
                </a:solidFill>
                <a:latin typeface="Calibri"/>
              </a:rPr>
              <a:t>3. crítica de la realidad in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8000"/>
                </a:solidFill>
                <a:latin typeface="Calibri"/>
              </a:rPr>
              <a:t>4. la dialéctica de la re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6:03Z</dcterms:created>
  <dc:creator>Teresa Matus</dc:creator>
  <dc:description/>
  <dc:language>en-US</dc:language>
  <cp:lastModifiedBy>Teresa Matus</cp:lastModifiedBy>
  <dcterms:modified xsi:type="dcterms:W3CDTF">2015-08-16T09:47:30Z</dcterms:modified>
  <cp:revision>1</cp:revision>
  <dc:subject/>
  <dc:title>HEGEL Y EL TRABAJO NEGATIVO DEL CONCEPTO</dc:title>
</cp:coreProperties>
</file>