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D86-7037-489E-BF6D-4EA536C4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BAA-81CD-4235-85C6-DC3A3BAD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0E1-B4BB-4945-B9DA-C0D2A50C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EE8-3DE8-48F0-A45E-920E1F11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094-0AF8-48A7-B840-AE6E025B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302-8F92-43C8-BBDD-A59BCAF2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657-ED74-436C-A832-401139AE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1ED-A8A7-4217-B7A1-C2287233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5EC-DFE5-479E-B3F4-A6204105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9B0-D1D5-4D3F-9812-025F7B5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353-F778-4101-99D4-E8E2D656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E30-8707-4814-ADB3-9F19BB32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77B76-7F82-43D9-A34E-447CF5A3C51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HEGEL Y EL TRABAJO NEGATIVO DEL CONCEP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Sin título2"/>
          <p:cNvPicPr/>
          <p:nvPr/>
        </p:nvPicPr>
        <p:blipFill>
          <a:blip r:embed="rId1"/>
          <a:stretch/>
        </p:blipFill>
        <p:spPr>
          <a:xfrm>
            <a:off x="2841480" y="1438200"/>
            <a:ext cx="34545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3300"/>
                </a:solidFill>
                <a:latin typeface="Calibri"/>
              </a:rPr>
              <a:t>LA CRÍ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La crítica al dualismo filosófico y al dualismo kantiano entre noumeno y fenómeno → son incapaces de comprender la relación </a:t>
            </a:r>
            <a:r>
              <a:rPr b="1" lang="es-MX" sz="3200" spc="-1" strike="noStrike">
                <a:solidFill>
                  <a:srgbClr val="333333"/>
                </a:solidFill>
                <a:latin typeface="Calibri"/>
              </a:rPr>
              <a:t>finito / infin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El dualismo, al separar como 2 dominios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≠s lo finito y lo infinito,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convierte el último en un concepto parcial, limitado por lo finito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→ un infinito fin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LA CRÍTICA HEGELIANA AL PRINCIPI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Una adecuada comprensión de la relación entre lo finito y lo infinito requiere poder efectuar siempre el tránsito de lo finito a lo infinito; concebir el finito como un momento de lo infin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Toda manifestación particular es un momento del movimiento de superación hacia lo Univer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Crítica al principio de identidad o de la no-contradicción de la lógica for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Superación del dualismo hacia un monismo que prioriza lo infinito, lo universal, el Espír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Calibri"/>
              </a:rPr>
              <a:t>LA CRÍTICA HEGELIANA A LA LÓGICA F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lógica formal compromete no sólo aspectos formales, sino que implica l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alibri"/>
              </a:rPr>
              <a:t>inmutabilidad del ser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Desde la inmutabilidad no es posible explicar el devenir, el cambio histór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Calibri"/>
              </a:rPr>
              <a:t>La dialéctica hegeliana procura superar los límites del dualismo filosófico y de la lógica formal tradicion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La Fenomenología del Espíritu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  180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Ciencia de la Lógica.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1812/181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LA DIALÉC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1. la identidad del pensamiento y del mundo objetivo a través de la primacía de la 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2. crítica al principio de ident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1f497d"/>
                </a:solidFill>
                <a:latin typeface="Calibri"/>
              </a:rPr>
              <a:t>3. crítica de la realidad in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8000"/>
                </a:solidFill>
                <a:latin typeface="Calibri"/>
              </a:rPr>
              <a:t>4. la dialéctica de la re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6:03Z</dcterms:created>
  <dc:creator>Teresa Matus</dc:creator>
  <dc:description/>
  <dc:language>en-US</dc:language>
  <cp:lastModifiedBy>Teresa Matus</cp:lastModifiedBy>
  <dcterms:modified xsi:type="dcterms:W3CDTF">2015-08-16T09:47:30Z</dcterms:modified>
  <cp:revision>1</cp:revision>
  <dc:subject/>
  <dc:title>HEGEL Y EL TRABAJO NEGATIVO DEL CONCEPTO</dc:title>
</cp:coreProperties>
</file>