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B629-9AF0-4FF1-97AB-98F0C544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7367-F66E-4589-BDD6-E65C307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3936-72F8-490A-8214-58736074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549B-CFDC-463D-99BA-514B4CE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539-2FA8-435C-9A9D-8208AA28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A9E9-7404-415E-860B-D9D82CC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9EE2-A4C8-4204-8C4F-18B24917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C71B-6CF5-4C78-BCA3-B4720D9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63E-2B54-46A6-A1C0-730194E8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AF0-9DD9-48B1-A4EE-3D7E35C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68F7-369D-4270-9793-7146D62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A4A7-0EEF-42E6-87EF-7C7C25F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0D99-3090-45C7-81E6-3EDAD67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5F0-EF21-4C7E-AEF8-6747634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1AD7-556A-4938-A031-1A341168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64E0-962C-4C13-A482-32B8AF85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605-5061-47F8-86BD-A5BD5728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D6A0-610E-476D-891B-9C6E28D7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2BFF-D5A1-427C-A156-1333897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0A92-9B37-45B5-AFA7-33B9CB3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7965-6AF1-47A0-BD35-49A061C4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0F15-AAAA-457F-8A1D-E1380F5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D7DF-8727-4813-91B6-85C016A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6C6D-5641-4FED-83C0-0E84AC7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B039-6BBE-4FB0-B808-8C1CCCCEDB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FF4-E59A-49F9-895C-70D9ADB0829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dfdef6"/>
                </a:solidFill>
                <a:latin typeface="Arial"/>
              </a:rPr>
              <a:t>Teoría sistema Luhman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portes para la comprensión de la influencia de la ciencia en la polític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Sistema político y Sistema Cienci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 aportar en la toma de decisiones de una manera colectivamente vincul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cencial sería el construir y obtener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alítico o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tensión de univers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que horizonte ético se puede resp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ersidad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uhmann fragmenta la racionalidad perdiendo la unidad de e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Niklas Luhman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eve reseña biográfic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8" descr="luhmann"/>
          <p:cNvPicPr/>
          <p:nvPr/>
        </p:nvPicPr>
        <p:blipFill>
          <a:blip r:embed="rId1"/>
          <a:stretch/>
        </p:blipFill>
        <p:spPr>
          <a:xfrm>
            <a:off x="5867280" y="2205000"/>
            <a:ext cx="2737080" cy="3114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1"/>
          <p:cNvSpPr/>
          <p:nvPr/>
        </p:nvSpPr>
        <p:spPr>
          <a:xfrm>
            <a:off x="611280" y="2276640"/>
            <a:ext cx="4105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ació en Lüneburg, Baja Sajonia, Alemania, en 192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tudia en Harvard donde conoce a (1960-61)  Talcott Parsons , que ejerce una influencia significativa en su pensa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1968 se establece en Bielefeld, hasta el final de su carrer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ismo año, con ocasión del decimosexto Congreso Alemán de Sociología, celebrado en Francfort, mantuvo un debate teórico con Habermas, recogido en Theorie der Gesellschaft oder Sozialtechnologi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emio Hegel en 1988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alleció en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SISTEMA ENTORN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2843280" y="1916280"/>
            <a:ext cx="3600360" cy="64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PER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4643280" y="3213000"/>
            <a:ext cx="0" cy="3240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8"/>
          <p:cNvSpPr txBox="1"/>
          <p:nvPr/>
        </p:nvSpPr>
        <p:spPr>
          <a:xfrm rot="5400000">
            <a:off x="5039640" y="468936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STE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4" name="WordArt 9"/>
          <p:cNvSpPr txBox="1"/>
          <p:nvPr/>
        </p:nvSpPr>
        <p:spPr>
          <a:xfrm rot="5400000">
            <a:off x="1439280" y="468936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TOR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4643280" y="3286080"/>
            <a:ext cx="0" cy="324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955080" y="35211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lej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7"/>
          <p:cNvSpPr/>
          <p:nvPr/>
        </p:nvSpPr>
        <p:spPr>
          <a:xfrm>
            <a:off x="971640" y="1916280"/>
            <a:ext cx="3024000" cy="93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ema v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1295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788000" y="476280"/>
            <a:ext cx="4038480" cy="720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626920" y="422100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USURA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1043280" y="335772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TOPOI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2268360" y="5157720"/>
            <a:ext cx="422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TORRE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16"/>
          <p:cNvSpPr/>
          <p:nvPr/>
        </p:nvSpPr>
        <p:spPr>
          <a:xfrm rot="5400000">
            <a:off x="6299280" y="3356640"/>
            <a:ext cx="719280" cy="1584360"/>
          </a:xfrm>
          <a:prstGeom prst="upArrow">
            <a:avLst>
              <a:gd name="adj1" fmla="val 50000"/>
              <a:gd name="adj2" fmla="val 5506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7"/>
          <p:cNvSpPr/>
          <p:nvPr/>
        </p:nvSpPr>
        <p:spPr>
          <a:xfrm rot="6901800">
            <a:off x="5364360" y="4004280"/>
            <a:ext cx="719280" cy="1584360"/>
          </a:xfrm>
          <a:prstGeom prst="upArrow">
            <a:avLst>
              <a:gd name="adj1" fmla="val 50000"/>
              <a:gd name="adj2" fmla="val 5506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78920" y="2924280"/>
            <a:ext cx="4038840" cy="30225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7"/>
          <p:cNvSpPr/>
          <p:nvPr/>
        </p:nvSpPr>
        <p:spPr>
          <a:xfrm>
            <a:off x="2987640" y="3141720"/>
            <a:ext cx="3095640" cy="158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DAS POR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1332000" y="1413000"/>
            <a:ext cx="3024000" cy="93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ema v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7598520" y="3933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9"/>
          <p:cNvSpPr/>
          <p:nvPr/>
        </p:nvSpPr>
        <p:spPr>
          <a:xfrm>
            <a:off x="6662880" y="50133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0"/>
          <p:cNvSpPr/>
          <p:nvPr/>
        </p:nvSpPr>
        <p:spPr>
          <a:xfrm>
            <a:off x="61128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TIDO CUALIDAD DE SISTEMASS SOCIALES Y PSIQU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3"/>
          <p:cNvSpPr/>
          <p:nvPr/>
        </p:nvSpPr>
        <p:spPr>
          <a:xfrm>
            <a:off x="179280" y="1413000"/>
            <a:ext cx="2592360" cy="4533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4"/>
          <p:cNvSpPr/>
          <p:nvPr/>
        </p:nvSpPr>
        <p:spPr>
          <a:xfrm>
            <a:off x="250920" y="270828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7"/>
          <p:cNvSpPr/>
          <p:nvPr/>
        </p:nvSpPr>
        <p:spPr>
          <a:xfrm>
            <a:off x="250920" y="364500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8"/>
          <p:cNvSpPr/>
          <p:nvPr/>
        </p:nvSpPr>
        <p:spPr>
          <a:xfrm>
            <a:off x="250920" y="465300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3"/>
          <p:cNvSpPr/>
          <p:nvPr/>
        </p:nvSpPr>
        <p:spPr>
          <a:xfrm>
            <a:off x="3059280" y="1844640"/>
            <a:ext cx="2808000" cy="453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34"/>
          <p:cNvSpPr/>
          <p:nvPr/>
        </p:nvSpPr>
        <p:spPr>
          <a:xfrm>
            <a:off x="3276720" y="321300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5"/>
          <p:cNvSpPr/>
          <p:nvPr/>
        </p:nvSpPr>
        <p:spPr>
          <a:xfrm>
            <a:off x="6300720" y="2060640"/>
            <a:ext cx="2592360" cy="4533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 psíqu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36"/>
          <p:cNvSpPr/>
          <p:nvPr/>
        </p:nvSpPr>
        <p:spPr>
          <a:xfrm>
            <a:off x="6372360" y="335592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37"/>
          <p:cNvSpPr/>
          <p:nvPr/>
        </p:nvSpPr>
        <p:spPr>
          <a:xfrm>
            <a:off x="6372360" y="429264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38"/>
          <p:cNvSpPr/>
          <p:nvPr/>
        </p:nvSpPr>
        <p:spPr>
          <a:xfrm>
            <a:off x="6372360" y="5300640"/>
            <a:ext cx="2305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43"/>
          <p:cNvSpPr/>
          <p:nvPr/>
        </p:nvSpPr>
        <p:spPr>
          <a:xfrm>
            <a:off x="3276720" y="443700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44"/>
          <p:cNvSpPr/>
          <p:nvPr/>
        </p:nvSpPr>
        <p:spPr>
          <a:xfrm>
            <a:off x="3276720" y="5373720"/>
            <a:ext cx="2305080" cy="503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61128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STEMAS PSIQUICOS Y SISTEMA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¿Por qué comunicación y no acció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12" descr="j0286034"/>
          <p:cNvPicPr/>
          <p:nvPr/>
        </p:nvPicPr>
        <p:blipFill>
          <a:blip r:embed="rId1"/>
          <a:stretch/>
        </p:blipFill>
        <p:spPr>
          <a:xfrm>
            <a:off x="8224920" y="3860640"/>
            <a:ext cx="919080" cy="88596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0"/>
          <p:cNvGrpSpPr/>
          <p:nvPr/>
        </p:nvGrpSpPr>
        <p:grpSpPr>
          <a:xfrm>
            <a:off x="395280" y="1628640"/>
            <a:ext cx="2521080" cy="4533840"/>
            <a:chOff x="395280" y="1628640"/>
            <a:chExt cx="2521080" cy="4533840"/>
          </a:xfrm>
        </p:grpSpPr>
        <p:sp>
          <p:nvSpPr>
            <p:cNvPr id="558" name="Rectangle 6"/>
            <p:cNvSpPr/>
            <p:nvPr/>
          </p:nvSpPr>
          <p:spPr>
            <a:xfrm>
              <a:off x="395280" y="1628640"/>
              <a:ext cx="2521080" cy="453384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Arial"/>
                </a:rPr>
                <a:t>Sistema soci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590400" y="299700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590400" y="422100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590400" y="5157720"/>
              <a:ext cx="2069280" cy="503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2" name="Picture 14" descr="j0299125"/>
          <p:cNvPicPr/>
          <p:nvPr/>
        </p:nvPicPr>
        <p:blipFill>
          <a:blip r:embed="rId2"/>
          <a:stretch/>
        </p:blipFill>
        <p:spPr>
          <a:xfrm>
            <a:off x="2987640" y="3429000"/>
            <a:ext cx="11001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563" name="Group 27"/>
          <p:cNvGrpSpPr/>
          <p:nvPr/>
        </p:nvGrpSpPr>
        <p:grpSpPr>
          <a:xfrm>
            <a:off x="4284720" y="3037680"/>
            <a:ext cx="3744720" cy="2491560"/>
            <a:chOff x="4284720" y="3037680"/>
            <a:chExt cx="3744720" cy="2491560"/>
          </a:xfrm>
        </p:grpSpPr>
        <p:sp>
          <p:nvSpPr>
            <p:cNvPr id="564" name="AutoShape 16"/>
            <p:cNvSpPr/>
            <p:nvPr/>
          </p:nvSpPr>
          <p:spPr>
            <a:xfrm flipH="1">
              <a:off x="5292720" y="4797360"/>
              <a:ext cx="2160720" cy="503280"/>
            </a:xfrm>
            <a:prstGeom prst="leftArrow">
              <a:avLst>
                <a:gd name="adj1" fmla="val 50000"/>
                <a:gd name="adj2" fmla="val 107332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responder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7"/>
            <p:cNvSpPr/>
            <p:nvPr/>
          </p:nvSpPr>
          <p:spPr>
            <a:xfrm>
              <a:off x="4932360" y="3357720"/>
              <a:ext cx="2160720" cy="647640"/>
            </a:xfrm>
            <a:prstGeom prst="leftArrow">
              <a:avLst>
                <a:gd name="adj1" fmla="val 50000"/>
                <a:gd name="adj2" fmla="val 8340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mis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19"/>
            <p:cNvSpPr/>
            <p:nvPr/>
          </p:nvSpPr>
          <p:spPr>
            <a:xfrm>
              <a:off x="4284720" y="3860640"/>
              <a:ext cx="1152360" cy="9367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nten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67" name="AutoShape 20"/>
            <p:cNvCxnSpPr>
              <a:stCxn id="566" idx="0"/>
              <a:endCxn id="568" idx="0"/>
            </p:cNvCxnSpPr>
            <p:nvPr/>
          </p:nvCxnSpPr>
          <p:spPr>
            <a:xfrm flipH="1" flipV="1" rot="5400000">
              <a:off x="6085440" y="2564280"/>
              <a:ext cx="72000" cy="2521440"/>
            </a:xfrm>
            <a:prstGeom prst="curvedConnector5">
              <a:avLst>
                <a:gd name="adj1" fmla="val 1148743"/>
                <a:gd name="adj2" fmla="val 49992"/>
                <a:gd name="adj3" fmla="val 1148743"/>
              </a:avLst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69" name="AutoShape 21"/>
            <p:cNvCxnSpPr>
              <a:stCxn id="564" idx="0"/>
              <a:endCxn id="566" idx="4"/>
            </p:cNvCxnSpPr>
            <p:nvPr/>
          </p:nvCxnSpPr>
          <p:spPr>
            <a:xfrm flipV="1" rot="16200000">
              <a:off x="5635080" y="4022280"/>
              <a:ext cx="504000" cy="2053080"/>
            </a:xfrm>
            <a:prstGeom prst="curvedConnector5">
              <a:avLst>
                <a:gd name="adj1" fmla="val -45389"/>
                <a:gd name="adj2" fmla="val 50000"/>
                <a:gd name="adj3" fmla="val -45389"/>
              </a:avLst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68" name="Oval 22"/>
            <p:cNvSpPr/>
            <p:nvPr/>
          </p:nvSpPr>
          <p:spPr>
            <a:xfrm>
              <a:off x="6732720" y="3789360"/>
              <a:ext cx="1296720" cy="9367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AutoShape 23"/>
          <p:cNvSpPr/>
          <p:nvPr/>
        </p:nvSpPr>
        <p:spPr>
          <a:xfrm>
            <a:off x="3203640" y="1628640"/>
            <a:ext cx="1152360" cy="1008360"/>
          </a:xfrm>
          <a:prstGeom prst="cloudCallout">
            <a:avLst>
              <a:gd name="adj1" fmla="val -21074"/>
              <a:gd name="adj2" fmla="val 114879"/>
            </a:avLst>
          </a:prstGeom>
          <a:solidFill>
            <a:srgbClr val="ffff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>
            <a:off x="7667640" y="1844640"/>
            <a:ext cx="1152360" cy="1008000"/>
          </a:xfrm>
          <a:prstGeom prst="cloudCallout">
            <a:avLst>
              <a:gd name="adj1" fmla="val 34023"/>
              <a:gd name="adj2" fmla="val 136773"/>
            </a:avLst>
          </a:prstGeom>
          <a:solidFill>
            <a:srgbClr val="ffff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4211640" y="3429000"/>
            <a:ext cx="0" cy="208764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8101080" y="3213000"/>
            <a:ext cx="0" cy="208764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Carácter evolutivo de la diferenci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2344320" y="1844640"/>
            <a:ext cx="5848560" cy="3313080"/>
            <a:chOff x="2344320" y="1844640"/>
            <a:chExt cx="5848560" cy="3313080"/>
          </a:xfrm>
        </p:grpSpPr>
        <p:sp>
          <p:nvSpPr>
            <p:cNvPr id="576" name="Line 5"/>
            <p:cNvSpPr/>
            <p:nvPr/>
          </p:nvSpPr>
          <p:spPr>
            <a:xfrm>
              <a:off x="6032520" y="1844640"/>
              <a:ext cx="0" cy="324000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WordArt 6"/>
            <p:cNvSpPr txBox="1"/>
            <p:nvPr/>
          </p:nvSpPr>
          <p:spPr>
            <a:xfrm rot="5400000">
              <a:off x="6429240" y="3321000"/>
              <a:ext cx="2879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8" name="WordArt 7"/>
            <p:cNvSpPr txBox="1"/>
            <p:nvPr/>
          </p:nvSpPr>
          <p:spPr>
            <a:xfrm rot="5400000">
              <a:off x="2828520" y="3321000"/>
              <a:ext cx="2879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6032520" y="1917720"/>
              <a:ext cx="0" cy="324000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2344320" y="215244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0"/>
          <p:cNvGrpSpPr/>
          <p:nvPr/>
        </p:nvGrpSpPr>
        <p:grpSpPr>
          <a:xfrm>
            <a:off x="2055240" y="4437000"/>
            <a:ext cx="1445760" cy="1440000"/>
            <a:chOff x="2055240" y="4437000"/>
            <a:chExt cx="1445760" cy="1440000"/>
          </a:xfrm>
        </p:grpSpPr>
        <p:sp>
          <p:nvSpPr>
            <p:cNvPr id="582" name="Line 11"/>
            <p:cNvSpPr/>
            <p:nvPr/>
          </p:nvSpPr>
          <p:spPr>
            <a:xfrm>
              <a:off x="2882160" y="4437000"/>
              <a:ext cx="0" cy="140832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WordArt 12"/>
            <p:cNvSpPr txBox="1"/>
            <p:nvPr/>
          </p:nvSpPr>
          <p:spPr>
            <a:xfrm rot="5400000">
              <a:off x="2669760" y="5146560"/>
              <a:ext cx="1251720" cy="14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4" name="WordArt 13"/>
            <p:cNvSpPr txBox="1"/>
            <p:nvPr/>
          </p:nvSpPr>
          <p:spPr>
            <a:xfrm rot="5400000">
              <a:off x="1859040" y="5146560"/>
              <a:ext cx="1251720" cy="145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2882160" y="4468680"/>
              <a:ext cx="0" cy="140832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15"/>
            <p:cNvSpPr/>
            <p:nvPr/>
          </p:nvSpPr>
          <p:spPr>
            <a:xfrm>
              <a:off x="2055240" y="456984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16"/>
          <p:cNvGrpSpPr/>
          <p:nvPr/>
        </p:nvGrpSpPr>
        <p:grpSpPr>
          <a:xfrm>
            <a:off x="543600" y="2565360"/>
            <a:ext cx="2444040" cy="1440000"/>
            <a:chOff x="543600" y="2565360"/>
            <a:chExt cx="2444040" cy="1440000"/>
          </a:xfrm>
        </p:grpSpPr>
        <p:sp>
          <p:nvSpPr>
            <p:cNvPr id="588" name="Line 17"/>
            <p:cNvSpPr/>
            <p:nvPr/>
          </p:nvSpPr>
          <p:spPr>
            <a:xfrm>
              <a:off x="2084040" y="2565360"/>
              <a:ext cx="0" cy="140832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WordArt 18"/>
            <p:cNvSpPr txBox="1"/>
            <p:nvPr/>
          </p:nvSpPr>
          <p:spPr>
            <a:xfrm rot="5400000">
              <a:off x="2226240" y="3212280"/>
              <a:ext cx="1251720" cy="27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0" name="WordArt 19"/>
            <p:cNvSpPr txBox="1"/>
            <p:nvPr/>
          </p:nvSpPr>
          <p:spPr>
            <a:xfrm rot="5400000">
              <a:off x="720360" y="3212280"/>
              <a:ext cx="1251720" cy="27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2084040" y="2597040"/>
              <a:ext cx="0" cy="140832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21"/>
            <p:cNvSpPr/>
            <p:nvPr/>
          </p:nvSpPr>
          <p:spPr>
            <a:xfrm>
              <a:off x="543600" y="269820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Group 22"/>
          <p:cNvGrpSpPr/>
          <p:nvPr/>
        </p:nvGrpSpPr>
        <p:grpSpPr>
          <a:xfrm>
            <a:off x="955080" y="5229360"/>
            <a:ext cx="1445760" cy="1152360"/>
            <a:chOff x="955080" y="5229360"/>
            <a:chExt cx="1445760" cy="1152360"/>
          </a:xfrm>
        </p:grpSpPr>
        <p:sp>
          <p:nvSpPr>
            <p:cNvPr id="594" name="Line 23"/>
            <p:cNvSpPr/>
            <p:nvPr/>
          </p:nvSpPr>
          <p:spPr>
            <a:xfrm>
              <a:off x="1463400" y="5229360"/>
              <a:ext cx="0" cy="1127160"/>
            </a:xfrm>
            <a:prstGeom prst="line">
              <a:avLst/>
            </a:prstGeom>
            <a:ln w="76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WordArt 24"/>
            <p:cNvSpPr txBox="1"/>
            <p:nvPr/>
          </p:nvSpPr>
          <p:spPr>
            <a:xfrm rot="5400000">
              <a:off x="1217160" y="5810400"/>
              <a:ext cx="1001520" cy="89640"/>
            </a:xfrm>
            <a:prstGeom prst="rect">
              <a:avLst/>
            </a:prstGeom>
          </p:spPr>
          <p:txBody>
            <a:bodyPr wrap="none" lIns="90000" rIns="90000" tIns="43200" bIns="432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ISTE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WordArt 25"/>
            <p:cNvSpPr txBox="1"/>
            <p:nvPr/>
          </p:nvSpPr>
          <p:spPr>
            <a:xfrm rot="5400000">
              <a:off x="717120" y="5810400"/>
              <a:ext cx="1001520" cy="89640"/>
            </a:xfrm>
            <a:prstGeom prst="rect">
              <a:avLst/>
            </a:prstGeom>
          </p:spPr>
          <p:txBody>
            <a:bodyPr wrap="none" lIns="90000" rIns="90000" tIns="43200" bIns="432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TO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1463400" y="5254560"/>
              <a:ext cx="0" cy="112716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27"/>
            <p:cNvSpPr/>
            <p:nvPr/>
          </p:nvSpPr>
          <p:spPr>
            <a:xfrm>
              <a:off x="955080" y="5335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omplej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4"/>
          <p:cNvSpPr/>
          <p:nvPr/>
        </p:nvSpPr>
        <p:spPr>
          <a:xfrm>
            <a:off x="1908000" y="5157720"/>
            <a:ext cx="6985080" cy="1511280"/>
          </a:xfrm>
          <a:prstGeom prst="rect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cionalmente diferenc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Diferenciación de la Socieda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1" name="Group 16"/>
          <p:cNvGrpSpPr/>
          <p:nvPr/>
        </p:nvGrpSpPr>
        <p:grpSpPr>
          <a:xfrm>
            <a:off x="826920" y="1628640"/>
            <a:ext cx="6624720" cy="2087640"/>
            <a:chOff x="826920" y="1628640"/>
            <a:chExt cx="6624720" cy="2087640"/>
          </a:xfrm>
        </p:grpSpPr>
        <p:sp>
          <p:nvSpPr>
            <p:cNvPr id="602" name="Oval 4"/>
            <p:cNvSpPr/>
            <p:nvPr/>
          </p:nvSpPr>
          <p:spPr>
            <a:xfrm>
              <a:off x="826920" y="2205000"/>
              <a:ext cx="1584360" cy="115272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egment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 flipV="1">
              <a:off x="2340000" y="2133720"/>
              <a:ext cx="1727280" cy="358560"/>
            </a:xfrm>
            <a:prstGeom prst="line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4140360" y="1628640"/>
              <a:ext cx="2808000" cy="79236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tera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"/>
            <p:cNvSpPr/>
            <p:nvPr/>
          </p:nvSpPr>
          <p:spPr>
            <a:xfrm>
              <a:off x="2340000" y="2997360"/>
              <a:ext cx="1798560" cy="288720"/>
            </a:xfrm>
            <a:prstGeom prst="line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5"/>
            <p:cNvSpPr/>
            <p:nvPr/>
          </p:nvSpPr>
          <p:spPr>
            <a:xfrm>
              <a:off x="4211640" y="2781360"/>
              <a:ext cx="3240000" cy="93492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gual principio de formación de sistema parc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Group 19"/>
          <p:cNvGrpSpPr/>
          <p:nvPr/>
        </p:nvGrpSpPr>
        <p:grpSpPr>
          <a:xfrm>
            <a:off x="898920" y="2997000"/>
            <a:ext cx="2575800" cy="2003400"/>
            <a:chOff x="898920" y="2997000"/>
            <a:chExt cx="2575800" cy="2003400"/>
          </a:xfrm>
        </p:grpSpPr>
        <p:sp>
          <p:nvSpPr>
            <p:cNvPr id="608" name="Oval 17"/>
            <p:cNvSpPr/>
            <p:nvPr/>
          </p:nvSpPr>
          <p:spPr>
            <a:xfrm>
              <a:off x="1111680" y="3742200"/>
              <a:ext cx="2363040" cy="1258200"/>
            </a:xfrm>
            <a:prstGeom prst="ellipse">
              <a:avLst/>
            </a:prstGeom>
            <a:solidFill>
              <a:srgbClr val="6666ff"/>
            </a:solidFill>
            <a:ln w="69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Jerárquica entre est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9" name="AutoShape 18"/>
            <p:cNvCxnSpPr>
              <a:stCxn id="602" idx="3"/>
              <a:endCxn id="608" idx="2"/>
            </p:cNvCxnSpPr>
            <p:nvPr/>
          </p:nvCxnSpPr>
          <p:spPr>
            <a:xfrm flipH="1" rot="16200000">
              <a:off x="298800" y="3597120"/>
              <a:ext cx="1375560" cy="175320"/>
            </a:xfrm>
            <a:prstGeom prst="curvedConnector2">
              <a:avLst/>
            </a:prstGeom>
            <a:ln w="698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10" name="Oval 30"/>
          <p:cNvSpPr/>
          <p:nvPr/>
        </p:nvSpPr>
        <p:spPr>
          <a:xfrm>
            <a:off x="2627280" y="551664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31"/>
          <p:cNvSpPr/>
          <p:nvPr/>
        </p:nvSpPr>
        <p:spPr>
          <a:xfrm>
            <a:off x="421164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32"/>
          <p:cNvSpPr/>
          <p:nvPr/>
        </p:nvSpPr>
        <p:spPr>
          <a:xfrm>
            <a:off x="572436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33"/>
          <p:cNvSpPr/>
          <p:nvPr/>
        </p:nvSpPr>
        <p:spPr>
          <a:xfrm>
            <a:off x="7308720" y="5589720"/>
            <a:ext cx="1440000" cy="1081080"/>
          </a:xfrm>
          <a:prstGeom prst="ellipse">
            <a:avLst/>
          </a:prstGeom>
          <a:solidFill>
            <a:srgbClr val="6666ff"/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entí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3:47:18Z</dcterms:created>
  <dc:creator>andrea y kenmin</dc:creator>
  <dc:description/>
  <dc:language>en-US</dc:language>
  <cp:lastModifiedBy>Teresa Matus</cp:lastModifiedBy>
  <dcterms:modified xsi:type="dcterms:W3CDTF">2015-08-16T09:26:24Z</dcterms:modified>
  <cp:revision>11</cp:revision>
  <dc:subject/>
  <dc:title>Teoría sistema Luhman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