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7075-9811-43CC-8F2A-C9D313931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8A03-DD1B-4F0D-8E76-FED263C1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68B3-9D79-493F-8858-B2364916B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BF52-7654-4ADB-B260-A8B88A2C2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AB95-BCE9-4F43-9C08-E8A103E1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35A3-0F70-4C8A-8440-FD975731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4206-5154-4169-91C0-BEBDEF4B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D8BD-C205-4CA7-8285-B79DA24B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59DC-7D97-455F-850C-90C88E23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2EB2-28A6-4AF9-9CD8-9314D447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6F8D-E0C2-4514-A403-E31D8877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1BB3-8A85-419E-94B6-513DBE85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FCFF73-36F4-4442-BF25-DC539CE3151B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Calibri"/>
              </a:rPr>
              <a:t>HEGEL Y EL TRABAJO NEGATIVO DEL CONCEP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Sin título2"/>
          <p:cNvPicPr/>
          <p:nvPr/>
        </p:nvPicPr>
        <p:blipFill>
          <a:blip r:embed="rId1"/>
          <a:stretch/>
        </p:blipFill>
        <p:spPr>
          <a:xfrm>
            <a:off x="2841480" y="1438200"/>
            <a:ext cx="345456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4400" spc="-1" strike="noStrike">
                <a:solidFill>
                  <a:srgbClr val="003300"/>
                </a:solidFill>
                <a:latin typeface="Calibri"/>
              </a:rPr>
              <a:t>LA CRÍTICA HEGELI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200" spc="-1" strike="noStrike">
                <a:solidFill>
                  <a:srgbClr val="333333"/>
                </a:solidFill>
                <a:latin typeface="Calibri"/>
              </a:rPr>
              <a:t>La crítica al dualismo filosófico y al dualismo kantiano entre noumeno y fenómeno → son incapaces de comprender la relación </a:t>
            </a:r>
            <a:r>
              <a:rPr b="1" lang="es-MX" sz="3200" spc="-1" strike="noStrike">
                <a:solidFill>
                  <a:srgbClr val="333333"/>
                </a:solidFill>
                <a:latin typeface="Calibri"/>
              </a:rPr>
              <a:t>finito / infin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200" spc="-1" strike="noStrike">
                <a:solidFill>
                  <a:srgbClr val="333333"/>
                </a:solidFill>
                <a:latin typeface="Calibri"/>
              </a:rPr>
              <a:t>El dualismo, al separar como 2 dominios </a:t>
            </a:r>
            <a:r>
              <a:rPr b="0" lang="es-MX" sz="3200" spc="-1" strike="noStrike">
                <a:solidFill>
                  <a:srgbClr val="333333"/>
                </a:solidFill>
                <a:latin typeface="Calibri"/>
                <a:ea typeface="Arial"/>
              </a:rPr>
              <a:t>≠s lo finito y lo infinito, </a:t>
            </a:r>
            <a:r>
              <a:rPr b="0" lang="es-MX" sz="3200" spc="-1" strike="noStrike">
                <a:solidFill>
                  <a:srgbClr val="333333"/>
                </a:solidFill>
                <a:latin typeface="Calibri"/>
              </a:rPr>
              <a:t>convierte el último en un concepto parcial, limitado por lo finito </a:t>
            </a:r>
            <a:r>
              <a:rPr b="0" lang="es-MX" sz="3200" spc="-1" strike="noStrike">
                <a:solidFill>
                  <a:srgbClr val="333333"/>
                </a:solidFill>
                <a:latin typeface="Calibri"/>
                <a:ea typeface="Arial"/>
              </a:rPr>
              <a:t>→ un infinito fini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Calibri"/>
              </a:rPr>
              <a:t>LA CRÍTICA HEGELIANA AL PRINCIPIO DE IDENTID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1c1c1c"/>
                </a:solidFill>
                <a:latin typeface="Calibri"/>
              </a:rPr>
              <a:t>Una adecuada comprensión de la relación entre lo finito y lo infinito requiere poder efectuar siempre el tránsito de lo finito a lo infinito; concebir el finito como un momento de lo infini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1c1c1c"/>
                </a:solidFill>
                <a:latin typeface="Calibri"/>
              </a:rPr>
              <a:t>Toda manifestación particular es un momento del movimiento de superación hacia lo Univers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1c1c1c"/>
                </a:solidFill>
                <a:latin typeface="Calibri"/>
              </a:rPr>
              <a:t>Crítica al principio de identidad o de la no-contradicción de la lógica form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1c1c1c"/>
                </a:solidFill>
                <a:latin typeface="Calibri"/>
              </a:rPr>
              <a:t>Superación del dualismo hacia un monismo que prioriza lo infinito, lo universal, el Espíri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Calibri"/>
              </a:rPr>
              <a:t>LA CRÍTICA HEGELIANA A LA LÓGICA FORM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La lógica formal compromete no sólo aspectos formales, sino que implica la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Calibri"/>
              </a:rPr>
              <a:t>inmutabilidad del ser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Calibri"/>
              </a:rPr>
              <a:t>Desde la inmutabilidad no es posible explicar el devenir, el cambio históric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Calibri"/>
              </a:rPr>
              <a:t>La dialéctica hegeliana procura superar los límites del dualismo filosófico y de la lógica formal tradicion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Calibri"/>
              </a:rPr>
              <a:t>La Fenomenología del Espíritu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.  1807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Calibri"/>
              </a:rPr>
              <a:t>Ciencia de la Lógica.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 1812/1816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Calibri"/>
              </a:rPr>
              <a:t>LA DIALÉCTICA HEGELI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1. la identidad del pensamiento y del mundo objetivo a través de la primacía de la C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Calibri"/>
              </a:rPr>
              <a:t>2. crítica al principio de identid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200" spc="-1" strike="noStrike">
                <a:solidFill>
                  <a:srgbClr val="1f497d"/>
                </a:solidFill>
                <a:latin typeface="Calibri"/>
              </a:rPr>
              <a:t>3. crítica de la realidad inmedi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200" spc="-1" strike="noStrike">
                <a:solidFill>
                  <a:srgbClr val="008000"/>
                </a:solidFill>
                <a:latin typeface="Calibri"/>
              </a:rPr>
              <a:t>4. la dialéctica de la real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6T09:46:03Z</dcterms:created>
  <dc:creator>Teresa Matus</dc:creator>
  <dc:description/>
  <dc:language>en-US</dc:language>
  <cp:lastModifiedBy>Teresa Matus</cp:lastModifiedBy>
  <dcterms:modified xsi:type="dcterms:W3CDTF">2015-08-16T09:47:30Z</dcterms:modified>
  <cp:revision>1</cp:revision>
  <dc:subject/>
  <dc:title>HEGEL Y EL TRABAJO NEGATIVO DEL CONCEPTO</dc:title>
</cp:coreProperties>
</file>