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252-DE20-4A01-B115-A0AD0063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BEC-437F-4B4F-8AC8-29AA78EC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C15-DF87-4C64-8A80-22445917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865-8138-4359-A630-EAA91F63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1F2-C877-46EC-A6BF-2B75C791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903-1D5C-4C3E-90E5-F06CFFDD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EC7-A4E3-4CD9-9C28-B09D8765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A35-6EC1-4353-8167-411865EB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2C6-90C0-49BB-849E-53096C07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4BB-E805-426A-9E88-C22D6ED3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4A5-620F-4747-8225-EF29DA87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495-8404-48C5-A386-9DB9B4DC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5F60A-3AB2-45D7-B01A-AB9E03E372A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Calibri"/>
              </a:rPr>
              <a:t>HEGEL Y EL TRABAJO NEGATIVO DEL CONCEP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Sin título2"/>
          <p:cNvPicPr/>
          <p:nvPr/>
        </p:nvPicPr>
        <p:blipFill>
          <a:blip r:embed="rId1"/>
          <a:stretch/>
        </p:blipFill>
        <p:spPr>
          <a:xfrm>
            <a:off x="2841480" y="1438200"/>
            <a:ext cx="34545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3300"/>
                </a:solidFill>
                <a:latin typeface="Calibri"/>
              </a:rPr>
              <a:t>LA CRÍTICA HEGELI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La crítica al dualismo filosófico y al dualismo kantiano entre noumeno y fenómeno → son incapaces de comprender la relación </a:t>
            </a:r>
            <a:r>
              <a:rPr b="1" lang="es-MX" sz="3200" spc="-1" strike="noStrike">
                <a:solidFill>
                  <a:srgbClr val="333333"/>
                </a:solidFill>
                <a:latin typeface="Calibri"/>
              </a:rPr>
              <a:t>finito / infin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El dualismo, al separar como 2 dominios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  <a:ea typeface="Arial"/>
              </a:rPr>
              <a:t>≠s lo finito y lo infinito,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convierte el último en un concepto parcial, limitado por lo finito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  <a:ea typeface="Arial"/>
              </a:rPr>
              <a:t>→ un infinito fini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Calibri"/>
              </a:rPr>
              <a:t>LA CRÍTICA HEGELIANA AL PRINCIPI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Una adecuada comprensión de la relación entre lo finito y lo infinito requiere poder efectuar siempre el tránsito de lo finito a lo infinito; concebir el finito como un momento de lo infini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Toda manifestación particular es un momento del movimiento de superación hacia lo Univer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Crítica al principio de identidad o de la no-contradicción de la lógica for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Superación del dualismo hacia un monismo que prioriza lo infinito, lo universal, el Espíri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Calibri"/>
              </a:rPr>
              <a:t>LA CRÍTICA HEGELIANA A LA LÓGICA F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La lógica formal compromete no sólo aspectos formales, sino que implica la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alibri"/>
              </a:rPr>
              <a:t>inmutabilidad del ser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Desde la inmutabilidad no es posible explicar el devenir, el cambio históric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Calibri"/>
              </a:rPr>
              <a:t>La dialéctica hegeliana procura superar los límites del dualismo filosófico y de la lógica formal tradicion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La Fenomenología del Espíritu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.  180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Ciencia de la Lógica.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1812/181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LA DIALÉCTICA HEGELI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1. la identidad del pensamiento y del mundo objetivo a través de la primacía de la 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2. crítica al principio de ident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1f497d"/>
                </a:solidFill>
                <a:latin typeface="Calibri"/>
              </a:rPr>
              <a:t>3. crítica de la realidad inmed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8000"/>
                </a:solidFill>
                <a:latin typeface="Calibri"/>
              </a:rPr>
              <a:t>4. la dialéctica de la re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46:03Z</dcterms:created>
  <dc:creator>Teresa Matus</dc:creator>
  <dc:description/>
  <dc:language>en-US</dc:language>
  <cp:lastModifiedBy>Teresa Matus</cp:lastModifiedBy>
  <dcterms:modified xsi:type="dcterms:W3CDTF">2015-08-16T09:47:30Z</dcterms:modified>
  <cp:revision>1</cp:revision>
  <dc:subject/>
  <dc:title>HEGEL Y EL TRABAJO NEGATIVO DEL CONCEPTO</dc:title>
</cp:coreProperties>
</file>