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BC6-F49B-432B-8EB7-8036C4FB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24B-171B-486C-9B3B-3355632F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293-708E-4F47-BEAB-80521195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CDA-E7A0-4207-9E23-92B285F1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D98F-2646-4A9D-9FB8-B3B7ECCD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C59A-2C01-47EE-9BD9-967E4F9F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78D3-E08F-4F55-BAE3-82D6A349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2C2B-55F9-40A8-80AD-749CE2E8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14F2-48CF-4327-BF85-9EB49469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A3CB-D6A8-4630-BC26-C41C4CC0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2724-F31E-426C-B03C-38982ECA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7E4-A8B2-4CC0-8C31-AE20BA15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1A6C-10E6-41A2-8A03-AECF6CC8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2589-680E-438B-BABD-AACE89BA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A2AA-5CB4-4523-9CB7-F82E82A8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5F67-BBB5-4156-9DA3-10B9763D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7D6F-0A3B-4FCE-9383-1F6D56EF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9FE-F153-4D0D-B7C2-8D15E745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DA0-D21E-4D5E-ADF4-725B9DED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887-2950-4D1E-B1DA-1CB6478A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796-421D-4450-96A0-60498A7B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9A2-FBFC-4B02-9F97-AE507493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769-2AD8-40BC-805A-2715BCB0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464D-EB4F-4ACC-B5D5-9CD0BF9B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6C191-7FBE-47D8-9B4A-E29A1DD7CC9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C0838-C1BF-4C23-8A42-8A0A3877A0B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333333"/>
                </a:solidFill>
                <a:latin typeface="Calibri"/>
              </a:rPr>
              <a:t>KANT Y LA SÍNTESIS TRASCENDEN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Sin título33"/>
          <p:cNvPicPr/>
          <p:nvPr/>
        </p:nvPicPr>
        <p:blipFill>
          <a:blip r:embed="rId1"/>
          <a:stretch/>
        </p:blipFill>
        <p:spPr>
          <a:xfrm>
            <a:off x="2841480" y="1438200"/>
            <a:ext cx="3522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932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8000"/>
                </a:solidFill>
                <a:latin typeface="Calibri"/>
              </a:rPr>
              <a:t>EL RACIONALISMO CRÍTICO DE      K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Calibri"/>
              </a:rPr>
              <a:t>     </a:t>
            </a:r>
            <a:r>
              <a:rPr b="1" lang="es-MX" sz="2400" spc="-1" strike="noStrike" u="sng">
                <a:solidFill>
                  <a:srgbClr val="0000ff"/>
                </a:solidFill>
                <a:uFillTx/>
                <a:latin typeface="Calibri"/>
              </a:rPr>
              <a:t>La síntesis kanti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r>
              <a:rPr b="0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1. La cs ordena, organiza y estructura la experiencia, que alcanza unidad : conocimiento sinté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2. Síntesis entre el racionalismo cartesiano y el empirismo de Hume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Calibri"/>
              </a:rPr>
              <a:t>  </a:t>
            </a:r>
            <a:r>
              <a:rPr b="1" lang="es-MX" sz="2400" spc="-1" strike="noStrike" u="sng">
                <a:solidFill>
                  <a:srgbClr val="ff0000"/>
                </a:solidFill>
                <a:uFillTx/>
                <a:latin typeface="Calibri"/>
              </a:rPr>
              <a:t>El análisis de los ju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alibri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  <a:ea typeface="Arial"/>
              </a:rPr>
              <a:t>Juicios a posteriori y juicios a pri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  <a:ea typeface="Arial"/>
              </a:rPr>
              <a:t>2. Juicios analíticos y juicios sinté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j0234686"/>
          <p:cNvPicPr/>
          <p:nvPr/>
        </p:nvPicPr>
        <p:blipFill>
          <a:blip r:embed="rId1"/>
          <a:stretch/>
        </p:blipFill>
        <p:spPr>
          <a:xfrm>
            <a:off x="5940360" y="4797360"/>
            <a:ext cx="1133640" cy="120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ff9900"/>
                </a:solidFill>
                <a:latin typeface="Calibri"/>
              </a:rPr>
              <a:t>LA ESTRUCTURA PREDICATIVA DE LOS JUIC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484280"/>
          <a:ext cx="8229600" cy="518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33"/>
                        </a:buClr>
                        <a:buFont typeface="Arial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 fundan en la ex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33"/>
                        </a:buClr>
                        <a:buFont typeface="Arial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Univ. y neces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33"/>
                        </a:buClr>
                        <a:buFont typeface="Arial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edicado = sujeto/no aportan 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33"/>
                        </a:buClr>
                        <a:buFont typeface="Arial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edicado </a:t>
                      </a: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≠ </a:t>
                      </a: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ujeto/ aportan 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JUICIOS A POSTERIO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JUICIOS A PRIO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(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UICIOS ANALÍT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EXIS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IO DE CONTRADI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UICIOS SINTÉT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IO ORGANIZATIVO DE LA CONCI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Calibri"/>
              </a:rPr>
              <a:t>LA ESTRUCTURA DE LA CONCIENCIA Y LA EXPERIENCIA EN K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Calibri"/>
              </a:rPr>
              <a:t>1.</a:t>
            </a:r>
            <a:r>
              <a:rPr b="0" lang="es-MX" sz="24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0" lang="es-MX" sz="2400" spc="-1" strike="noStrike" u="sng">
                <a:solidFill>
                  <a:srgbClr val="333300"/>
                </a:solidFill>
                <a:uFillTx/>
                <a:latin typeface="Calibri"/>
              </a:rPr>
              <a:t>2 elementos a prior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Formas puras de la intuición/ sensibi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Espacio 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y T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iem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Calibri"/>
              <a:buAutoNum type="alphaL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Categorías a priori: tipos ≠s de relaciones o juicios → 4 categorías (12 sub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 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cantidad/calid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 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relación/  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modal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Calibri"/>
              </a:rPr>
              <a:t>2. La experiencia es posible por la capacidad de acometer la unidad sintética, un orden, en el cual la relación sujeto-objeto se for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3.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Las cosas que se manifiestan en la experiencia humana y que pueden ser conocidos 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→ 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fenómen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4.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Las cosas-en-sí, las que quedan fuera de la acción estructuradora de la CS, están fuera de los límites del conocimiento </a:t>
            </a:r>
            <a:r>
              <a:rPr b="0" lang="es-MX" sz="2400" spc="-1" strike="noStrike">
                <a:solidFill>
                  <a:srgbClr val="333300"/>
                </a:solidFill>
                <a:latin typeface="Calibri"/>
              </a:rPr>
              <a:t>→ 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</a:rPr>
              <a:t>noume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43:32Z</dcterms:created>
  <dc:creator>Teresa Matus</dc:creator>
  <dc:description/>
  <dc:language>en-US</dc:language>
  <cp:lastModifiedBy>Teresa Matus</cp:lastModifiedBy>
  <dcterms:modified xsi:type="dcterms:W3CDTF">2015-08-16T09:45:25Z</dcterms:modified>
  <cp:revision>1</cp:revision>
  <dc:subject/>
  <dc:title>KANT Y LA SÍNTESIS TRASCENDENTAL</dc:title>
</cp:coreProperties>
</file>