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76D-D91A-405F-8277-3F2E6C053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FC02-D265-43CE-8814-523858E5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83F7-8247-4B40-9464-079601519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A2C-56CC-4FD6-808F-EE402D8B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FE1-68E1-47FB-95E2-E07EFB69B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BEC6-A1A3-4196-97EC-F2D9AEA2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AF63B-8DEF-4987-A145-77C232C0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3C5D-59DA-45B8-927E-B022EEAF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657-EB13-4983-9AD3-BA96F46A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89DF-A422-4786-909A-4FF68A840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1DD-E173-49B4-A90D-F8D6E74D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975-CF45-4991-8114-178CDF57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0D6F-7916-46F3-BBEC-34EA0FE5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FCA4-E987-4860-8B0A-631EE1D2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82959-7338-4EBA-9562-D4B16C763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B712-5F18-4BC8-BA80-173ED774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A28B9-FFF7-4784-BFE1-D37BBDB0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AB74-89CE-4001-9838-5C7B1427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760-E5B5-47F6-BEA8-4EF0EFE5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F13-5194-422F-B97C-CA745848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14BA-BC51-437A-9BCD-45F2CC9E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A873-074F-4F52-8579-1F72543E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C9ED-EA7D-4896-A0CE-08AF7D9BA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38B36-D0E8-4535-8904-F242DF3D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B8D93-3DC3-47A7-AE9F-15A9966B608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8E0087-CB88-4358-8EA3-B201BE5D2761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4000" spc="-1" strike="noStrike">
                <a:solidFill>
                  <a:srgbClr val="333333"/>
                </a:solidFill>
                <a:latin typeface="Calibri"/>
              </a:rPr>
              <a:t>KANT Y LA SÍNTESIS TRASCENDENT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5" descr="Sin título33"/>
          <p:cNvPicPr/>
          <p:nvPr/>
        </p:nvPicPr>
        <p:blipFill>
          <a:blip r:embed="rId1"/>
          <a:stretch/>
        </p:blipFill>
        <p:spPr>
          <a:xfrm>
            <a:off x="2841480" y="1438200"/>
            <a:ext cx="3522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932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008000"/>
                </a:solidFill>
                <a:latin typeface="Calibri"/>
              </a:rPr>
              <a:t>EL RACIONALISMO CRÍTICO DE      KA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Calibri"/>
              </a:rPr>
              <a:t>     </a:t>
            </a:r>
            <a:r>
              <a:rPr b="1" lang="es-MX" sz="2400" spc="-1" strike="noStrike" u="sng">
                <a:solidFill>
                  <a:srgbClr val="0000ff"/>
                </a:solidFill>
                <a:uFillTx/>
                <a:latin typeface="Calibri"/>
              </a:rPr>
              <a:t>La síntesis kantia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1. La cs ordena, organiza y estructura la experiencia, que alcanza unidad : conocimiento sintét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	</a:t>
            </a:r>
            <a:r>
              <a:rPr b="1" lang="es-MX" sz="2400" spc="-1" strike="noStrike">
                <a:solidFill>
                  <a:srgbClr val="0000ff"/>
                </a:solidFill>
                <a:latin typeface="Calibri"/>
                <a:ea typeface="Arial"/>
              </a:rPr>
              <a:t>2. Síntesis entre el racionalismo cartesiano y el empirismo de Hume</a:t>
            </a:r>
            <a:r>
              <a:rPr b="1" lang="es-MX" sz="2400" spc="-1" strike="noStrike">
                <a:solidFill>
                  <a:srgbClr val="ffffff"/>
                </a:solidFill>
                <a:latin typeface="Calibri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9900"/>
                </a:solidFill>
                <a:latin typeface="Calibri"/>
              </a:rPr>
              <a:t>  </a:t>
            </a:r>
            <a:r>
              <a:rPr b="1" lang="es-MX" sz="2400" spc="-1" strike="noStrike" u="sng">
                <a:solidFill>
                  <a:srgbClr val="ff0000"/>
                </a:solidFill>
                <a:uFillTx/>
                <a:latin typeface="Calibri"/>
              </a:rPr>
              <a:t>El análisis de los juici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      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Juicios a posteriori y juicios a prior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Calibri"/>
                <a:ea typeface="Arial"/>
              </a:rPr>
              <a:t>2. Juicios analíticos y juicios sintét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8" descr="j0234686"/>
          <p:cNvPicPr/>
          <p:nvPr/>
        </p:nvPicPr>
        <p:blipFill>
          <a:blip r:embed="rId1"/>
          <a:stretch/>
        </p:blipFill>
        <p:spPr>
          <a:xfrm>
            <a:off x="5940360" y="4797360"/>
            <a:ext cx="1133640" cy="1209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600" spc="-1" strike="noStrike">
                <a:solidFill>
                  <a:srgbClr val="ff9900"/>
                </a:solidFill>
                <a:latin typeface="Calibri"/>
              </a:rPr>
              <a:t>LA ESTRUCTURA PREDICATIVA DE LOS JUIC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8229600" cy="5189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70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e fundan en la ex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Univ. y necesari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edicado = sujeto/no aportan 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533520" indent="-533520"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333333"/>
                        </a:buClr>
                        <a:buFont typeface="Arial"/>
                        <a:buAutoNum type="alphaU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Predicado </a:t>
                      </a: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  <a:ea typeface="Arial"/>
                        </a:rPr>
                        <a:t>≠ </a:t>
                      </a:r>
                      <a:r>
                        <a:rPr b="1" lang="es-MX" sz="1600" spc="-1" strike="noStrike">
                          <a:solidFill>
                            <a:srgbClr val="333333"/>
                          </a:solidFill>
                          <a:latin typeface="Arial"/>
                        </a:rPr>
                        <a:t>sujeto/ aportan C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UICIOS A POSTERI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JUICIOS A PRIO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UICIOS ANALÍT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IST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IO DE CONTRADIC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7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JUICIOS SINTÉTIC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IPIO ORGANIZATIVO DE LA CONCIE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Calibri"/>
              </a:rPr>
              <a:t>LA ESTRUCTURA DE LA CONCIENCIA Y LA EXPERIENCIA EN K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1.</a:t>
            </a: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400" spc="-1" strike="noStrike" u="sng">
                <a:solidFill>
                  <a:srgbClr val="333300"/>
                </a:solidFill>
                <a:uFillTx/>
                <a:latin typeface="Calibri"/>
              </a:rPr>
              <a:t>2 elementos a priori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Calibri"/>
              <a:buAutoNum type="alphaL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Formas puras de la intuición/ sensibilid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Espacio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y T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iemp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 algn="just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Calibri"/>
              <a:buAutoNum type="alphaLcParenR" startAt="2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Categorías a priori: tipos ≠s de relaciones o juicios → 4 categorías (12 sub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cantidad/calidad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relación/ 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modalida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2. La experiencia es posible por la capacidad de acometer la unidad sintética, un orden, en el cual la relación sujeto-objeto se for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3.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</a:rPr>
              <a:t>Las cosas que se manifiestan en la experiencia humana y que pueden ser conocidos 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→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fenómeno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4.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	</a:t>
            </a:r>
            <a:r>
              <a:rPr b="0" lang="es-MX" sz="2000" spc="-1" strike="noStrike">
                <a:solidFill>
                  <a:srgbClr val="333300"/>
                </a:solidFill>
                <a:latin typeface="Calibri"/>
                <a:ea typeface="Arial"/>
              </a:rPr>
              <a:t>Las cosas-en-sí, las que quedan fuera de la acción estructuradora de la CS, están fuera de los límites del conocimiento </a:t>
            </a:r>
            <a:r>
              <a:rPr b="0" lang="es-MX" sz="2400" spc="-1" strike="noStrike">
                <a:solidFill>
                  <a:srgbClr val="333300"/>
                </a:solidFill>
                <a:latin typeface="Calibri"/>
              </a:rPr>
              <a:t>→ </a:t>
            </a:r>
            <a:r>
              <a:rPr b="1" lang="es-MX" sz="2000" spc="-1" strike="noStrike">
                <a:solidFill>
                  <a:srgbClr val="333300"/>
                </a:solidFill>
                <a:latin typeface="Calibri"/>
              </a:rPr>
              <a:t>noumen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43:32Z</dcterms:created>
  <dc:creator>Teresa Matus</dc:creator>
  <dc:description/>
  <dc:language>en-US</dc:language>
  <cp:lastModifiedBy>Teresa Matus</cp:lastModifiedBy>
  <dcterms:modified xsi:type="dcterms:W3CDTF">2015-08-16T09:45:25Z</dcterms:modified>
  <cp:revision>1</cp:revision>
  <dc:subject/>
  <dc:title>KANT Y LA SÍNTESIS TRASCENDENTAL</dc:title>
</cp:coreProperties>
</file>