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87E-40B8-4DC7-8270-DF38370E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8EA-B487-4F2E-A35E-8D5CF60A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EF7-CCDE-49EE-B099-9A5518B6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A7C-797C-495E-B4EF-28DE04E6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5E6-A7DC-4093-9DE5-25BE7A62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86C-8E69-4E2E-9A93-0342BB68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A1F3-0ED2-475A-864B-1B8C7C2A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D27-1310-45CF-AE66-2E3F936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731C-DDF8-421B-971A-C7DA4EB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368-0CAE-4082-8C73-B6A36987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EB68-3EF7-438F-8226-1594390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B7B-B558-4958-9881-05826435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08D-9EC9-4AD8-AE25-88131F1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0330-BF2D-418A-8B3E-DF0711A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3C1-37A5-4046-B10B-2D2A02B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FB28-E13E-484B-9522-0ED38568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957-609F-4B77-93CF-C605E352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C8F-F2CE-4148-B114-4845CB4F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D3E-31AF-4B87-B17E-0F01D798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E6A-CA26-4039-AB20-3A03F79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A4F-1A80-49AB-9C7C-7232B4A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A6D-64DD-41DA-8D93-7511956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875-4745-4167-8F67-F40C853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F2E-D861-4D0F-9992-56A3C1C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477F3-8D94-462C-A8C7-7FF9C77076A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C1102-C127-4F3B-ABEB-D601D4AC883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333333"/>
                </a:solidFill>
                <a:latin typeface="Calibri"/>
              </a:rPr>
              <a:t>KANT Y LA SÍNTESIS TRASCENDEN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Sin título33"/>
          <p:cNvPicPr/>
          <p:nvPr/>
        </p:nvPicPr>
        <p:blipFill>
          <a:blip r:embed="rId1"/>
          <a:stretch/>
        </p:blipFill>
        <p:spPr>
          <a:xfrm>
            <a:off x="2841480" y="1438200"/>
            <a:ext cx="3522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932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8000"/>
                </a:solidFill>
                <a:latin typeface="Calibri"/>
              </a:rPr>
              <a:t>EL RACIONALISMO CRÍTICO DE      K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   </a:t>
            </a:r>
            <a:r>
              <a:rPr b="1" lang="es-MX" sz="2400" spc="-1" strike="noStrike" u="sng">
                <a:solidFill>
                  <a:srgbClr val="0000ff"/>
                </a:solidFill>
                <a:uFillTx/>
                <a:latin typeface="Calibri"/>
              </a:rPr>
              <a:t>La síntesis kanti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1. La cs ordena, organiza y estructura la experiencia, que alcanza unidad : conocimiento sint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2. Síntesis entre el racionalismo cartesiano y el empirismo de Hume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</a:t>
            </a:r>
            <a:r>
              <a:rPr b="1" lang="es-MX" sz="2400" spc="-1" strike="noStrike" u="sng">
                <a:solidFill>
                  <a:srgbClr val="ff0000"/>
                </a:solidFill>
                <a:uFillTx/>
                <a:latin typeface="Calibri"/>
              </a:rPr>
              <a:t>El análisis de los ju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Juicios a posteriori y juicios a pri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2. Juicios analíticos y juicios sint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j0234686"/>
          <p:cNvPicPr/>
          <p:nvPr/>
        </p:nvPicPr>
        <p:blipFill>
          <a:blip r:embed="rId1"/>
          <a:stretch/>
        </p:blipFill>
        <p:spPr>
          <a:xfrm>
            <a:off x="5940360" y="479736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Calibri"/>
              </a:rPr>
              <a:t>LA ESTRUCTURA PREDICATIVA DE LOS JU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229600" cy="518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 fundan en la ex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niv. y nec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= sujeto/no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≠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ujeto/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OSTE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ANALÍ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IS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DE CONTRADI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SINTÉ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ORGANIZATIVO DE LA CONC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Calibri"/>
              </a:rPr>
              <a:t>LA ESTRUCTURA DE LA CONCIENCIA Y LA EXPERIENCIA EN 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1.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400" spc="-1" strike="noStrike" u="sng">
                <a:solidFill>
                  <a:srgbClr val="333300"/>
                </a:solidFill>
                <a:uFillTx/>
                <a:latin typeface="Calibri"/>
              </a:rPr>
              <a:t>2 elementos a prio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Formas puras de la intuición/ sensibi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Espacio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y T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i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tegorías a priori: tipos ≠s de relaciones o juicios → 4 categorías (12 su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ntidad/calid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relación/ 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mod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2. La experiencia es posible por la capacidad de acometer la unidad sintética, un orden, en el cual la relación sujeto-objeto se for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3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Las cosas que se manifiestan en la experiencia humana y que pueden ser conocidos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fenóme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4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Las cosas-en-sí, las que quedan fuera de la acción estructuradora de la CS, están fuera de los límites del conocimiento 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</a:rPr>
              <a:t>noume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3:32Z</dcterms:created>
  <dc:creator>Teresa Matus</dc:creator>
  <dc:description/>
  <dc:language>en-US</dc:language>
  <cp:lastModifiedBy>Teresa Matus</cp:lastModifiedBy>
  <dcterms:modified xsi:type="dcterms:W3CDTF">2015-08-16T09:45:25Z</dcterms:modified>
  <cp:revision>1</cp:revision>
  <dc:subject/>
  <dc:title>KANT Y LA SÍNTESIS TRASCENDENTAL</dc:title>
</cp:coreProperties>
</file>