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FF2-FC66-4145-93CF-9484E958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7CF-3A3A-41EE-A2A0-3B42673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20C-E5AB-464A-9698-59D4559D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BC9-B093-4749-A088-06027FCD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4B9-0166-4C7F-A2F3-BFF8265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CAC-B4CD-40FF-BB26-11996549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E28-D9EA-4453-BED6-F46A04D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5B0-07EB-4295-8658-209DEFB5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E6E-5879-4416-BD05-50678AA5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958-3B7B-4CA1-8CA5-CBDD1A1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8F5-7A90-459B-AE58-F09E807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D1F-A3ED-411D-8180-D2256F5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2FA96-E740-406C-A1DD-23032940619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DESCARTES Y EL RACIONALISMO MOD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13"/>
          <p:cNvPicPr/>
          <p:nvPr/>
        </p:nvPicPr>
        <p:blipFill>
          <a:blip r:embed="rId1"/>
          <a:stretch/>
        </p:blipFill>
        <p:spPr>
          <a:xfrm>
            <a:off x="2914560" y="1438200"/>
            <a:ext cx="3595680" cy="50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El fundamento del conocimiento son las ideas innatas/      representac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El conocimiento es univers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Deducción lógica y duda metódica como proced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La unificación de la ciencia </a:t>
            </a: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→ la formalización mate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j0336744"/>
          <p:cNvPicPr/>
          <p:nvPr/>
        </p:nvPicPr>
        <p:blipFill>
          <a:blip r:embed="rId1"/>
          <a:stretch/>
        </p:blipFill>
        <p:spPr>
          <a:xfrm>
            <a:off x="622440" y="3875040"/>
            <a:ext cx="2070000" cy="15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800000"/>
                </a:solidFill>
                <a:latin typeface="Calibri"/>
              </a:rPr>
              <a:t>HUME Y EL EMPIRISMO MOD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in título24"/>
          <p:cNvPicPr/>
          <p:nvPr/>
        </p:nvPicPr>
        <p:blipFill>
          <a:blip r:embed="rId1"/>
          <a:stretch/>
        </p:blipFill>
        <p:spPr>
          <a:xfrm>
            <a:off x="2770200" y="1438200"/>
            <a:ext cx="35701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0033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se fundamenta en la experiencia e impresiones de los sent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es siempre particular/no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Inducción como proced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problema de la inducción </a:t>
            </a:r>
            <a:r>
              <a:rPr b="1" lang="es-ES" sz="2800" spc="-1" strike="noStrike">
                <a:solidFill>
                  <a:srgbClr val="660033"/>
                </a:solidFill>
                <a:latin typeface="Calibri"/>
              </a:rPr>
              <a:t>→ la imposibilidad de la universalidad del conocimi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j0223796"/>
          <p:cNvPicPr/>
          <p:nvPr/>
        </p:nvPicPr>
        <p:blipFill>
          <a:blip r:embed="rId1"/>
          <a:stretch/>
        </p:blipFill>
        <p:spPr>
          <a:xfrm>
            <a:off x="6437160" y="5156280"/>
            <a:ext cx="94320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1:55Z</dcterms:created>
  <dc:creator>Teresa Matus</dc:creator>
  <dc:description/>
  <dc:language>en-US</dc:language>
  <cp:lastModifiedBy>Teresa Matus</cp:lastModifiedBy>
  <dcterms:modified xsi:type="dcterms:W3CDTF">2015-08-16T09:43:03Z</dcterms:modified>
  <cp:revision>1</cp:revision>
  <dc:subject/>
  <dc:title>DESCARTES Y EL RACIONALISMO MODERNO</dc:title>
</cp:coreProperties>
</file>