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9F2E-8ABB-4EDB-B8E0-2BDB482D0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2636-1644-48AE-8CD1-AD7FD314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C092-03D2-4E00-9882-0DE419FA1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9172-792E-4A41-AE80-CBFD3255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9A61-2849-49C2-9971-54292E2E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91E8-8C03-4D55-A552-9E7799E3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396C-E86C-480D-8465-13746E7C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E2B6-B8E7-470F-BD8C-E73CD76F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02CC-5DAB-466E-B77F-89AFA698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B782-BB07-4796-BB59-3159C9C4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3BA1-BC0B-4FB2-AEBE-368281A1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4D84-6B7B-43A1-B86A-3487CA5E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6AA387-C4B9-4EE8-ACC6-0FC74C29DC2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Calibri"/>
              </a:rPr>
              <a:t>DESCARTES Y EL RACIONALISMO MODER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Sin título13"/>
          <p:cNvPicPr/>
          <p:nvPr/>
        </p:nvPicPr>
        <p:blipFill>
          <a:blip r:embed="rId1"/>
          <a:stretch/>
        </p:blipFill>
        <p:spPr>
          <a:xfrm>
            <a:off x="2914560" y="1438200"/>
            <a:ext cx="3595680" cy="508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Calibri"/>
              </a:rPr>
              <a:t>FUNDAMENTO Y MÉTODO DEL CONOCIMIEN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333300"/>
                </a:solidFill>
                <a:latin typeface="Calibri"/>
              </a:rPr>
              <a:t>El fundamento del conocimiento son las ideas innatas/      representacion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333300"/>
                </a:solidFill>
                <a:latin typeface="Calibri"/>
              </a:rPr>
              <a:t>El conocimiento es univers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333300"/>
                </a:solidFill>
                <a:latin typeface="Calibri"/>
              </a:rPr>
              <a:t>Deducción lógica y duda metódica como procedimien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333300"/>
                </a:solidFill>
                <a:latin typeface="Calibri"/>
              </a:rPr>
              <a:t>La unificación de la ciencia </a:t>
            </a:r>
            <a:r>
              <a:rPr b="1" lang="es-ES" sz="2800" spc="-1" strike="noStrike">
                <a:solidFill>
                  <a:srgbClr val="333300"/>
                </a:solidFill>
                <a:latin typeface="Calibri"/>
              </a:rPr>
              <a:t>→ la formalización matemá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j0336744"/>
          <p:cNvPicPr/>
          <p:nvPr/>
        </p:nvPicPr>
        <p:blipFill>
          <a:blip r:embed="rId1"/>
          <a:stretch/>
        </p:blipFill>
        <p:spPr>
          <a:xfrm>
            <a:off x="622440" y="3875040"/>
            <a:ext cx="2070000" cy="1592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4000" spc="-1" strike="noStrike">
                <a:solidFill>
                  <a:srgbClr val="800000"/>
                </a:solidFill>
                <a:latin typeface="Calibri"/>
              </a:rPr>
              <a:t>HUME Y EL EMPIRISMO MODER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Sin título24"/>
          <p:cNvPicPr/>
          <p:nvPr/>
        </p:nvPicPr>
        <p:blipFill>
          <a:blip r:embed="rId1"/>
          <a:stretch/>
        </p:blipFill>
        <p:spPr>
          <a:xfrm>
            <a:off x="2770200" y="1438200"/>
            <a:ext cx="357012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660033"/>
                </a:solidFill>
                <a:latin typeface="Calibri"/>
              </a:rPr>
              <a:t>FUNDAMENTO Y MÉTODO DEL CONOCIMIEN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660033"/>
                </a:solidFill>
                <a:latin typeface="Calibri"/>
              </a:rPr>
              <a:t>El conocimiento se fundamenta en la experiencia e impresiones de los sentid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660033"/>
                </a:solidFill>
                <a:latin typeface="Calibri"/>
              </a:rPr>
              <a:t>El conocimiento es siempre particular/no univers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660033"/>
                </a:solidFill>
                <a:latin typeface="Calibri"/>
              </a:rPr>
              <a:t>Inducción como procedimi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660033"/>
                </a:solidFill>
                <a:latin typeface="Calibri"/>
              </a:rPr>
              <a:t>El problema de la inducción </a:t>
            </a:r>
            <a:r>
              <a:rPr b="1" lang="es-ES" sz="2800" spc="-1" strike="noStrike">
                <a:solidFill>
                  <a:srgbClr val="660033"/>
                </a:solidFill>
                <a:latin typeface="Calibri"/>
              </a:rPr>
              <a:t>→ la imposibilidad de la universalidad del conocimien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j0223796"/>
          <p:cNvPicPr/>
          <p:nvPr/>
        </p:nvPicPr>
        <p:blipFill>
          <a:blip r:embed="rId1"/>
          <a:stretch/>
        </p:blipFill>
        <p:spPr>
          <a:xfrm>
            <a:off x="6437160" y="5156280"/>
            <a:ext cx="943200" cy="107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6T09:41:55Z</dcterms:created>
  <dc:creator>Teresa Matus</dc:creator>
  <dc:description/>
  <dc:language>en-US</dc:language>
  <cp:lastModifiedBy>Teresa Matus</cp:lastModifiedBy>
  <dcterms:modified xsi:type="dcterms:W3CDTF">2015-08-16T09:43:03Z</dcterms:modified>
  <cp:revision>1</cp:revision>
  <dc:subject/>
  <dc:title>DESCARTES Y EL RACIONALISMO MODERNO</dc:title>
</cp:coreProperties>
</file>