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0D-3357-4152-AD9A-0BA2B31A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AC1-062B-4EED-A50F-F7A0E7B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68C-5B48-4639-9A33-D4D2DB6F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03A-561D-412D-87E7-819F3431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674-8669-4AF0-9B17-48A32684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1A8-270F-4D23-8AF0-7A78F92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4B7-B2C4-4B6D-AA56-234E333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160-7ACB-4F9B-BB5B-A31ED45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D28-AD4D-4ECE-8135-39FCD00B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99B-1A3E-4CA9-8591-CF3F0AC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DE5-FD95-4205-B249-AF2A407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D95-285B-4E72-9E68-6A38B90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81269-73C4-4DEF-A07D-0C9B7F1A8A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DESCARTES Y EL RACIONALISMO MOD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13"/>
          <p:cNvPicPr/>
          <p:nvPr/>
        </p:nvPicPr>
        <p:blipFill>
          <a:blip r:embed="rId1"/>
          <a:stretch/>
        </p:blipFill>
        <p:spPr>
          <a:xfrm>
            <a:off x="2914560" y="1438200"/>
            <a:ext cx="3595680" cy="50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El fundamento del conocimiento son las ideas innatas/      representac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El conocimiento es univers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Deducción lógica y duda metódica como proced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La unificación de la ciencia </a:t>
            </a: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→ la formalización mate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j0336744"/>
          <p:cNvPicPr/>
          <p:nvPr/>
        </p:nvPicPr>
        <p:blipFill>
          <a:blip r:embed="rId1"/>
          <a:stretch/>
        </p:blipFill>
        <p:spPr>
          <a:xfrm>
            <a:off x="622440" y="3875040"/>
            <a:ext cx="2070000" cy="15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800000"/>
                </a:solidFill>
                <a:latin typeface="Calibri"/>
              </a:rPr>
              <a:t>HUME Y EL EMPIRISMO MOD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in título24"/>
          <p:cNvPicPr/>
          <p:nvPr/>
        </p:nvPicPr>
        <p:blipFill>
          <a:blip r:embed="rId1"/>
          <a:stretch/>
        </p:blipFill>
        <p:spPr>
          <a:xfrm>
            <a:off x="2770200" y="1438200"/>
            <a:ext cx="35701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0033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se fundamenta en la experiencia e impresiones de los sent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es siempre particular/no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Inducción como proce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problema de la inducción </a:t>
            </a:r>
            <a:r>
              <a:rPr b="1" lang="es-ES" sz="2800" spc="-1" strike="noStrike">
                <a:solidFill>
                  <a:srgbClr val="660033"/>
                </a:solidFill>
                <a:latin typeface="Calibri"/>
              </a:rPr>
              <a:t>→ la imposibilidad de la universalidad del conoci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j0223796"/>
          <p:cNvPicPr/>
          <p:nvPr/>
        </p:nvPicPr>
        <p:blipFill>
          <a:blip r:embed="rId1"/>
          <a:stretch/>
        </p:blipFill>
        <p:spPr>
          <a:xfrm>
            <a:off x="6437160" y="5156280"/>
            <a:ext cx="9432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1:55Z</dcterms:created>
  <dc:creator>Teresa Matus</dc:creator>
  <dc:description/>
  <dc:language>en-US</dc:language>
  <cp:lastModifiedBy>Teresa Matus</cp:lastModifiedBy>
  <dcterms:modified xsi:type="dcterms:W3CDTF">2015-08-16T09:43:03Z</dcterms:modified>
  <cp:revision>1</cp:revision>
  <dc:subject/>
  <dc:title>DESCARTES Y EL RACIONALISMO MODERNO</dc:title>
</cp:coreProperties>
</file>