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1C3-10D7-48B9-92E7-8E9659D6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A47-2526-47DA-8188-60FD3F2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31F-E3DB-40AA-BE6E-8845CCA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DF3-94D2-4398-A295-19078E94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38A-E92B-4F67-AB01-DC2DBA4D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914-50AF-4F0D-B4AA-2A85687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1CE-351C-47C5-B8F1-A1F09D2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669-C8A5-4C54-A5AA-AE96C60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721-724B-44CD-A77B-1A2F866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007-BA90-4A7F-92F6-692D299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7AC-8363-42BC-9599-2C19885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D89-5306-45AF-AECA-2D7B1B2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8F7C-3416-45C8-93D9-B6A3783E5EB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nuevos mapas de la epistemología en el siglo XV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984240" y="1828800"/>
          <a:ext cx="694836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1828800"/>
                    <a:ext cx="6948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6:13:31Z</dcterms:created>
  <dc:creator>trabajo social</dc:creator>
  <dc:description/>
  <dc:language>en-US</dc:language>
  <cp:lastModifiedBy>Teresa Matus</cp:lastModifiedBy>
  <dcterms:modified xsi:type="dcterms:W3CDTF">2015-08-16T09:26:48Z</dcterms:modified>
  <cp:revision>1</cp:revision>
  <dc:subject/>
  <dc:title>Los nuevos mapas de la epistemología en el siglo XVII</dc:title>
</cp:coreProperties>
</file>