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A44-371E-4758-B713-4E3C8C38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653-330F-4487-9528-333AB96F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0F2-5B44-46D2-A139-E0A05EF5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30A-E1B0-402F-A534-ED31C4B9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2AE-FECD-4C71-B208-9E14511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DE9-46EA-4704-A4EA-7223F60D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E0F-DDFB-499E-A667-43CA703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D00-B1BF-4C12-A016-4D693D03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41B-7D77-4196-9757-8528B425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6CE-16FD-43BC-BA67-4CAE23C6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1C7-A36D-4FB5-BBFA-209A4A9B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0EA-162A-4DCD-A832-1E213FB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B018-2D31-45FF-86F2-CFF0730EE39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s nuevos mapas de la epistemología en el siglo XV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984240" y="1828800"/>
          <a:ext cx="694836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1828800"/>
                    <a:ext cx="6948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6:13:31Z</dcterms:created>
  <dc:creator>trabajo social</dc:creator>
  <dc:description/>
  <dc:language>en-US</dc:language>
  <cp:lastModifiedBy>Teresa Matus</cp:lastModifiedBy>
  <dcterms:modified xsi:type="dcterms:W3CDTF">2015-08-16T09:26:48Z</dcterms:modified>
  <cp:revision>1</cp:revision>
  <dc:subject/>
  <dc:title>Los nuevos mapas de la epistemología en el siglo XVII</dc:title>
</cp:coreProperties>
</file>