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19B-D809-4D75-9BC3-AB70C0EB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48C-9615-4253-90B7-ED7C2086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7A7-16E5-4EC4-AE00-30F3643A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482-9806-46A0-A366-03F01D75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19D-5A52-4118-96F4-EF8A663B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CFA-6418-4CE3-82DF-885A812F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719-41DB-410A-93F1-E43F60E0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86E-EF84-4514-A650-99E3712C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408-CD0E-47B3-84B5-9B5AA628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198-6A63-4979-A519-FB03C59C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7DD-0869-47D2-9AE4-8A05925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4C1-F6AD-46B0-AAD2-68E05DE0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72B8-43C7-4815-830B-647BB251DA0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s nuevos mapas de la epistemología en el siglo XV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984240" y="1828800"/>
          <a:ext cx="694836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1828800"/>
                    <a:ext cx="6948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6:13:31Z</dcterms:created>
  <dc:creator>trabajo social</dc:creator>
  <dc:description/>
  <dc:language>en-US</dc:language>
  <cp:lastModifiedBy>Teresa Matus</cp:lastModifiedBy>
  <dcterms:modified xsi:type="dcterms:W3CDTF">2015-08-16T09:26:48Z</dcterms:modified>
  <cp:revision>1</cp:revision>
  <dc:subject/>
  <dc:title>Los nuevos mapas de la epistemología en el siglo XVII</dc:title>
</cp:coreProperties>
</file>