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1CF87-013C-4799-AE9D-59C91DFE5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C478-85D8-47E1-AB1F-421C88B5C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92D48-38B3-4678-A198-D11B47813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DD75F-632E-4045-936D-2526DF387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AA252-B3CD-465B-833E-EC08F1B8B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541C6-36C9-4CBA-A7F7-933CF85FB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EC98B-6DF6-4D36-842A-A014DB88D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D67AC-B9B8-41BB-834E-A7D32C0E9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D0016-14E6-4939-8C2D-72A7258D9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2C6E3-B6AD-4BBE-AB53-88F006BF3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E6711-D44C-404B-A565-2A4BCBE0E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7713D-B3F5-4CB4-AE1F-BED2A763C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0BB6A-3D32-402D-83F9-BBEEAA358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17F7-C866-4877-BB61-6378B49B6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CFDA2-5344-4D11-9FED-78B2D7AB1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5B485-B105-4F3E-BD51-41EC7F80C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DE197-7519-489D-848C-0FF5AF824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9CEFA6-9C32-4E24-8DDB-F3650CD1D7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251D9-340B-48A3-B0B2-1DBF196D9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B08E0-7DE6-4D64-B5FF-6F8087CB4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EC5790-674F-4AEB-BCE8-4D1552E89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1C3A7-DA1B-4455-B168-AD90BB5F6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C72E9-FAC8-4426-A0BD-EA8EF3B55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D5D04-F691-4F28-850B-1C6BC0FE3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891C6-745E-4EF0-9CC0-DCA6B3533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DEC3E-61CF-4781-A0B1-3A6607A3D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ECFA5-6369-446D-9CDA-DC8C66896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6B631A-F993-4FDE-8C36-483AD13E6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285ED6-524D-438F-85D0-6EDC81BE3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365E3C-A78D-49E2-95F7-587216E8B0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DC363-022B-4FAE-B031-3D9A584065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7345C-21C9-4E1C-A7BC-FB0C4E4384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110C9-09C4-4A42-82E7-BAEEB70E3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E33D-F162-4B34-9ACA-FC06CE4C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1BD0F0-55E6-4E31-AE5B-90E9F90E2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6C354-05B0-4EE7-BE21-9B58D0C9B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C8337-35A6-4990-8B7A-766E3CF05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2D1C47-7AAB-4BF6-9FC1-3F5B508E43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3ECB1-3328-4B22-957A-A1781B5FE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02637-142D-4718-83D6-8F5733EB4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AC801-D48D-4D8F-9B65-6147068D3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9C1C3A-5314-491B-B22C-34947065B3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A10837-C092-4925-BE5B-6F82B32A38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4EDB7F-9198-4BF8-BD74-7E0DA7C72D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4BFD5-0E85-41E3-ACA6-E400741F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BCF24-AB00-4409-83F3-677AF2CE41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970C1-B9EF-469B-A53B-AC66E0355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249C4-0BBE-45CD-B8F6-BA0862D1B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5F637C-D1C0-4635-BB82-B06CC1B2B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D6DCB-7F78-4B01-8935-A6133799D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240DE-44B1-48FA-B19B-B4784D3E2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BF0AF-C1E4-4671-9EEC-17F470EC0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5ECA5-CBE7-4BF4-BB69-4C212AEA4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FC4D3-636D-41DE-81E4-FBD2116141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BB9A7B-63EF-427D-99A5-CC7F1E8B3D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833FC-3D57-467D-ADDB-855696B9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717BEA-CDDB-40E5-8CF3-8FBECB1C7C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F7258-824A-4E45-8358-269FDB433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2C37-D3E1-4231-AF8C-B2430E323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D33A-6FCE-4847-A71E-A74069F23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39046-7656-4E31-A348-28163DB88ED3}" type="datetime">
              <a:rPr b="0" lang="en-US" sz="1000" spc="-1" strike="noStrike">
                <a:solidFill>
                  <a:srgbClr val="b13f9a"/>
                </a:solidFill>
                <a:latin typeface="Trebuchet MS"/>
              </a:rPr>
              <a:t>07/28/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8427C-3F98-4973-9097-8DB103329729}"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D6AA1-23C2-4843-8B80-8960BA1CBA04}" type="datetime">
              <a:rPr b="0" lang="en-US" sz="1000" spc="-1" strike="noStrike">
                <a:solidFill>
                  <a:srgbClr val="ffffff"/>
                </a:solidFill>
                <a:latin typeface="Trebuchet MS"/>
              </a:rPr>
              <a:t>07/28/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20388-C864-48E7-8A76-0615939ED76C}" type="slidenum">
              <a:rPr b="0" lang="es-ES_trad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11ED4-3D64-4F0E-B2FA-924BE1124EA7}" type="datetime">
              <a:rPr b="0" lang="en-US" sz="1000" spc="-1" strike="noStrike">
                <a:solidFill>
                  <a:srgbClr val="b13f9a"/>
                </a:solidFill>
                <a:latin typeface="Trebuchet MS"/>
              </a:rPr>
              <a:t>07/28/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E2AA9-B0B3-4CE4-BD60-18A8A1A5DF11}"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4e7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2B088-2EF8-4B16-ADEB-EECE8C6DFD81}" type="datetime">
              <a:rPr b="0" lang="en-US" sz="1000" spc="-1" strike="noStrike">
                <a:solidFill>
                  <a:srgbClr val="f4e7ed"/>
                </a:solidFill>
                <a:latin typeface="Trebuchet MS"/>
              </a:rPr>
              <a:t>07/28/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f4e7ed"/>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F76B2-C0A2-4DD1-96C0-699970A02C4D}" type="slidenum">
              <a:rPr b="0" lang="es-ES_trad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E8122-DCF3-47E5-86DA-5CEE76B6857D}" type="datetime">
              <a:rPr b="0" lang="en-US" sz="1000" spc="-1" strike="noStrike">
                <a:solidFill>
                  <a:srgbClr val="b13f9a"/>
                </a:solidFill>
                <a:latin typeface="Trebuchet MS"/>
              </a:rPr>
              <a:t>07/28/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C5545-138A-4BFC-8C81-85F2C4ED4665}"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689040" y="0"/>
            <a:ext cx="8047080" cy="3932280"/>
          </a:xfrm>
          <a:prstGeom prst="rect">
            <a:avLst/>
          </a:prstGeom>
          <a:ln w="0">
            <a:noFill/>
          </a:ln>
        </p:spPr>
      </p:pic>
      <p:sp>
        <p:nvSpPr>
          <p:cNvPr id="221" name="PlaceHolder 1"/>
          <p:cNvSpPr>
            <a:spLocks noGrp="1"/>
          </p:cNvSpPr>
          <p:nvPr>
            <p:ph type="subTitle"/>
          </p:nvPr>
        </p:nvSpPr>
        <p:spPr>
          <a:xfrm>
            <a:off x="3354480" y="4091040"/>
            <a:ext cx="5114880" cy="110016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0"/>
            <a:ext cx="7486560" cy="1438200"/>
          </a:xfrm>
          <a:prstGeom prst="rect">
            <a:avLst/>
          </a:prstGeom>
          <a:ln w="0">
            <a:noFill/>
          </a:ln>
        </p:spPr>
      </p:pic>
      <p:sp>
        <p:nvSpPr>
          <p:cNvPr id="223" name=""/>
          <p:cNvSpPr txBox="1"/>
          <p:nvPr/>
        </p:nvSpPr>
        <p:spPr>
          <a:xfrm>
            <a:off x="457200" y="1830240"/>
            <a:ext cx="7238880" cy="4626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ndes discute Habermas y sus concepciones de la esfera pública como una estructura de la sociedad civil específicamente del caso de la revolución “</a:t>
            </a:r>
            <a:r>
              <a:rPr b="0" lang="en-US" sz="1800" spc="-1" strike="noStrike">
                <a:solidFill>
                  <a:srgbClr val="000000"/>
                </a:solidFill>
                <a:latin typeface="Trebuchet MS"/>
              </a:rPr>
              <a:t>bourgeois“ </a:t>
            </a:r>
            <a:r>
              <a:rPr b="0" lang="es-ES_tradnl" sz="1800" spc="-1" strike="noStrike">
                <a:solidFill>
                  <a:srgbClr val="000000"/>
                </a:solidFill>
                <a:latin typeface="Trebuchet MS"/>
              </a:rPr>
              <a:t>de Francia.</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razón y individualidad en la convergencia de las esferas públicas y privadas : </a:t>
            </a:r>
            <a:r>
              <a:rPr b="0" lang="en-US" sz="1800" spc="-1" strike="noStrike">
                <a:solidFill>
                  <a:srgbClr val="000000"/>
                </a:solidFill>
                <a:latin typeface="Trebuchet MS"/>
              </a:rPr>
              <a:t>“The bourgeois public sphere is conceived to be a sphere of private people coming together as a public through the ‘historically unprecedented’ public use of their reason’… The bourgeois public sphere consists of both a literary/cultural and political public sphere” [139].</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nueva esfera pública hace importante la idea del universalismo de la opinión pública para que alguien tenga la habilidad a representar y hablar &lt;&lt;por la gente&gt;&g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24000"/>
            <a:ext cx="7486560" cy="14317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relación a la esfera privada: “ </a:t>
            </a:r>
            <a:r>
              <a:rPr b="0" lang="en-US" sz="1800" spc="-1" strike="noStrike">
                <a:solidFill>
                  <a:srgbClr val="000000"/>
                </a:solidFill>
                <a:latin typeface="Trebuchet MS"/>
              </a:rPr>
              <a:t>‘It [the bourgeois public sphere] provided the training ground for a critical public reflection still preoccupied with itself – a process of self-clarification of private people focusing on the genuine experiences of their novel privateness“ [139].</a:t>
            </a:r>
            <a:endParaRPr b="0" lang="en-US" sz="1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in embargo, la gente que trajo poder desde la esfera privada a la nueva esfera pública no incluye la gente subordinada tal como los pobres, las mujeres, etc.</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In principle, everyone had to </a:t>
            </a:r>
            <a:r>
              <a:rPr b="0" i="1" lang="en-US" sz="1800" spc="-1" strike="noStrike">
                <a:solidFill>
                  <a:srgbClr val="000000"/>
                </a:solidFill>
                <a:latin typeface="Trebuchet MS"/>
              </a:rPr>
              <a:t>be able to participate” </a:t>
            </a:r>
            <a:r>
              <a:rPr b="0" i="1" lang="es-ES_tradnl" sz="1800" spc="-1" strike="noStrike">
                <a:solidFill>
                  <a:srgbClr val="000000"/>
                </a:solidFill>
                <a:latin typeface="Trebuchet MS"/>
              </a:rPr>
              <a:t>[141] Por eso, Habermas dice que las metas universalistas de la nueva esfera pública </a:t>
            </a:r>
            <a:r>
              <a:rPr b="0" i="1" lang="en-US" sz="1800" spc="-1" strike="noStrike">
                <a:solidFill>
                  <a:srgbClr val="000000"/>
                </a:solidFill>
                <a:latin typeface="Trebuchet MS"/>
              </a:rPr>
              <a:t>bourgeois </a:t>
            </a:r>
            <a:r>
              <a:rPr b="0" i="1" lang="es-ES_tradnl" sz="1800" spc="-1" strike="noStrike">
                <a:solidFill>
                  <a:srgbClr val="000000"/>
                </a:solidFill>
                <a:latin typeface="Trebuchet MS"/>
              </a:rPr>
              <a:t>no fue realizado de verdad porque no existió igual participación. Sin embargo, a parte de este comentario por Habermas él no reconoce mucho la desigualdad de la esfera pública</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596880"/>
            <a:ext cx="8474040" cy="1440000"/>
          </a:xfrm>
          <a:prstGeom prst="rect">
            <a:avLst/>
          </a:prstGeom>
          <a:ln w="0">
            <a:noFill/>
          </a:ln>
        </p:spPr>
      </p:pic>
      <p:sp>
        <p:nvSpPr>
          <p:cNvPr id="227" name=""/>
          <p:cNvSpPr txBox="1"/>
          <p:nvPr/>
        </p:nvSpPr>
        <p:spPr>
          <a:xfrm>
            <a:off x="0" y="1924200"/>
            <a:ext cx="822960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Bourgeois public sphere from the outset worked to rule out all interests that would not or could not lay claim to their own universality” [142].</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Habermas no reconoce la asociación de mujeres con particularidad y hombres con lo verdad, lo objetividad y lo razón. Por eso, el discurso masculino podía ser visto como lo universal.</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istencia de &lt;&lt;counter-publics&gt;&gt; y el peligro de la universalidad:</a:t>
            </a:r>
            <a:endParaRPr b="0" lang="en-US" sz="18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a:t>
            </a:r>
            <a:r>
              <a:rPr b="0" lang="en-US" sz="1800" spc="-1" strike="noStrike">
                <a:solidFill>
                  <a:srgbClr val="000000"/>
                </a:solidFill>
                <a:latin typeface="Trebuchet MS"/>
              </a:rPr>
              <a:t>the goals of generalizability and appeals to the common good may conceal rather than expose forms of domination, surpress rather than release concrete differences among persons or groups” [144]</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Habermas falta investigación en esferas públicas afuera de la del </a:t>
            </a:r>
            <a:r>
              <a:rPr b="0" lang="en-US" sz="1800" spc="-1" strike="noStrike">
                <a:solidFill>
                  <a:srgbClr val="000000"/>
                </a:solidFill>
                <a:latin typeface="Trebuchet MS"/>
              </a:rPr>
              <a:t>bourgeois </a:t>
            </a:r>
            <a:r>
              <a:rPr b="0" lang="es-ES_tradnl" sz="1800" spc="-1" strike="noStrike">
                <a:solidFill>
                  <a:srgbClr val="000000"/>
                </a:solidFill>
                <a:latin typeface="Trebuchet MS"/>
              </a:rPr>
              <a:t>liberal. </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s mujeres, y sus responsabilidades de casa, quedan en la esfera privada.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44440" y="298440"/>
            <a:ext cx="7454880" cy="142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ndividualidad y la interacción de ambas esferas</a:t>
            </a:r>
            <a:r>
              <a:rPr b="0" lang="en-US" sz="1800" spc="-1" strike="noStrike">
                <a:solidFill>
                  <a:srgbClr val="000000"/>
                </a:solidFill>
                <a:latin typeface="Trebuchet MS"/>
              </a:rPr>
              <a:t>: “The modern bourgeois public sphere came into existence when private persons joined together to exercise their reason in a public fashion. Public opinion is the end product of all the dialogues between discoursing individuals, each one of whom is capable of reflexive self-questioning and successful at internalizing the rules of rational discourse”</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e cuenta historias para hacer memoria. Esta memoria compartida se vuelve poder y opinión pública.</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el espectáculo: “ ‘ A </a:t>
            </a:r>
            <a:r>
              <a:rPr b="0" lang="en-US" sz="1800" spc="-1" strike="noStrike">
                <a:solidFill>
                  <a:srgbClr val="000000"/>
                </a:solidFill>
                <a:latin typeface="Trebuchet MS"/>
              </a:rPr>
              <a:t>public is formed the moment there is a spectacle</a:t>
            </a:r>
            <a:r>
              <a:rPr b="0" lang="es-ES_tradnl" sz="1800" spc="-1" strike="noStrike">
                <a:solidFill>
                  <a:srgbClr val="000000"/>
                </a:solidFill>
                <a:latin typeface="Trebuchet MS"/>
              </a:rPr>
              <a:t> ‘ ” [147]. El espectador participa en el espectáculo con el deseo ser el actor en el futuro. Pero el espectáculo tiene el poder reprimir los voces silenciados.</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voz colectiva, y la imagen unificado del público, está logrado con la exclusión de los otros voces subordinado – como en este caso, la de mujer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298440"/>
            <a:ext cx="7454880" cy="1420920"/>
          </a:xfrm>
          <a:prstGeom prst="rect">
            <a:avLst/>
          </a:prstGeom>
          <a:ln w="0">
            <a:noFill/>
          </a:ln>
        </p:spPr>
      </p:pic>
      <p:sp>
        <p:nvSpPr>
          <p:cNvPr id="231" name=""/>
          <p:cNvSpPr txBox="1"/>
          <p:nvPr/>
        </p:nvSpPr>
        <p:spPr>
          <a:xfrm>
            <a:off x="0" y="1609200"/>
            <a:ext cx="7696080" cy="5248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clusión de enemigos para establecer lo bueno común.</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pansión de la esfera pública mina y diminuye la esfera privada: mientras lo pública se vuelve más pública lo privada se vuelve más privada porque lo que antes fue privada ahora es público.</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los medios impresos como el formo dominante de representación. Pero, Landes discute que esta manera de pensar es demasiado simplista porque ambos los actos públicos y los medios impresos tuvieron influencia importante dentro de la </a:t>
            </a:r>
            <a:r>
              <a:rPr b="0" lang="es-ES_tradnl" sz="1800" spc="-1" strike="noStrike">
                <a:solidFill>
                  <a:srgbClr val="000000"/>
                </a:solidFill>
                <a:latin typeface="Trebuchet MS"/>
              </a:rPr>
              <a:t>nueva esfera pública y la sociedad civil.</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l argumento en contra de la universalidad: </a:t>
            </a:r>
            <a:endParaRPr b="0" lang="en-US" sz="1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r>
              <a:rPr b="0" lang="en-US" sz="1400" spc="-1" strike="noStrike">
                <a:solidFill>
                  <a:srgbClr val="000000"/>
                </a:solidFill>
                <a:latin typeface="Trebuchet MS"/>
              </a:rPr>
              <a:t>Democratic discourse has exhibited an unfortunate potential for substituting its own universal for the real competition of interests. Likewise, appeals to the universal have concealed the gendered division of space and power” [154]</a:t>
            </a:r>
            <a:endParaRPr b="0" lang="en-US" sz="1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lla concluye que podemos lograr una democracia igual en la esfera pública por hacerse en pregunta las ideas de Habermas para entender y utilizar representación de una manera contra-hegemónica para desplazar el poder establecido.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12760" y="324000"/>
            <a:ext cx="7486560" cy="14317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En la sociedad actual, las mujeres han sido capaces de entrar en la esfera pública de la expresión política, pero ¿cómo podemos evitar proyectar una voz universal de la mujer en asuntos políticos?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El artículo se describe cómo Hannah Arednt cree que la gente "actúa" en la esfera pública, pero ¿podemos decir que las mujeres "actúan" en el ámbito privado también (aplicando la idea de la doble conciencia de Du Bois), porque que están siempre bajo la mirada masculina?</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3:38:56Z</dcterms:created>
  <dc:creator>Sarah Stoehr</dc:creator>
  <dc:description/>
  <dc:language>en-US</dc:language>
  <cp:lastModifiedBy>usuario</cp:lastModifiedBy>
  <dcterms:modified xsi:type="dcterms:W3CDTF">2014-08-28T14:15:44Z</dcterms:modified>
  <cp:revision>4</cp:revision>
  <dc:subject/>
  <dc:title>The Public and the Private Sphere: A Feminist Reconsideration Joan B. Landes</dc:title>
</cp:coreProperties>
</file>