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FC8-923C-49F1-9F56-EB2D7803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3C4-3ED9-4A55-860B-3014E953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F81-A0A9-4011-B308-FF6D88D7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AF8-246F-4856-9561-20FE92BD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5291-D771-42ED-8F70-1A6F1FEC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D7A5-C64A-4773-97FB-2D4431D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EE8-360F-40F3-B0EE-C827FD1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18B7-04B8-4D02-9B04-57559E8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FDEA-D757-499E-AA94-7F34D4F6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2F22-021A-47D2-8A1D-BCFA4B66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F0C4-893C-4972-9B2B-70D8843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193-E0B3-4D01-9259-F8C99B50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8F5-53E2-4AD1-AD4E-D5DFE34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CC39-CC90-400A-B5A3-0E29C4D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E4DC-B8DF-4EFC-AE81-2489D8D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C6FD-147C-4FFC-8E3F-25F1EC58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75AD-5A16-4692-B886-1AAD437F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9D7A-88F5-4B8A-AB8A-8053D173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7FC3-5E78-416A-8917-E38E9F0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FD0E-AC91-492A-ACB3-14CBA931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387B-05D7-4FB2-942A-63DE6D28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C056-A5BD-417F-81E2-B785DE0B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13D-CD94-4B4A-8080-C5D0BF70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1EDE-F30D-45B2-AE2C-24A28AB8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4F73-37C2-403E-9775-3E4B8A6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DE90-8CBC-4B5B-B91A-5D360BE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20A1-98E9-49B4-A994-36A35572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3E5E-85F3-49A8-882B-1F45D9E1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4422-2BE8-424D-86EF-FB0CB7A8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232D-9F6F-4273-B31E-C108FFC2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E6E7-846F-4DE1-B317-C0DE7279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4730-F3FF-4C95-A3AD-8DE0FA00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CA92-84D0-45BB-97C3-D63C5EBA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5EB-0AE5-4FA4-81B1-0FF3B402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AC67-D200-48F8-A361-327ADF3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1055-57EE-4635-B754-DBBD0799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970B-4B47-4DFD-980B-687CEDF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1BF7-1BE7-4989-9F18-2B13687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2F6A-A16D-46E8-ABFE-7949639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8339-B96C-4371-B8F5-B83AAB1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6239-B5FA-487F-B16C-C8C3F08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8C334-C802-4BB5-8B6D-36F2127B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BF9E-1E1F-43AC-A45B-CB78E208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CB8C-C9E0-4F0B-9E16-02BBAA30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1A6-D6FE-462F-A99B-3783BB2F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DEDB-E91A-400B-BEE0-29EFAA36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A148-610B-4BF9-B946-7E95D16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9A7B-8E45-458C-B435-1F8D892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EF5E-4DF4-4BE6-901E-CB560471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440C-E2CD-4066-B80E-5B16C418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145DB-E104-4317-B7E0-1B3AD60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E6D5-14C5-4530-AD05-86527BA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7F88-BA4B-4904-AEC1-9525123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0382-E958-40E1-B84A-019BA7A2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8CD41-9A2F-4445-853B-C6C3BC60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191-CCA0-48B7-AE7E-AA25CC9E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8833B-DA71-41EC-8693-AF11D769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FFE-54C4-49E0-B235-AE55AB4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CC9-434F-416C-8FFC-FF0F7ED8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2B0-3EEA-43E3-ADDD-D80595D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9A41-D61D-4585-83D1-AA63F0D9687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591E-5949-4DE1-9FAF-74EE968B00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99E9-529A-43E2-AAD7-89AE88FD2AB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3970-5E34-4CEB-B473-9A97A19E8F6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F73A-8F7D-4AB3-8F6E-F4BF1FFADC1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FACULTAD DE CIENCIAS SOCIALES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RRERA SOCIOLOGÍA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NIDAD 5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Las relaciones sociales desde la perspectiva de las institucione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72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820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TOMEMOS EL ESQUEMA EXPUESTO Y VEMOS LOS TÉRMINOS PARA EL ANÁLISIS DE LAS RELACIONES SOCIALES, DESDE LAS INSTITUCIONE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8000" y="1197000"/>
          <a:ext cx="8785080" cy="5452920"/>
        </p:xfrm>
        <a:graphic>
          <a:graphicData uri="http://schemas.openxmlformats.org/drawingml/2006/table">
            <a:tbl>
              <a:tblPr/>
              <a:tblGrid>
                <a:gridCol w="2143080"/>
                <a:gridCol w="2212920"/>
                <a:gridCol w="2214720"/>
                <a:gridCol w="2214360"/>
              </a:tblGrid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SMA /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O DE ANÁLI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CI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TE DEL ANÁLI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es de intercambio, jerarquías, pod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, motivo, prácticas concret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s, reglas, valores, convenciones, ro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4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NFASIS EXPLIC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es dominantes y de domin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ensión del sentido de la acción // grado de ra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dad reguladora y (dis) fun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del “orden social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cion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cionalización (reglas, valores y creenci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CUENC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ácter constrictivo y habilit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(no) espera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o 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gitimidad / (no) apropi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1.- Para Douglas North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rol de las instituciones es reducir la incertidumbre propia de la interacción huma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hay nada que señale que las instituciones deben ser “eficient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preciso distinguir entre instituciones y organismos (organizaciones). Las organizaciones conforman “grupos de individuos enlazados por alguna identidad común hacia el logro de ciertos objetivos”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cambio institucional deviene de la relación entre instituciones y organizaciones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North Douglas, 2006: 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45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.- Peter Wagn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Conjunto relativamente permanente de reglas y de recursos que los hombres pueden tomar como punto de referencia de sus acciones. Las instituciones pueden preceder a cada uno de los individuos concretos, pero han sido creadas en virtud de las acciones humanas y sólo pueden seguir existiendo cuando son continuamente recreadas mediante nuevas ac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Se trata de prácticas ya convertidas en hábitos, cuyos acuerdos se transmiten a través de interacciones, básicamente a través de los procesos de la educación y la socialización, pero también a través de las restantes prácticas cotidianas…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Los hombres disponen de la capacidad básica de aducir las causas de sus actos y de modificar tanto las motivaciones como las acciones. Actúan siempre creadoramente y trabajan con las reglas y los recursos de las instituciones, al mismo tiempo que las modifican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(Sociología de la Modernidad, 1997: 55-5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.- W.R. SCO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LAS INSTITUCIONES SE COMPONEN DE ELEMENTOS CULTURALES-COGNITIVOS, NORMATIVOS Y REGULATIVOS QUE, JUNTO CON ACTIVIDADES ASOCIADAS Y RECURSOS, PROVEEN ESTABILIDAD Y SENTIDO A LA VIDA SOC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SON TRANSMITIDAS POR VARIOS TIPOS DE CANALES, INCLUIDOS LOS SISTEMAS SIMBÓLICOS, RELACIONES DE SISTEMAS, RUTINAS Y ARTEFA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OPERAN EN MÚLTIPLES NIVELES DE JURISDICCIÓN, DESDE EL SISTEMA MUNDIAL A LAS RELACIONES INTERPERSONALES LOCALIZ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+ POR DEFINICIÓN CONNOTAN ESTABILIDAD PERO SON SUJETO DE PROCESOS DE CAMBIO. YA SEA INCREMENTALES O DISCONTINUO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INSTITUTIONS AND ORGANIZATIONS, 2002, P. 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s definiciones de “institución” otorgadas por D. North, P. Wagner y WR Scott dicen relación con: 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patrones de interacción que posibilitan, estabilizan, la vida social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1 Título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508960" cy="14144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9780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alidad social, la representación social de la realidad conforma, en sí misma, un ámbito específ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3 Rectángulo"/>
          <p:cNvSpPr/>
          <p:nvPr/>
        </p:nvSpPr>
        <p:spPr>
          <a:xfrm>
            <a:off x="1042920" y="3429000"/>
            <a:ext cx="6985080" cy="12952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realidad social se constituye en forma simbólica. Esto es, está conformada y mediada por símbolos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4 Rectángulo"/>
          <p:cNvSpPr/>
          <p:nvPr/>
        </p:nvSpPr>
        <p:spPr>
          <a:xfrm>
            <a:off x="1042920" y="5373720"/>
            <a:ext cx="31687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SE PROCESO – RESULTADO TIENE IIMPLICANCIAS EN LAS PRÁCTICA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5 Rectángulo"/>
          <p:cNvSpPr/>
          <p:nvPr/>
        </p:nvSpPr>
        <p:spPr>
          <a:xfrm>
            <a:off x="4716360" y="5373720"/>
            <a:ext cx="33116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O SÓLO SE “NUTRE” DE SÍMBOLOS, IDEAS, NOCIONE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7 Conector recto de flecha"/>
          <p:cNvCxnSpPr>
            <a:stCxn id="294" idx="2"/>
            <a:endCxn id="295" idx="0"/>
          </p:cNvCxnSpPr>
          <p:nvPr/>
        </p:nvCxnSpPr>
        <p:spPr>
          <a:xfrm flipH="1">
            <a:off x="2626560" y="4724280"/>
            <a:ext cx="1909080" cy="650160"/>
          </a:xfrm>
          <a:prstGeom prst="straightConnector1">
            <a:avLst/>
          </a:prstGeom>
          <a:ln w="381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298" name="9 Conector recto de flecha"/>
          <p:cNvCxnSpPr>
            <a:stCxn id="294" idx="2"/>
            <a:endCxn id="296" idx="0"/>
          </p:cNvCxnSpPr>
          <p:nvPr/>
        </p:nvCxnSpPr>
        <p:spPr>
          <a:xfrm>
            <a:off x="4535640" y="4724280"/>
            <a:ext cx="1837440" cy="650160"/>
          </a:xfrm>
          <a:prstGeom prst="straightConnector1">
            <a:avLst/>
          </a:prstGeom>
          <a:ln w="38160">
            <a:solidFill>
              <a:srgbClr val="2d61f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cutamos estos a la luz del “Teorema de Thomas” (enunciado por el sociólogo norteamericano W.I. Thomas, en 19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 las personas definen las situaciones como reales, éstas son reales en sus consecuencias … 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1 Rectángulo"/>
          <p:cNvSpPr/>
          <p:nvPr/>
        </p:nvSpPr>
        <p:spPr>
          <a:xfrm>
            <a:off x="1763640" y="4653000"/>
            <a:ext cx="5688000" cy="122724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¿QUÉ RELACIÓN PODEMOS ESTABLECER ENTRE ESTA IDEA Y EL CONCEPTO DE INSTITUCIÓN QUE ESTAMOS TRABAJAN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3 Flecha abajo"/>
          <p:cNvSpPr/>
          <p:nvPr/>
        </p:nvSpPr>
        <p:spPr>
          <a:xfrm>
            <a:off x="4365720" y="3716280"/>
            <a:ext cx="484200" cy="576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Muy bie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ero si la forma en que percibimos, la forma en que pensamos, la manera en que “hacemos las cosas”, incluso las formas en que emocionamos, cambian (¿?)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¿Cómo explicar ese cambio en las representaciones sociales, en las instituciones, dada su capacidad para configurar “realidad” y dado su peso, su inerc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qué relación guarda esto con las “relaciones socia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8:29:10Z</dcterms:created>
  <dc:creator>Juan Enrique Opazo</dc:creator>
  <dc:description/>
  <dc:language>en-US</dc:language>
  <cp:lastModifiedBy>Juan Enrique</cp:lastModifiedBy>
  <dcterms:modified xsi:type="dcterms:W3CDTF">2014-06-25T15:48:59Z</dcterms:modified>
  <cp:revision>629</cp:revision>
  <dc:subject/>
  <dc:title>UAH</dc:title>
</cp:coreProperties>
</file>