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EF6-A9BF-435E-A74D-AD42DBB7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9D2-DAF8-460D-A752-88CECA1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4EF-5DB9-44D0-A918-2354F0FF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104-2FB5-44B4-A00D-43989104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6E9B-5EDD-4A77-9422-617B1D07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059A-AB06-4282-80EF-C765D019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BD4D-A538-4685-9D87-B73AB393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45F6-D2A6-47DF-9FF1-64A5773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7D78-705C-49AD-A9A5-58A0B0E3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5B2C-121B-4779-A62E-9094FCC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F5DD-9639-49CB-99DB-1BE4BB30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7DA-C5A2-47A6-AF61-227913E6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D3EE-A4F7-4349-A671-694CDC7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B1A4-1AA0-4D99-A73A-2B219933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240C-24A1-402B-9430-B80645E4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82B0-9DD3-4EAA-B9DD-370E7C9C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3FFF-F559-4076-99AF-1852F948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42DD-C921-411D-9C05-8352285D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2EE3-E69A-4F43-8C83-E39B136C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DD43-F274-4202-A1B8-32E3C19D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FC1C-5363-42A3-A8B7-0BF59ADF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E52E-3B4E-41F2-A4AA-2BE50D5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D4F-D263-4CFA-ABBE-891CC58F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BA79-A3A6-4860-B803-C14F868B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E3F9-961D-4BCC-9956-D3414687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B993-4CE9-4BCE-A008-5F225475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49BC-CCE5-4D9D-B48D-30D33765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E98B-EDC0-4B08-8819-2C772E31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AB83-4644-4755-923A-F31CE13D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7A01-6858-412F-ADD5-550E597C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E19D5-B324-4625-B274-FCF565AB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6852C-6A7D-4536-9C91-C91DB262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22FF-8EAB-456F-B670-4FB8B9CD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67E-660E-46E7-94E6-5FE20B6F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A77F-7EAB-4C67-A214-A983BC00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4D25-2DF4-49C1-A252-86BFEC8F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D9E9-8D4F-446B-947D-C8BD2180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1CFD-4F2B-428C-B42E-18527BC0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3C06-1EE6-42E8-8AB7-E7BDABE5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AACE-AD84-401C-8E87-9338389C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FAB9-CF76-47F0-A04B-22B5EE6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966E3-C50D-4C6A-941C-922421A7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89D05-BB41-4289-B5A7-75321CC5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377B5-1BBC-47AE-A14F-D5C8BDFE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223-5690-4435-9FCC-A02E565A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2FE01-4483-40E0-89E7-C7C6450A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673C-0457-4B15-ACCA-D2959E1A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196B3-7A1D-4112-8E1B-41DBDF13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25FD-4185-49C7-92A4-8693F912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97CDD-E644-4AA1-A30B-648C1566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3CB86-81AF-4A09-ADBE-FB9A8E15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C3E0-5375-4A05-892A-259AE0B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B9E7-FE08-411E-8B52-1C8D6AF8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15E61-2C44-4675-AC07-BD81A44D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67F7-01B1-46A1-9875-9A04FE03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BED-E19E-49F2-BFC1-A3A46995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766A0-971B-4B34-A73D-83159DEB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07E-050A-46A7-9177-AEC97DE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908-24DE-40FC-A94C-B631BD8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E06-D597-4226-95D2-77F06471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8772-46CF-47B0-8271-688DEFAACA5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AF79-6F98-432B-AAD2-49DD0CC66FF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BFF0-0D06-4808-B1AD-B368D29DB27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26D3-2180-48DF-AA8A-93AF01086D3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F319-679C-4210-A7E9-E7FC29ACC49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FACULTAD DE CIENCIAS SOCIALES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ARRERA SOCIOLOGÍA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NIDAD 5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Las relaciones sociales desde la perspectiva de las institucione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72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820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TOMEMOS EL ESQUEMA EXPUESTO Y VEMOS LOS TÉRMINOS PARA EL ANÁLISIS DE LAS RELACIONES SOCIALES, DESDE LAS INSTITUCIONE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8000" y="1197000"/>
          <a:ext cx="8785080" cy="5452920"/>
        </p:xfrm>
        <a:graphic>
          <a:graphicData uri="http://schemas.openxmlformats.org/drawingml/2006/table">
            <a:tbl>
              <a:tblPr/>
              <a:tblGrid>
                <a:gridCol w="2143080"/>
                <a:gridCol w="2212920"/>
                <a:gridCol w="2214720"/>
                <a:gridCol w="2214360"/>
              </a:tblGrid>
              <a:tr h="879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SMA /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O DE ANÁLI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CI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TE DEL ANÁLI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es de intercambio, jerarquías, pode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, motivo, prácticas concret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s, reglas, valores, convenciones, ro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4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NFASIS EXPLIC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es dominantes y de domin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ensión del sentido de la acción // grado de racion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dad reguladora y (dis) funcion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del “orden social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cion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cionalización (reglas, valores y creenci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CUENCI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ácter constrictivo y habilita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(no) espera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o 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gitimidad / (no) apropi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1.- Para Douglas North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rol de las instituciones es reducir la incertidumbre propia de la interacción human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hay nada que señale que las instituciones deben ser “eficient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 preciso distinguir entre instituciones y organismos (organizaciones). Las organizaciones conforman “grupos de individuos enlazados por alguna identidad común hacia el logro de ciertos objetivos”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cambio institucional deviene de la relación entre instituciones y organizaciones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North Douglas, 2006: 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45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.- Peter Wagn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Conjunto relativamente permanente de reglas y de recursos que los hombres pueden tomar como punto de referencia de sus acciones. Las instituciones pueden preceder a cada uno de los individuos concretos, pero han sido creadas en virtud de las acciones humanas y sólo pueden seguir existiendo cuando son continuamente recreadas mediante nuevas accio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Se trata de prácticas ya convertidas en hábitos, cuyos acuerdos se transmiten a través de interacciones, básicamente a través de los procesos de la educación y la socialización, pero también a través de las restantes prácticas cotidianas…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Los hombres disponen de la capacidad básica de aducir las causas de sus actos y de modificar tanto las motivaciones como las acciones. Actúan siempre creadoramente y trabajan con las reglas y los recursos de las instituciones, al mismo tiempo que las modifican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(Sociología de la Modernidad, 1997: 55-5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3.- W.R. SCO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LAS INSTITUCIONES SE COMPONEN DE ELEMENTOS CULTURALES-COGNITIVOS, NORMATIVOS Y REGULATIVOS QUE, JUNTO CON ACTIVIDADES ASOCIADAS Y RECURSOS, PROVEEN ESTABILIDAD Y SENTIDO A LA VIDA SOC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SON TRANSMITIDAS POR VARIOS TIPOS DE CANALES, INCLUIDOS LOS SISTEMAS SIMBÓLICOS, RELACIONES DE SISTEMAS, RUTINAS Y ARTEFA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OPERAN EN MÚLTIPLES NIVELES DE JURISDICCIÓN, DESDE EL SISTEMA MUNDIAL A LAS RELACIONES INTERPERSONALES LOCALIZ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POR DEFINICIÓN CONNOTAN ESTABILIDAD PERO SON SUJETO DE PROCESOS DE CAMBIO. YA SEA INCREMENTALES O DISCONTINUO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INSTITUTIONS AND ORGANIZATIONS, 2002, P. 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s definiciones de “institución” otorgadas por D. North, P. Wagner y WR Scott dicen relación con: </a:t>
            </a: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patrones de interacción que posibilitan, estabilizan, la vida social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1 Título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8508960" cy="14144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49780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alidad social, la representación social de la realidad conforma, en sí misma, un ámbito específ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3 Rectángulo"/>
          <p:cNvSpPr/>
          <p:nvPr/>
        </p:nvSpPr>
        <p:spPr>
          <a:xfrm>
            <a:off x="1042920" y="3429000"/>
            <a:ext cx="6985080" cy="12952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realidad social se constituye en forma simbólica. Esto es, está conformada y mediada por símbolos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4 Rectángulo"/>
          <p:cNvSpPr/>
          <p:nvPr/>
        </p:nvSpPr>
        <p:spPr>
          <a:xfrm>
            <a:off x="1042920" y="5373720"/>
            <a:ext cx="31687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SE PROCESO – RESULTADO TIENE IIMPLICANCIAS EN LAS PRÁCTICAS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5 Rectángulo"/>
          <p:cNvSpPr/>
          <p:nvPr/>
        </p:nvSpPr>
        <p:spPr>
          <a:xfrm>
            <a:off x="4716360" y="5373720"/>
            <a:ext cx="331164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O SÓLO SE “NUTRE” DE SÍMBOLOS, IDEAS, NOCIONES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7 Conector recto de flecha"/>
          <p:cNvCxnSpPr>
            <a:stCxn id="294" idx="2"/>
            <a:endCxn id="295" idx="0"/>
          </p:cNvCxnSpPr>
          <p:nvPr/>
        </p:nvCxnSpPr>
        <p:spPr>
          <a:xfrm flipH="1">
            <a:off x="2626560" y="4724280"/>
            <a:ext cx="1909080" cy="650160"/>
          </a:xfrm>
          <a:prstGeom prst="straightConnector1">
            <a:avLst/>
          </a:prstGeom>
          <a:ln w="381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298" name="9 Conector recto de flecha"/>
          <p:cNvCxnSpPr>
            <a:stCxn id="294" idx="2"/>
            <a:endCxn id="296" idx="0"/>
          </p:cNvCxnSpPr>
          <p:nvPr/>
        </p:nvCxnSpPr>
        <p:spPr>
          <a:xfrm>
            <a:off x="4535640" y="4724280"/>
            <a:ext cx="1837440" cy="650160"/>
          </a:xfrm>
          <a:prstGeom prst="straightConnector1">
            <a:avLst/>
          </a:prstGeom>
          <a:ln w="38160">
            <a:solidFill>
              <a:srgbClr val="2d61f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61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cutamos estos a la luz del “Teorema de Thomas” (enunciado por el sociólogo norteamericano W.I. Thomas, en 19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 las personas definen las situaciones como reales, éstas son reales en sus consecuencias … 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1 Rectángulo"/>
          <p:cNvSpPr/>
          <p:nvPr/>
        </p:nvSpPr>
        <p:spPr>
          <a:xfrm>
            <a:off x="1763640" y="4653000"/>
            <a:ext cx="5688000" cy="122724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¿QUÉ RELACIÓN PODEMOS ESTABLECER ENTRE ESTA IDEA Y EL CONCEPTO DE INSTITUCIÓN QUE ESTAMOS TRABAJAN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3 Flecha abajo"/>
          <p:cNvSpPr/>
          <p:nvPr/>
        </p:nvSpPr>
        <p:spPr>
          <a:xfrm>
            <a:off x="4365720" y="3716280"/>
            <a:ext cx="484200" cy="5763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Muy bien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ero si la forma en que percibimos, la forma en que pensamos, la manera en que “hacemos las cosas”, incluso las formas en que emocionamos, cambian (¿?)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¿Cómo explicar ese cambio en las representaciones sociales, en las instituciones, dada su capacidad para configurar “realidad” y dado su peso, su inerc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qué relación guarda esto con las “relaciones socia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8:29:10Z</dcterms:created>
  <dc:creator>Juan Enrique Opazo</dc:creator>
  <dc:description/>
  <dc:language>en-US</dc:language>
  <cp:lastModifiedBy>Juan Enrique</cp:lastModifiedBy>
  <dcterms:modified xsi:type="dcterms:W3CDTF">2014-06-25T15:48:59Z</dcterms:modified>
  <cp:revision>629</cp:revision>
  <dc:subject/>
  <dc:title>UAH</dc:title>
</cp:coreProperties>
</file>