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263F-0E25-441E-A57E-8CE1922655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85D5-D57F-44E8-945C-EAD74F167F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3D4-D7EF-4E74-9570-5D9A0D5E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690-583E-432B-B917-DFDB77AA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446-9D1D-4EB9-A17E-FDCFC854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95A-0A4D-48B3-9FD0-383B56DC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538-665F-46B9-AD04-3F91CB2B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74C-D8E7-4FC3-8C5C-F4388237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FF3-F39F-4809-8723-9607FE55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D65-4C65-4701-84E2-E2DE7D21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813-E99B-48CF-97CB-948CE5C1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DF7-EF57-470C-AC43-1F2EF4BA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C85-02E7-47E5-8CC9-3E76D66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EBC-C0AD-413B-89CA-B41EDC8A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C111-924A-4697-8C5C-CDF1534455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01480" y="214200"/>
            <a:ext cx="86425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3300"/>
                </a:solidFill>
                <a:latin typeface="Arial"/>
              </a:rPr>
              <a:t>MOVIMIENTOS SOCIALES Y PODER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3300"/>
                </a:solidFill>
                <a:latin typeface="Arial"/>
              </a:rPr>
              <a:t>UNA DERIVA ORGANIZACIONAL NEG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37749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16000" y="1197000"/>
            <a:ext cx="5616720" cy="206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¿Hay organización en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desorden M. S.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324000" y="981000"/>
            <a:ext cx="3456000" cy="2592360"/>
          </a:xfrm>
          <a:prstGeom prst="rtTriangl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n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m  SOBER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n  (virtud/util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 rot="16200000">
            <a:off x="4392360" y="799560"/>
            <a:ext cx="2592360" cy="3386160"/>
          </a:xfrm>
          <a:prstGeom prst="rtTriangl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I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prop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axia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(política/policí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1835280" y="3645000"/>
            <a:ext cx="165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M.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5796000" y="3789360"/>
            <a:ext cx="165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M.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971640" y="4221000"/>
            <a:ext cx="3816360" cy="432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Fermento y mara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4572000" y="4365720"/>
            <a:ext cx="3816360" cy="431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PODER CONSTIT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 flipH="1">
            <a:off x="2195280" y="4365720"/>
            <a:ext cx="2376360" cy="865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324000" y="4292640"/>
            <a:ext cx="2520720" cy="1871640"/>
          </a:xfrm>
          <a:prstGeom prst="rtTriangl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Ge</a:t>
            </a:r>
            <a:r>
              <a:rPr b="1" lang="es-CO" sz="18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4572000" y="4365720"/>
            <a:ext cx="1441440" cy="93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 flipH="1">
            <a:off x="5651280" y="5302080"/>
            <a:ext cx="360360" cy="14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9"/>
          <p:cNvSpPr/>
          <p:nvPr/>
        </p:nvSpPr>
        <p:spPr>
          <a:xfrm>
            <a:off x="2556000" y="5013360"/>
            <a:ext cx="309564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BIOPOL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CIENCIA DE LAS FOR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DE VIDA HUMIL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5364000" y="4941720"/>
            <a:ext cx="3780000" cy="1916280"/>
          </a:xfrm>
          <a:prstGeom prst="parallelogram">
            <a:avLst>
              <a:gd name="adj" fmla="val 49314"/>
            </a:avLst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ZAPA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PACHAKU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PIQUET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COCAL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¿VENEZUE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7846920" y="1268280"/>
            <a:ext cx="1297080" cy="28800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0" y="6453360"/>
            <a:ext cx="521964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s-CO" sz="1000" spc="-1" strike="noStrike">
                <a:solidFill>
                  <a:srgbClr val="ffffff"/>
                </a:solidFill>
                <a:latin typeface="Arial"/>
              </a:rPr>
              <a:t> Poder </a:t>
            </a:r>
            <a:r>
              <a:rPr b="0" lang="es-CO" sz="1000" spc="-1" strike="noStrike" u="sng">
                <a:solidFill>
                  <a:srgbClr val="ffffff"/>
                </a:solidFill>
                <a:uFillTx/>
                <a:latin typeface="Arial"/>
              </a:rPr>
              <a:t>sobre</a:t>
            </a:r>
            <a:r>
              <a:rPr b="0" lang="es-CO" sz="1000" spc="-1" strike="noStrike">
                <a:solidFill>
                  <a:srgbClr val="ffffff"/>
                </a:solidFill>
                <a:latin typeface="Arial"/>
              </a:rPr>
              <a:t> (organismo) y </a:t>
            </a:r>
            <a:r>
              <a:rPr b="0" lang="es-CO" sz="1000" spc="-1" strike="noStrike" u="sng">
                <a:solidFill>
                  <a:srgbClr val="ffffff"/>
                </a:solidFill>
                <a:uFillTx/>
                <a:latin typeface="Arial"/>
              </a:rPr>
              <a:t>de</a:t>
            </a:r>
            <a:r>
              <a:rPr b="0" lang="es-CO" sz="1000" spc="-1" strike="noStrike">
                <a:solidFill>
                  <a:srgbClr val="ffffff"/>
                </a:solidFill>
                <a:latin typeface="Arial"/>
              </a:rPr>
              <a:t> la vida / </a:t>
            </a:r>
            <a:r>
              <a:rPr b="1" lang="es-CO" sz="1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s-CO" sz="1000" spc="-1" strike="noStrike">
                <a:solidFill>
                  <a:srgbClr val="ffffff"/>
                </a:solidFill>
                <a:latin typeface="Arial"/>
              </a:rPr>
              <a:t> humildad por descodificación y desestratificació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ffffff"/>
                </a:solidFill>
                <a:latin typeface="Arial"/>
              </a:rPr>
              <a:t>* Planos de trascendencia inmanencia / *comunitas y exposición / *violencia revolucion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3:05:33Z</dcterms:created>
  <dc:creator>....</dc:creator>
  <dc:description/>
  <dc:language>en-US</dc:language>
  <cp:lastModifiedBy>miguel urrutia</cp:lastModifiedBy>
  <dcterms:modified xsi:type="dcterms:W3CDTF">2011-11-25T16:17:49Z</dcterms:modified>
  <cp:revision>46</cp:revision>
  <dc:subject/>
  <dc:title>Diapositiva 1</dc:title>
</cp:coreProperties>
</file>