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233-592B-457D-BC78-AE4B6D94D70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9CE-B922-4AE7-BB6E-55E0E05854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35B-32CA-4F80-990A-8B77B7FE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CB3-FF8D-41AB-94CC-4B8800E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594-C212-4F92-A2CC-AD4DE47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494-90F2-4F19-94A8-7C097ACE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06DB-AB76-4243-8100-1AAB0E62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C9D-1E9B-41B8-8EA6-ACB52D9C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DCA2-5351-40FB-BC51-B116F42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82F-8FD9-4A96-AD61-B0CA7EAF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C3E-BC26-4F42-8B4C-FBF581E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CE0-61E7-495D-AE35-3DB6C8B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394-C4D0-4878-8B2D-FB9990F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F78-4C73-4296-8ECB-35CADCE2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EBE7-142D-45E2-ACD2-A1B408839E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1480" y="214200"/>
            <a:ext cx="86425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3300"/>
                </a:solidFill>
                <a:latin typeface="Arial"/>
              </a:rPr>
              <a:t>MOVIMIENTOS SOCIALES Y PODER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5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3300"/>
                </a:solidFill>
                <a:latin typeface="Arial"/>
              </a:rPr>
              <a:t>UNA DERIVA ORGANIZACIONAL NE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-37749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16000" y="1197000"/>
            <a:ext cx="5616720" cy="206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¿Hay organización en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desorden M. S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324000" y="981000"/>
            <a:ext cx="3456000" cy="259236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n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m  SOBERAN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n  (virtud/util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16200000">
            <a:off x="4392360" y="799560"/>
            <a:ext cx="2592360" cy="338616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Im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prop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de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axia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(política/policí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835280" y="3645000"/>
            <a:ext cx="165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M.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5796000" y="3789360"/>
            <a:ext cx="1655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M.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971640" y="4221000"/>
            <a:ext cx="3816360" cy="4320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Fermento y mara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4572000" y="4365720"/>
            <a:ext cx="3816360" cy="4316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PODER CONSTIT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2195280" y="4365720"/>
            <a:ext cx="2376360" cy="865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324000" y="4292640"/>
            <a:ext cx="2520720" cy="187164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1" lang="es-CO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4572000" y="4365720"/>
            <a:ext cx="1441440" cy="936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>
            <a:off x="5651280" y="5302080"/>
            <a:ext cx="360360" cy="14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9"/>
          <p:cNvSpPr/>
          <p:nvPr/>
        </p:nvSpPr>
        <p:spPr>
          <a:xfrm>
            <a:off x="2556000" y="5013360"/>
            <a:ext cx="3095640" cy="12952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BIO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CIENCIA DE LAS FORM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DE VIDA HUMIL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364000" y="4941720"/>
            <a:ext cx="3780000" cy="1916280"/>
          </a:xfrm>
          <a:prstGeom prst="parallelogram">
            <a:avLst>
              <a:gd name="adj" fmla="val 49314"/>
            </a:avLst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ZAPA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PACHAKU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PIQUET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COCAL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¿VENEZUE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7846920" y="1268280"/>
            <a:ext cx="1297080" cy="2880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0" y="6453360"/>
            <a:ext cx="521964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Poder </a:t>
            </a:r>
            <a:r>
              <a:rPr b="0" lang="es-CO" sz="1000" spc="-1" strike="noStrike" u="sng">
                <a:solidFill>
                  <a:srgbClr val="ffffff"/>
                </a:solidFill>
                <a:uFillTx/>
                <a:latin typeface="Arial"/>
              </a:rPr>
              <a:t>sobre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(organismo) y </a:t>
            </a:r>
            <a:r>
              <a:rPr b="0" lang="es-CO" sz="1000" spc="-1" strike="noStrike" u="sng">
                <a:solidFill>
                  <a:srgbClr val="ffffff"/>
                </a:solidFill>
                <a:uFillTx/>
                <a:latin typeface="Arial"/>
              </a:rPr>
              <a:t>de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la vida / </a:t>
            </a:r>
            <a:r>
              <a:rPr b="1" lang="es-CO" sz="1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 humildad por descodificación y desestratificació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ffffff"/>
                </a:solidFill>
                <a:latin typeface="Arial"/>
              </a:rPr>
              <a:t>* Planos de trascendencia inmanencia / *comunitas y exposición / *violencia revolucion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3:05:33Z</dcterms:created>
  <dc:creator>....</dc:creator>
  <dc:description/>
  <dc:language>en-US</dc:language>
  <cp:lastModifiedBy>miguel urrutia</cp:lastModifiedBy>
  <dcterms:modified xsi:type="dcterms:W3CDTF">2011-11-25T16:17:49Z</dcterms:modified>
  <cp:revision>46</cp:revision>
  <dc:subject/>
  <dc:title>Diapositiva 1</dc:title>
</cp:coreProperties>
</file>