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561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635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101592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13971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Trastornos Mental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y Criminalida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336760" y="495360"/>
            <a:ext cx="7709040" cy="111744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de Prevalencia de Trastornos Mentales en Agresores Condenados Menta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5" name=""/>
          <p:cNvSpPr/>
          <p:nvPr/>
        </p:nvSpPr>
        <p:spPr>
          <a:xfrm>
            <a:off x="1244520" y="2692440"/>
            <a:ext cx="10211040" cy="171432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En Estados Unidos (Hyde y Seiter, 1987; Neighbors y cols, 1987; Robins y Regier, 1991)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En Canadá (Hodgins y Coté, 1990; Motiuk y Poporino, 1991)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Esto no se repite en Reino Unid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6" name=""/>
          <p:cNvSpPr/>
          <p:nvPr/>
        </p:nvSpPr>
        <p:spPr>
          <a:xfrm>
            <a:off x="2222640" y="5346720"/>
            <a:ext cx="7924680" cy="851040"/>
          </a:xfrm>
          <a:prstGeom prst="rect">
            <a:avLst/>
          </a:prstGeom>
          <a:solidFill>
            <a:srgbClr val="cad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3434"/>
                </a:solidFill>
                <a:latin typeface="Gill Sans"/>
                <a:ea typeface="Gill Sans"/>
              </a:rPr>
              <a:t>¿Qué podría suceder en Reino Unido que lleva a estos resultados?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336760" y="317520"/>
            <a:ext cx="7709040" cy="135900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de Prevalencia de Trastornos Mentales en Agresores Homicidas Menta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8" name=""/>
          <p:cNvSpPr/>
          <p:nvPr/>
        </p:nvSpPr>
        <p:spPr>
          <a:xfrm>
            <a:off x="1244520" y="1841400"/>
            <a:ext cx="10211040" cy="21970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5 (buenos) estudios escandinavo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(Gottlieb, Gabrielsen y Kramp, 1987)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Todos homicidas en un período de 25 años en Copenhagen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Personas acusadas de homicidio fueron evaluadas por profesionales y a través de consultas a sus familias, colegas laborales, y otros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Los diagnósticos pretenden dar cuenta del estado mental al momento del homicidio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20% hombres y 44% mujeres fueron diagnosticadas como psicótico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9" name=""/>
          <p:cNvSpPr/>
          <p:nvPr/>
        </p:nvSpPr>
        <p:spPr>
          <a:xfrm>
            <a:off x="1244520" y="4152960"/>
            <a:ext cx="10211040" cy="110484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(Lindqvist, 1986)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Individuos condenados por homicidio se evalúa estado mental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53% condenados tenían un DMM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0" name=""/>
          <p:cNvSpPr/>
          <p:nvPr/>
        </p:nvSpPr>
        <p:spPr>
          <a:xfrm>
            <a:off x="1244520" y="5372280"/>
            <a:ext cx="10211040" cy="110484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(Wikström, 1996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Todos los homicidios de Estocolmo en los últimos 40 años 18% cometido por personas con DMM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1" name=""/>
          <p:cNvSpPr/>
          <p:nvPr/>
        </p:nvSpPr>
        <p:spPr>
          <a:xfrm>
            <a:off x="1244520" y="6591240"/>
            <a:ext cx="10211040" cy="134640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Gill Sans"/>
                <a:ea typeface="Gill Sans"/>
              </a:rPr>
              <a:t>(Eronen, Tiihonen y Hakola, 1996)</a:t>
            </a:r>
            <a:endParaRPr b="0" lang="en-US" sz="1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Gill Sans"/>
                <a:ea typeface="Gill Sans"/>
              </a:rPr>
              <a:t>1,423 homicidas en Finlandia en 20 años</a:t>
            </a:r>
            <a:endParaRPr b="0" lang="en-US" sz="1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Gill Sans"/>
                <a:ea typeface="Gill Sans"/>
              </a:rPr>
              <a:t>Hombres con esquizofrenia sin diagnóstico secundario de Abuso de Alcohol tenían 6,4 veces riesgo de homicidio y 5,3 entre mujeres. Esquizofrenia con un dg secundario de AA aumentaba el riesgo a 16,6 veces entre hombres y 84,6 veces entre mujeres</a:t>
            </a:r>
            <a:endParaRPr b="0" lang="en-US" sz="1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Gill Sans"/>
                <a:ea typeface="Gill Sans"/>
              </a:rPr>
              <a:t> </a:t>
            </a:r>
            <a:endParaRPr b="0" lang="en-US" sz="1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2" name=""/>
          <p:cNvSpPr/>
          <p:nvPr/>
        </p:nvSpPr>
        <p:spPr>
          <a:xfrm>
            <a:off x="1244520" y="8051760"/>
            <a:ext cx="10211040" cy="134640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(Petursson y Gudjonsson, 1981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Islandia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Homicidas entre 1900 y 1979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28% fueron encontrado psicóticos y recibieron un dg de esquizofrenia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273400" y="63360"/>
            <a:ext cx="7708680" cy="77472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Activida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4" name=""/>
          <p:cNvSpPr/>
          <p:nvPr/>
        </p:nvSpPr>
        <p:spPr>
          <a:xfrm>
            <a:off x="4470480" y="1015920"/>
            <a:ext cx="30225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Dividirse en 2 Grupo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5" name=""/>
          <p:cNvSpPr/>
          <p:nvPr/>
        </p:nvSpPr>
        <p:spPr>
          <a:xfrm>
            <a:off x="469800" y="1739880"/>
            <a:ext cx="108968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Una persona en cada grupo dibuje esto en un cuaderno: 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7467480" y="2463840"/>
          <a:ext cx="2616120" cy="7086600"/>
        </p:xfrm>
        <a:graphic>
          <a:graphicData uri="http://schemas.openxmlformats.org/drawingml/2006/table">
            <a:tbl>
              <a:tblPr/>
              <a:tblGrid>
                <a:gridCol w="2616120"/>
              </a:tblGrid>
              <a:tr h="5043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7" name=""/>
          <p:cNvSpPr/>
          <p:nvPr/>
        </p:nvSpPr>
        <p:spPr>
          <a:xfrm>
            <a:off x="2400480" y="3340080"/>
            <a:ext cx="30225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12 fila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8" name=""/>
          <p:cNvSpPr/>
          <p:nvPr/>
        </p:nvSpPr>
        <p:spPr>
          <a:xfrm>
            <a:off x="1981080" y="4203720"/>
            <a:ext cx="3861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Una fila por cada Hallazg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73400" y="63360"/>
            <a:ext cx="7708680" cy="77472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Activida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0" name=""/>
          <p:cNvSpPr/>
          <p:nvPr/>
        </p:nvSpPr>
        <p:spPr>
          <a:xfrm>
            <a:off x="4470480" y="1015920"/>
            <a:ext cx="30225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Dividirse en 2 Grupo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1" name=""/>
          <p:cNvSpPr/>
          <p:nvPr/>
        </p:nvSpPr>
        <p:spPr>
          <a:xfrm>
            <a:off x="927000" y="1816200"/>
            <a:ext cx="1066824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Rellenar cuadro de Estudios sobre Trastornos Mentales y Criminalidad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2" name=""/>
          <p:cNvSpPr/>
          <p:nvPr/>
        </p:nvSpPr>
        <p:spPr>
          <a:xfrm>
            <a:off x="3048120" y="2641680"/>
            <a:ext cx="615924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Cada color es un tipo de estudio revisad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3" name=""/>
          <p:cNvSpPr/>
          <p:nvPr/>
        </p:nvSpPr>
        <p:spPr>
          <a:xfrm>
            <a:off x="1066680" y="3479760"/>
            <a:ext cx="2438640" cy="901800"/>
          </a:xfrm>
          <a:prstGeom prst="rect">
            <a:avLst/>
          </a:prstGeom>
          <a:solidFill>
            <a:srgbClr val="cfb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Longitudinale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4" name=""/>
          <p:cNvSpPr/>
          <p:nvPr/>
        </p:nvSpPr>
        <p:spPr>
          <a:xfrm>
            <a:off x="3835440" y="3479760"/>
            <a:ext cx="2438280" cy="1066680"/>
          </a:xfrm>
          <a:prstGeom prst="rect">
            <a:avLst/>
          </a:prstGeom>
          <a:solidFill>
            <a:srgbClr val="f6c7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Seguimiento a pacientes psiquiátrico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5" name=""/>
          <p:cNvSpPr/>
          <p:nvPr/>
        </p:nvSpPr>
        <p:spPr>
          <a:xfrm>
            <a:off x="6603840" y="3492360"/>
            <a:ext cx="2438640" cy="1181160"/>
          </a:xfrm>
          <a:prstGeom prst="rect">
            <a:avLst/>
          </a:prstGeom>
          <a:solidFill>
            <a:srgbClr val="fefd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en Población Penitenciaria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6" name=""/>
          <p:cNvSpPr/>
          <p:nvPr/>
        </p:nvSpPr>
        <p:spPr>
          <a:xfrm>
            <a:off x="9372600" y="3492360"/>
            <a:ext cx="2438280" cy="876600"/>
          </a:xfrm>
          <a:prstGeom prst="rect">
            <a:avLst/>
          </a:prstGeom>
          <a:solidFill>
            <a:srgbClr val="d9ea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en Homicida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7" name=""/>
          <p:cNvSpPr/>
          <p:nvPr/>
        </p:nvSpPr>
        <p:spPr>
          <a:xfrm>
            <a:off x="927000" y="5016600"/>
            <a:ext cx="10668240" cy="533160"/>
          </a:xfrm>
          <a:prstGeom prst="rect">
            <a:avLst/>
          </a:prstGeom>
          <a:solidFill>
            <a:srgbClr val="c0e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Cada grupo tendrá puntos por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8" name=""/>
          <p:cNvSpPr/>
          <p:nvPr/>
        </p:nvSpPr>
        <p:spPr>
          <a:xfrm>
            <a:off x="1028880" y="6388200"/>
            <a:ext cx="5854680" cy="48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Numero de celdillas correctas en Hallazgo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"/>
          <p:cNvSpPr/>
          <p:nvPr/>
        </p:nvSpPr>
        <p:spPr>
          <a:xfrm>
            <a:off x="9842400" y="6362640"/>
            <a:ext cx="1270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1 punt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0" name=""/>
          <p:cNvSpPr/>
          <p:nvPr/>
        </p:nvSpPr>
        <p:spPr>
          <a:xfrm>
            <a:off x="1028880" y="7188120"/>
            <a:ext cx="5854680" cy="54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Numero total de correctas por cada tipo estudio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1" name=""/>
          <p:cNvSpPr/>
          <p:nvPr/>
        </p:nvSpPr>
        <p:spPr>
          <a:xfrm>
            <a:off x="9842400" y="7162920"/>
            <a:ext cx="12700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1 punt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1028880" y="8077320"/>
            <a:ext cx="5854680" cy="39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Críticas a cada estudio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9842400" y="7975440"/>
            <a:ext cx="1270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1 punt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4" name=""/>
          <p:cNvSpPr/>
          <p:nvPr/>
        </p:nvSpPr>
        <p:spPr>
          <a:xfrm>
            <a:off x="1028880" y="8839080"/>
            <a:ext cx="585468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Ofrecer solución a los problemas de cada estudio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5" name=""/>
          <p:cNvSpPr/>
          <p:nvPr/>
        </p:nvSpPr>
        <p:spPr>
          <a:xfrm>
            <a:off x="9842400" y="8813880"/>
            <a:ext cx="12700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2 punto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6" name=""/>
          <p:cNvSpPr/>
          <p:nvPr/>
        </p:nvSpPr>
        <p:spPr>
          <a:xfrm>
            <a:off x="1028880" y="5740560"/>
            <a:ext cx="5854680" cy="48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Numero de tarjetas en total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7" name=""/>
          <p:cNvSpPr/>
          <p:nvPr/>
        </p:nvSpPr>
        <p:spPr>
          <a:xfrm>
            <a:off x="9842400" y="5689440"/>
            <a:ext cx="1270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1 punt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2273400" y="63360"/>
            <a:ext cx="7708680" cy="77472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Activida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9" name=""/>
          <p:cNvSpPr/>
          <p:nvPr/>
        </p:nvSpPr>
        <p:spPr>
          <a:xfrm>
            <a:off x="4457880" y="990720"/>
            <a:ext cx="30225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Reglas del Jueg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0" name=""/>
          <p:cNvSpPr/>
          <p:nvPr/>
        </p:nvSpPr>
        <p:spPr>
          <a:xfrm>
            <a:off x="927000" y="1816200"/>
            <a:ext cx="1066824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Cada grupo recibirá, inicialmente, 4 lámina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1" name=""/>
          <p:cNvSpPr/>
          <p:nvPr/>
        </p:nvSpPr>
        <p:spPr>
          <a:xfrm>
            <a:off x="2374920" y="2476440"/>
            <a:ext cx="73278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Cada celdilla debe estar rellena con la lámina original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2" name=""/>
          <p:cNvSpPr/>
          <p:nvPr/>
        </p:nvSpPr>
        <p:spPr>
          <a:xfrm>
            <a:off x="927000" y="4699080"/>
            <a:ext cx="10668240" cy="533160"/>
          </a:xfrm>
          <a:prstGeom prst="rect">
            <a:avLst/>
          </a:prstGeom>
          <a:solidFill>
            <a:srgbClr val="c0e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Hay una lámina que es única (solo hay una copia)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3" name=""/>
          <p:cNvSpPr/>
          <p:nvPr/>
        </p:nvSpPr>
        <p:spPr>
          <a:xfrm>
            <a:off x="2374920" y="3124080"/>
            <a:ext cx="73278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Se pueden jugar a las láminas aquellas repetida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4" name=""/>
          <p:cNvSpPr/>
          <p:nvPr/>
        </p:nvSpPr>
        <p:spPr>
          <a:xfrm>
            <a:off x="177840" y="3860640"/>
            <a:ext cx="11874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El grupo que primero quede sin repetidas podrá acceder a otro paquete de lámina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5" name=""/>
          <p:cNvSpPr/>
          <p:nvPr/>
        </p:nvSpPr>
        <p:spPr>
          <a:xfrm>
            <a:off x="330120" y="5537160"/>
            <a:ext cx="11874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JUEG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6" name=""/>
          <p:cNvSpPr/>
          <p:nvPr/>
        </p:nvSpPr>
        <p:spPr>
          <a:xfrm>
            <a:off x="2451240" y="6375240"/>
            <a:ext cx="73278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Cada grupo tiene derecho a un juego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7" name=""/>
          <p:cNvSpPr/>
          <p:nvPr/>
        </p:nvSpPr>
        <p:spPr>
          <a:xfrm>
            <a:off x="2463840" y="7112160"/>
            <a:ext cx="7327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Pueden apostar las láminas repetidas que quieran 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8" name=""/>
          <p:cNvSpPr/>
          <p:nvPr/>
        </p:nvSpPr>
        <p:spPr>
          <a:xfrm>
            <a:off x="2463840" y="7950240"/>
            <a:ext cx="73278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Cada jugador tiene derecho a 2 intento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264960" y="38160"/>
          <a:ext cx="12472920" cy="9690120"/>
        </p:xfrm>
        <a:graphic>
          <a:graphicData uri="http://schemas.openxmlformats.org/drawingml/2006/table">
            <a:tbl>
              <a:tblPr/>
              <a:tblGrid>
                <a:gridCol w="2095560"/>
                <a:gridCol w="2146680"/>
                <a:gridCol w="2464200"/>
                <a:gridCol w="2768760"/>
                <a:gridCol w="2997720"/>
              </a:tblGrid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ombre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Tipo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Hallazgos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íticas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etropolitan Stockholm Project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ongitudinal, Cohorte, 3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acidos en 1953 en Metropolitan Stockholm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rowSpan="4"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penhagen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acidos en 1953 hasta 1975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Dinamarca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acidos en 1944 a 1947 hasta 1990 que estuvieran vivos en 1990. Incluye mayores de 3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Victoria (Australia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Todos los adultos en el estado de Victoria en 1993 a 1995. Ambulatorios e internados.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indqvist y Allebeck (1990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eguimiento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Todos pacientes con esquizofrenia en Estocolmo nacidos 1920, 1959 dados de alta en 1971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rowSpan="5"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</a:tr>
              <a:tr h="1487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ink, Andrews y Cullen (1992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- Pacientes internados por 1era vez el año anterior; 2- Pacientes en tratamiento durante al año anterior y una vez antes; 3- Pacientes sin tratamiento el año ant. 4- Muestra control comunidad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Belfrage (1998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 a 1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 comunitaria sin TM (historia) y pacientes con DMM dados alta en 1986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Victoria (Australia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os-seccional, 2 moment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iminalidad de personas admitidas a hospital con esquizo. en 1975 y 1985. Matched control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c Arthur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eguimiento, Longitudinal, 1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,136 Hombres entre 18 y 40 años seguidos x10 semanas después de alta. Grupo control 500 ind. vecindario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Hyde y Seiter, 1987; Neighbors y cols, 1987; Robins y Regier, 1991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revalencia, EEUU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s representativa de población penal de EEUU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</a:tr>
              <a:tr h="924840">
                <a:tc>
                  <a:txBody>
                    <a:bodyPr lIns="50760" rIns="50760" tIns="50760" bIns="5076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Hodgins y Coté, 1990; Motiuk y Poporino, 1991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revalencia, Canada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 Representativa de población penal de Canadá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2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Gottlieb, Gabrielsen y Kramp, 1987; Lindqvist, 1986; 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Wikström, 1996; Eronen, Tiihonen y Hakola, 1996; (Petursson y Gudjonsson, 1981)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)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)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) 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revalencia, Escandinavia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uidadosa evaluación de homicidas. Dg. representativos del estado mental momento ofensa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264960" y="25560"/>
          <a:ext cx="12472920" cy="9690120"/>
        </p:xfrm>
        <a:graphic>
          <a:graphicData uri="http://schemas.openxmlformats.org/drawingml/2006/table">
            <a:tbl>
              <a:tblPr/>
              <a:tblGrid>
                <a:gridCol w="2095560"/>
                <a:gridCol w="2146680"/>
                <a:gridCol w="2464200"/>
                <a:gridCol w="2768760"/>
                <a:gridCol w="2997720"/>
              </a:tblGrid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ombre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Tipo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Hallazgos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íticas</a:t>
                      </a:r>
                      <a:endParaRPr b="0" lang="en-US" sz="3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etropolitan Stockholm Project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ongitudinal, Cohorte, 3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acidos en 1953 en Metropolitan Stockholm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Riesgo delito y delito violento en p. con DMM comparado con p. sin DMM ni RM.  No más condenas que p. con AS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rowSpan="4"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 muestral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Hospitalización se define como DMM. Quizás los más antisociales son más hospitalizados (Monahan y Steadman, 1983), o menos probables de ser hospitalizados (Tyler y Gunn, 1984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istema Judicial y Criterios de Admisión de Hospitales. Sobrerepresentación de ind- que cometen delitos más graves o re-incidente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 Información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Dg. Clínico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s de Tiempo y Lugar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Problemas para investiga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 :Países que tienen buenos registros policiales y médico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831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penhagen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acidos en 1953 hasta 1975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Ind. con DMM tenían una ofensa criminal (al menos) comparado con ind. sin DMM.  AS tuvo más condenas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Dinamarca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acidos en 1944 a 1947 hasta 1990 que estuvieran vivos en 1990. Incluye mayores de 3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Ind. hospitalizados tienen más probabilidades de ser condenados por ofensa criminal que ind. nunca hospitalizados a los 43 años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Victoria (Australia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Todos los adultos en el estado de Victoria en 1993 a 1995. Ambulatorios e internados.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Ind. con DMM tenían mayor riesgo para criminalidad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indqvist y Allebeck (1990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eguimiento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Todos pacientes con esquizofrenia en Estocolmo nacidos 1920, 1959 dados de alta en 1971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Riesgo Relativo de ind. con DMM de cometer una ofensa criminal es mayor que pob. gral. 4 veces mas riesgo cometer ofensas violentas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rowSpan="5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or su diseño, estos estudios incluyen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 Muestral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rácticas de admisión y alta de inst. psiquiátricas. Puede resultar en importantes diferencias entre sujetos (reducible considerando población ambulatoria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 Información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diagnósticos que responden a necesidades clínicas y no de inv. Herramientas dg. pueden surepresentar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Pérdida de Sujetos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al final del seguimieto que puede afectar los cálculos de re-incidencia. Es posible que los sujetos que se pierden sean sign- diferentes de los que siguen (están en la cárcel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Otros sesgos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argo de los períodos de seguimiento varían dificultando comparaciones entre estudio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o se mide la intensidad, adecuación de los tratamientos mientras los ind- están en la comunidad y la relación con criminalidad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</a:tr>
              <a:tr h="1487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ink, Andrews y Cullen (1992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- Pacientes internados por 1era vez el año anterior; 2- Pacientes en tratamiento durante al año anterior y una vez antes; 3- Pacientes sin tratamiento el año ant. 4- Muestra control comunidad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1,7% pacientes y 12,2% pacientes en trat. repetido tenían arrestos. Arrestos en pacientes eran más probables que aquellos en la comunidad (felonía y conducta violenta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Belfrage (1998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Longitudinal a 1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 comunitaria sin TM (historia) y pacientes con DMM dados alta en 1986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42% hombres y 14% mujeres fueron condenadas de delito. Mayoría DMM cometía delitos después de 30 año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Victoria (Australia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os-seccional, 2 moment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iminalidad de personas admitidas a hospital con esquizo. en 1975 y 1985. Matched control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proporción de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hombre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 con esquizo. tenían al menos 1 ofensa (+ violenta) comparado con ind. sin DM ambos año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c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1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c Arthur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eguimiento, Longitudinal, 1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,136 Hombres entre 18 y 40 años seguidos x10 semanas después de alta. Grupo control 500 ind. vecindario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prevalencia violencia en ind- con co-morbilidad dados de alta con Abuso de Sustancias que individuos sólo con DMM dados de alta 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cba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Hyde y Seiter, 1987; Neighbors y cols, 1987; Robins y Regier, 1991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revalencia, EEUU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s representativa de población penal de EEUU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prevalencia TM en población penal que en la pob. gral. 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 Muestral: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no representativos de la población que comete delitos porque las características de los que participan son diferentes de los que no. </a:t>
                      </a:r>
                      <a:endParaRPr b="0" lang="en-US" sz="11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esgo prácticas judiciales y policales países</a:t>
                      </a:r>
                      <a:endParaRPr b="0" lang="en-US" sz="11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 Información: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o que digan los reclusos depende confidencialidad</a:t>
                      </a:r>
                      <a:endParaRPr b="0" lang="en-US" sz="11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Intervalo de tiempo entre arresto y entrevista para el diagnóstico (emocionalidad e influencia de alcohol y drogas)</a:t>
                      </a:r>
                      <a:endParaRPr b="0" lang="en-US" sz="11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</a:tr>
              <a:tr h="1049400">
                <a:tc>
                  <a:txBody>
                    <a:bodyPr lIns="50760" rIns="50760" tIns="50760" bIns="5076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Hodgins y Coté, 1990; Motiuk y Poporino, 1991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revalencia, Canada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 Representativa de población penal de Canadá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prevalencia de desórdenes mentales (DMM) en la cárcel. Antes de la encarcelación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6fa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2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Gottlieb, Gabrielsen y Kramp, 1987; Lindqvist, 1986; 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(Wikström, 1996; Eronen, Tiihonen y Hakola, 1996; (Petursson y Gudjonsson, 1981)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)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)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) </a:t>
                      </a: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Prevalencia, Escandinavia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uidadosa evaluación de homicidas. Dg. representativos del estado mental momento ofensa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prevalencia de DMM en homicidas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Sesgo Evaluación: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 cuidado con los diagnósticos y la forma de evaluar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d9eac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031840" y="241200"/>
            <a:ext cx="7709040" cy="111780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Stockholm Metropolitan Projec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ill Sans"/>
                <a:ea typeface="Gill Sans"/>
              </a:rPr>
              <a:t>Resultados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"/>
          <p:cNvSpPr/>
          <p:nvPr/>
        </p:nvSpPr>
        <p:spPr>
          <a:xfrm>
            <a:off x="12600" y="2209680"/>
            <a:ext cx="2247840" cy="153684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Diagnóstico de Trastornos Mentales Mayore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"/>
          <p:cNvSpPr/>
          <p:nvPr/>
        </p:nvSpPr>
        <p:spPr>
          <a:xfrm>
            <a:off x="2336760" y="1460520"/>
            <a:ext cx="7099200" cy="558720"/>
          </a:xfrm>
          <a:prstGeom prst="rect">
            <a:avLst/>
          </a:prstGeom>
          <a:solidFill>
            <a:srgbClr val="cad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Condenas por agresiones criminales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9" name=""/>
          <p:cNvSpPr/>
          <p:nvPr/>
        </p:nvSpPr>
        <p:spPr>
          <a:xfrm>
            <a:off x="2552760" y="2209680"/>
            <a:ext cx="2247840" cy="153684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Aquellos con desórdenes de drogas y alcohol relacionados a Tr. Mental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"/>
          <p:cNvSpPr/>
          <p:nvPr/>
        </p:nvSpPr>
        <p:spPr>
          <a:xfrm>
            <a:off x="5092560" y="2209680"/>
            <a:ext cx="2248200" cy="153684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Otros desórdene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1" name=""/>
          <p:cNvSpPr/>
          <p:nvPr/>
        </p:nvSpPr>
        <p:spPr>
          <a:xfrm>
            <a:off x="7696080" y="2273400"/>
            <a:ext cx="2248200" cy="15364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Retardo Mental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2" name=""/>
          <p:cNvSpPr/>
          <p:nvPr/>
        </p:nvSpPr>
        <p:spPr>
          <a:xfrm>
            <a:off x="10299600" y="2260440"/>
            <a:ext cx="2247840" cy="153684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Nunca admitidos a hospital psiquiátrico y sin retardo mental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291960" y="4508640"/>
          <a:ext cx="5537520" cy="4178160"/>
        </p:xfrm>
        <a:graphic>
          <a:graphicData uri="http://schemas.openxmlformats.org/drawingml/2006/table">
            <a:tbl>
              <a:tblPr/>
              <a:tblGrid>
                <a:gridCol w="1845720"/>
                <a:gridCol w="1845720"/>
                <a:gridCol w="1846080"/>
              </a:tblGrid>
              <a:tr h="67824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Hombre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Mujer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678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No Hospitalización, No Retardo (NHNR) 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31,7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,8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Desorden Mental Mayor (DMM)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0,0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9,0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Otros Desórdenes Mentales (ODM)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37,5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2,1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Desorden de Abuso de Sustancias (DAS)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92,9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70,7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Retardo Mental (RM)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6,5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5,3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291960" y="3860640"/>
            <a:ext cx="5537520" cy="559080"/>
          </a:xfrm>
          <a:prstGeom prst="rect">
            <a:avLst/>
          </a:prstGeom>
          <a:solidFill>
            <a:srgbClr val="cfbbfe"/>
          </a:solidFill>
          <a:ln w="12600">
            <a:solidFill>
              <a:srgbClr val="cfb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14141"/>
                </a:solidFill>
                <a:latin typeface="Gill Sans"/>
                <a:ea typeface="Gill Sans"/>
              </a:rPr>
              <a:t>% Hombres y Mujeres en cada grupo condenados por, al menos, una agresión</a:t>
            </a:r>
            <a:endParaRPr b="0" lang="en-US" sz="15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6502320" y="4506840"/>
          <a:ext cx="5537160" cy="4179600"/>
        </p:xfrm>
        <a:graphic>
          <a:graphicData uri="http://schemas.openxmlformats.org/drawingml/2006/table">
            <a:tbl>
              <a:tblPr/>
              <a:tblGrid>
                <a:gridCol w="1845720"/>
                <a:gridCol w="1845360"/>
                <a:gridCol w="1846080"/>
              </a:tblGrid>
              <a:tr h="8359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Hombre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Mujer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835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NHNR X MMD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2,50, p=0,04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3,94, p=0,00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NHNR X ODM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0,98, p=0,32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8,50, p=0,004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NHNR X DAS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54,79, p=0,0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607,67, p=0,00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NHNR X RM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31,99, p=0,00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3,37, p=0,00025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"/>
          <p:cNvSpPr/>
          <p:nvPr/>
        </p:nvSpPr>
        <p:spPr>
          <a:xfrm>
            <a:off x="2997360" y="8877240"/>
            <a:ext cx="5537160" cy="558720"/>
          </a:xfrm>
          <a:prstGeom prst="rect">
            <a:avLst/>
          </a:prstGeom>
          <a:solidFill>
            <a:srgbClr val="cfbbfe"/>
          </a:solidFill>
          <a:ln w="12600">
            <a:solidFill>
              <a:srgbClr val="cfb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14141"/>
                </a:solidFill>
                <a:latin typeface="Gill Sans"/>
                <a:ea typeface="Gill Sans"/>
              </a:rPr>
              <a:t>RR violencia=2,15 veces para un hombre con MMD que para un hombre NHNR</a:t>
            </a:r>
            <a:endParaRPr b="0" lang="en-US" sz="1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031840" y="241200"/>
            <a:ext cx="7709040" cy="111780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Stockholm Metropolitan Projec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ill Sans"/>
                <a:ea typeface="Gill Sans"/>
              </a:rPr>
              <a:t>Resultados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8" name=""/>
          <p:cNvSpPr/>
          <p:nvPr/>
        </p:nvSpPr>
        <p:spPr>
          <a:xfrm>
            <a:off x="241200" y="2209680"/>
            <a:ext cx="2247840" cy="5590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Ofensas Violenta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9" name=""/>
          <p:cNvSpPr/>
          <p:nvPr/>
        </p:nvSpPr>
        <p:spPr>
          <a:xfrm>
            <a:off x="2336760" y="1460520"/>
            <a:ext cx="7099200" cy="558720"/>
          </a:xfrm>
          <a:prstGeom prst="rect">
            <a:avLst/>
          </a:prstGeom>
          <a:solidFill>
            <a:srgbClr val="cad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Tipo de Agresión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0" name=""/>
          <p:cNvSpPr/>
          <p:nvPr/>
        </p:nvSpPr>
        <p:spPr>
          <a:xfrm>
            <a:off x="2781360" y="2209680"/>
            <a:ext cx="2247840" cy="5590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Robo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1" name=""/>
          <p:cNvSpPr/>
          <p:nvPr/>
        </p:nvSpPr>
        <p:spPr>
          <a:xfrm>
            <a:off x="5321160" y="2209680"/>
            <a:ext cx="2248200" cy="5590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Fraud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2" name=""/>
          <p:cNvSpPr/>
          <p:nvPr/>
        </p:nvSpPr>
        <p:spPr>
          <a:xfrm>
            <a:off x="7924680" y="2209680"/>
            <a:ext cx="2248200" cy="5590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Vandalismo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3" name=""/>
          <p:cNvSpPr/>
          <p:nvPr/>
        </p:nvSpPr>
        <p:spPr>
          <a:xfrm>
            <a:off x="10528200" y="2209680"/>
            <a:ext cx="2247840" cy="5590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Delitos de Tránsito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54160" y="4229280"/>
          <a:ext cx="12470760" cy="5346360"/>
        </p:xfrm>
        <a:graphic>
          <a:graphicData uri="http://schemas.openxmlformats.org/drawingml/2006/table">
            <a:tbl>
              <a:tblPr/>
              <a:tblGrid>
                <a:gridCol w="1781640"/>
                <a:gridCol w="1781280"/>
                <a:gridCol w="1781640"/>
                <a:gridCol w="1781640"/>
                <a:gridCol w="1781640"/>
                <a:gridCol w="1781280"/>
                <a:gridCol w="1781640"/>
              </a:tblGrid>
              <a:tr h="772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Tipo de Ofensa</a:t>
                      </a:r>
                      <a:endParaRPr b="0" lang="en-US" sz="2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NHNR</a:t>
                      </a:r>
                      <a:endParaRPr b="0" lang="en-US" sz="2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DMM</a:t>
                      </a:r>
                      <a:endParaRPr b="0" lang="en-US" sz="2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ODM</a:t>
                      </a:r>
                      <a:endParaRPr b="0" lang="en-US" sz="2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DAS</a:t>
                      </a:r>
                      <a:endParaRPr b="0" lang="en-US" sz="2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RM</a:t>
                      </a:r>
                      <a:endParaRPr b="0" lang="en-US" sz="2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Todos Desórdenes</a:t>
                      </a:r>
                      <a:endParaRPr b="0" lang="en-US" sz="2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14141"/>
                          </a:solidFill>
                          <a:latin typeface="Gill Sans"/>
                          <a:ea typeface="Gill Sans"/>
                        </a:rPr>
                        <a:t>Ofensas Violentas (al menos una)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6,4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24,4%</a:t>
                      </a:r>
                      <a:endParaRPr b="0" lang="en-US" sz="1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42,74, p=0,001</a:t>
                      </a:r>
                      <a:endParaRPr b="0" lang="en-US" sz="1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9,4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3,2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483,40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22,6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48,07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526,19, p=0,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4141"/>
                          </a:solidFill>
                          <a:latin typeface="Gill Sans"/>
                          <a:ea typeface="Gill Sans"/>
                        </a:rPr>
                        <a:t>Robo</a:t>
                      </a:r>
                      <a:endParaRPr b="0" lang="en-US" sz="2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7,4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35,4%</a:t>
                      </a:r>
                      <a:endParaRPr b="0" lang="en-US" sz="1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7,90, p=0,001</a:t>
                      </a:r>
                      <a:endParaRPr b="0" lang="en-US" sz="1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25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79,2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376,83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36,5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8,19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407,13, p=0,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4141"/>
                          </a:solidFill>
                          <a:latin typeface="Gill Sans"/>
                          <a:ea typeface="Gill Sans"/>
                        </a:rPr>
                        <a:t>Fraude</a:t>
                      </a:r>
                      <a:endParaRPr b="0" lang="en-US" sz="2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4,8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5,8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1,41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5,6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6,61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7,8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761,29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8,7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758,93, p=0,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4141"/>
                          </a:solidFill>
                          <a:latin typeface="Gill Sans"/>
                          <a:ea typeface="Gill Sans"/>
                        </a:rPr>
                        <a:t>Vandalismo</a:t>
                      </a:r>
                      <a:endParaRPr b="0" lang="en-US" sz="2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4,8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4,6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7,10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4,1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1,95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42,2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402,40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1,3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0,52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411,90, p=0,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4141"/>
                          </a:solidFill>
                          <a:latin typeface="Gill Sans"/>
                          <a:ea typeface="Gill Sans"/>
                        </a:rPr>
                        <a:t>Delitos de Tránsito</a:t>
                      </a:r>
                      <a:endParaRPr b="0" lang="en-US" sz="2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4,5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22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20,3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7,1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10,70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30,4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2,97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29,62, p=0,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4141"/>
                          </a:solidFill>
                          <a:latin typeface="Gill Sans"/>
                          <a:ea typeface="Gill Sans"/>
                        </a:rPr>
                        <a:t>Delitos de Drogas</a:t>
                      </a:r>
                      <a:endParaRPr b="0" lang="en-US" sz="2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3,2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1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5,07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3,1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3,2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χ²=910,86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4,3%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906,96, p=0,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4141"/>
                          </a:solidFill>
                          <a:latin typeface="Gill Sans"/>
                          <a:ea typeface="Gill Sans"/>
                        </a:rPr>
                        <a:t>Otros </a:t>
                      </a:r>
                      <a:endParaRPr b="0" lang="en-US" sz="20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,20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26,8%</a:t>
                      </a:r>
                      <a:endParaRPr b="0" lang="en-US" sz="1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16,70, p=0,001</a:t>
                      </a:r>
                      <a:endParaRPr b="0" lang="en-US" sz="1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15,6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57,1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χ²=271,11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6165"/>
                          </a:solidFill>
                          <a:latin typeface="Gill Sans"/>
                          <a:ea typeface="Gill Sans"/>
                        </a:rPr>
                        <a:t>24,3%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6,4, p=0,001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1224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d4d4d"/>
                          </a:solidFill>
                          <a:latin typeface="Gill Sans"/>
                          <a:ea typeface="Lucida Grande"/>
                        </a:rPr>
                        <a:t>χ²=292,05, p=0,000</a:t>
                      </a:r>
                      <a:endParaRPr b="0" lang="en-US" sz="1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"/>
          <p:cNvSpPr/>
          <p:nvPr/>
        </p:nvSpPr>
        <p:spPr>
          <a:xfrm>
            <a:off x="304920" y="3720960"/>
            <a:ext cx="12369600" cy="393840"/>
          </a:xfrm>
          <a:prstGeom prst="rect">
            <a:avLst/>
          </a:prstGeom>
          <a:solidFill>
            <a:srgbClr val="cfbbfe"/>
          </a:solidFill>
          <a:ln w="12600">
            <a:solidFill>
              <a:srgbClr val="cfb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Gill Sans"/>
                <a:ea typeface="Gill Sans"/>
              </a:rPr>
              <a:t>% en cada grupo condenado (hombres) por tipo de agresión (solo las significativas son reportadas en X cuadrado)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6" name=""/>
          <p:cNvSpPr/>
          <p:nvPr/>
        </p:nvSpPr>
        <p:spPr>
          <a:xfrm>
            <a:off x="3263760" y="2882880"/>
            <a:ext cx="2248200" cy="55872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Delitos de Droga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7" name=""/>
          <p:cNvSpPr/>
          <p:nvPr/>
        </p:nvSpPr>
        <p:spPr>
          <a:xfrm>
            <a:off x="6578640" y="2882880"/>
            <a:ext cx="2247840" cy="55872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Otro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994040" y="203040"/>
            <a:ext cx="7708680" cy="111780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¿Que es Riesgo y Riesgo Relativo?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1879560" y="1712880"/>
          <a:ext cx="8585280" cy="3992400"/>
        </p:xfrm>
        <a:graphic>
          <a:graphicData uri="http://schemas.openxmlformats.org/drawingml/2006/table">
            <a:tbl>
              <a:tblPr/>
              <a:tblGrid>
                <a:gridCol w="2146320"/>
                <a:gridCol w="1485720"/>
                <a:gridCol w="1816200"/>
                <a:gridCol w="1816200"/>
                <a:gridCol w="1320840"/>
              </a:tblGrid>
              <a:tr h="744480">
                <a:tc gridSpan="2"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stornos Mentales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744840">
                <a:tc gridSpan="2"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d5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744840">
                <a:tc rowSpan="3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minalidad (Condena de agresión violenta)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d5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d5"/>
                    </a:solidFill>
                  </a:tcPr>
                </a:tc>
                <a:tc rowSpan="2"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 rowSpan="2"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bfe"/>
                    </a:solidFill>
                  </a:tcPr>
                </a:tc>
              </a:tr>
              <a:tr h="74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480">
                <a:tc gridSpan="2"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d5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bfe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977760" y="6159600"/>
            <a:ext cx="10211040" cy="19684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ODDS(No-TM)=18/32=0,56 </a:t>
            </a:r>
            <a:r>
              <a:rPr b="0" lang="en-US" sz="1500" spc="-1" strike="noStrike">
                <a:solidFill>
                  <a:srgbClr val="1a1a1a"/>
                </a:solidFill>
                <a:latin typeface="Gill Sans"/>
                <a:ea typeface="Gill Sans"/>
              </a:rPr>
              <a:t>(la prob de ind sin TM de ser condenados por una agresión violenta es de 0,56)</a:t>
            </a:r>
            <a:endParaRPr b="0" lang="en-US" sz="1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ODDS (TM)= 29/21=1,38 </a:t>
            </a:r>
            <a:r>
              <a:rPr b="0" lang="en-US" sz="1500" spc="-1" strike="noStrike">
                <a:solidFill>
                  <a:srgbClr val="1a1a1a"/>
                </a:solidFill>
                <a:latin typeface="Gill Sans"/>
                <a:ea typeface="Gill Sans"/>
              </a:rPr>
              <a:t>(la prob de ind con TM de ser condenados por una agresión violenta es de 1,38)</a:t>
            </a:r>
            <a:endParaRPr b="0" lang="en-US" sz="1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OR (No-TM/TM)=0,41</a:t>
            </a:r>
            <a:r>
              <a:rPr b="0" lang="en-US" sz="1800" spc="-1" strike="noStrike">
                <a:solidFill>
                  <a:srgbClr val="1a1a1a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1a1a1a"/>
                </a:solidFill>
                <a:latin typeface="Gill Sans"/>
                <a:ea typeface="Gill Sans"/>
              </a:rPr>
              <a:t>(la probabilidad de que alguien sin TM sea condenado por agresión violenta es 0,41 veces la de que alguien con TM sea condenado por la misma agresión)</a:t>
            </a:r>
            <a:endParaRPr b="0" lang="en-US" sz="1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OR (TM/no-TM)=2,46 </a:t>
            </a:r>
            <a:r>
              <a:rPr b="0" lang="en-US" sz="1500" spc="-1" strike="noStrike">
                <a:solidFill>
                  <a:srgbClr val="1a1a1a"/>
                </a:solidFill>
                <a:latin typeface="Gill Sans"/>
                <a:ea typeface="Gill Sans"/>
              </a:rPr>
              <a:t>(la probabilidad de que alguien con TM sea condenado por agresión violenta es 2,46 veces la de que alguien sin TM sea condenado por la misma agresión)</a:t>
            </a:r>
            <a:endParaRPr b="0" lang="en-US" sz="1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031840" y="241200"/>
            <a:ext cx="7709040" cy="111780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Stockholm Metropolitan Projec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ill Sans"/>
                <a:ea typeface="Gill Sans"/>
              </a:rPr>
              <a:t>Resultados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2" name=""/>
          <p:cNvSpPr/>
          <p:nvPr/>
        </p:nvSpPr>
        <p:spPr>
          <a:xfrm>
            <a:off x="2095560" y="1460520"/>
            <a:ext cx="7950240" cy="1244520"/>
          </a:xfrm>
          <a:prstGeom prst="rect">
            <a:avLst/>
          </a:prstGeom>
          <a:solidFill>
            <a:srgbClr val="ecb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Hombres con desórdenes mentales tenían el doble de </a:t>
            </a: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probabilidad</a:t>
            </a: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 de ser registrados por un delito que hombres sin desórdenes mentales ni retardo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3" name=""/>
          <p:cNvSpPr/>
          <p:nvPr/>
        </p:nvSpPr>
        <p:spPr>
          <a:xfrm>
            <a:off x="2095560" y="2755800"/>
            <a:ext cx="7950240" cy="1244880"/>
          </a:xfrm>
          <a:prstGeom prst="rect">
            <a:avLst/>
          </a:prstGeom>
          <a:solidFill>
            <a:srgbClr val="ecb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Entre las mujeres, el </a:t>
            </a: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riesgo</a:t>
            </a: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 de criminalidad para aquellos con trastorno mental fue 4 veces más que mujeres sin desórdenes mentales ni retardo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 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4" name=""/>
          <p:cNvSpPr/>
          <p:nvPr/>
        </p:nvSpPr>
        <p:spPr>
          <a:xfrm>
            <a:off x="10312560" y="1816200"/>
            <a:ext cx="2463480" cy="1892160"/>
          </a:xfrm>
          <a:prstGeom prst="rect">
            <a:avLst/>
          </a:prstGeom>
          <a:solidFill>
            <a:srgbClr val="ecb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Subestimación DMM por hospitalización?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Algunos individuos con DMM no eran perseguidos por la ley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30 años de edad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5" name=""/>
          <p:cNvSpPr/>
          <p:nvPr/>
        </p:nvSpPr>
        <p:spPr>
          <a:xfrm>
            <a:off x="2095560" y="4089240"/>
            <a:ext cx="795024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En </a:t>
            </a: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promedio</a:t>
            </a: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, los hombres con DMM tenían más condenas que hombres sin retardo sin desórdenes pero menos que los hombres admitidos a hospital por desorden drogas/alcohol. Similar mujeres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 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6" name=""/>
          <p:cNvSpPr/>
          <p:nvPr/>
        </p:nvSpPr>
        <p:spPr>
          <a:xfrm>
            <a:off x="2095560" y="5816520"/>
            <a:ext cx="7950240" cy="189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Riesgo</a:t>
            </a: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 para </a:t>
            </a: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agresión violenta </a:t>
            </a: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para hombres y mujeres con desórdenes, fue más alto que para la población en general. Hombres con DMM tenían 5 veces mas probabilidad que hombres sin DMM de ser condenados por una agresión violenta. Para las mujeres el riesgo es de </a:t>
            </a: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11 veces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 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7" name=""/>
          <p:cNvSpPr/>
          <p:nvPr/>
        </p:nvSpPr>
        <p:spPr>
          <a:xfrm>
            <a:off x="2095560" y="7759800"/>
            <a:ext cx="7950240" cy="1892160"/>
          </a:xfrm>
          <a:prstGeom prst="rect">
            <a:avLst/>
          </a:prstGeom>
          <a:solidFill>
            <a:srgbClr val="fefd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Patrón de edad a la primera condena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La conducta criminal de aquellos que, más tarde, desarrollarían trastornos mentales comenzó en la temprana adolescencia. Otro grupo de personas con DMM comenzaron a delinquir después de los 21 años. 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 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8" name=""/>
          <p:cNvSpPr/>
          <p:nvPr/>
        </p:nvSpPr>
        <p:spPr>
          <a:xfrm>
            <a:off x="10578960" y="8191440"/>
            <a:ext cx="2197080" cy="1015920"/>
          </a:xfrm>
          <a:prstGeom prst="rect">
            <a:avLst/>
          </a:prstGeom>
          <a:solidFill>
            <a:srgbClr val="fefd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Esto no ocurre en hombres y mujeres sin DMM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031840" y="241200"/>
            <a:ext cx="7709040" cy="111780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Tipo de Diseño (1) Estudios de Cohort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0" name=""/>
          <p:cNvSpPr/>
          <p:nvPr/>
        </p:nvSpPr>
        <p:spPr>
          <a:xfrm>
            <a:off x="977760" y="3340080"/>
            <a:ext cx="10211040" cy="2311560"/>
          </a:xfrm>
          <a:prstGeom prst="rect">
            <a:avLst/>
          </a:prstGeom>
          <a:solidFill>
            <a:srgbClr val="ecb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Hombres y Mujeres nacidos en Dinamarca (1944-1947 hasta 1990)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165,602 hombres-158,799 mujere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Individuos admitidos a hospitalización, DMM, RM, Desorden Orgánico, TPA, Desorden uso Alcohol, Otros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A los 43-46 años se revisaron todas las admisiones psiquiátricas y altas y Registro Policial   Agresores masculinos que desarrollaron un DMM fueron condenados, en promedio, de más ofensas que aquellos sin DMM. Lo mismo mujeres pero con mayor riesgo que hombre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965160" y="5524560"/>
            <a:ext cx="10210680" cy="1905120"/>
          </a:xfrm>
          <a:prstGeom prst="rect">
            <a:avLst/>
          </a:prstGeom>
          <a:solidFill>
            <a:srgbClr val="ecb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Mujeres y Hombres en Victoria (Australia) 1993-1995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Registro psiquiátrico con internos y aquellos tratados en la comunidad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Hombres y mujeres con DMM tenían mayor riesgo de cometer delito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Entre los hombres, aquellos con esquizofrenia tenían 3,2 veces más riesgo que aquellos sin esquizo. de tener un registro criminal, 4,4 veces mas riesgo de una condena por crimen violento y 10,1 veces riesgo de cometer homicidio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2" name=""/>
          <p:cNvSpPr/>
          <p:nvPr/>
        </p:nvSpPr>
        <p:spPr>
          <a:xfrm>
            <a:off x="977760" y="7518240"/>
            <a:ext cx="10211040" cy="69876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¿Y los factores socioeconómicos?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Criminalidad y FS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3" name=""/>
          <p:cNvSpPr/>
          <p:nvPr/>
        </p:nvSpPr>
        <p:spPr>
          <a:xfrm>
            <a:off x="977760" y="8305920"/>
            <a:ext cx="10211040" cy="69840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Hay asociación entre bajo NSE de la familia de origen y registro criminal en la adultez (Hodgins y Janson, 2002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4" name=""/>
          <p:cNvSpPr/>
          <p:nvPr/>
        </p:nvSpPr>
        <p:spPr>
          <a:xfrm>
            <a:off x="965160" y="9080640"/>
            <a:ext cx="10210680" cy="43164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Esto no es así para individuos con DMM (Hodgins y Janson, 2002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5" name=""/>
          <p:cNvSpPr/>
          <p:nvPr/>
        </p:nvSpPr>
        <p:spPr>
          <a:xfrm>
            <a:off x="977760" y="1714680"/>
            <a:ext cx="10211040" cy="1625400"/>
          </a:xfrm>
          <a:prstGeom prst="rect">
            <a:avLst/>
          </a:prstGeom>
          <a:solidFill>
            <a:srgbClr val="ecb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Hombres nacidos en Copenhagen (1953 hasta 1975) </a:t>
            </a: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(Ortman, 1981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11,540 hombre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Examinó los registros criminales (33 años) y registros hospitalización psiquiátrica (25 años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34,8% hombres sin DMM tenía al menos una ofensa, 43,5% con DMM y 83,2% Abuso Sustancias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Gill Sans"/>
                <a:ea typeface="Gill Sans"/>
              </a:rPr>
              <a:t>Más de aquellos con admisiones psiquiátricas habían sido condenados por cada tipo de ofens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2336760" y="495360"/>
            <a:ext cx="7709040" cy="111744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de Seguimiento de Pacientes dados de alta (II)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7" name=""/>
          <p:cNvSpPr/>
          <p:nvPr/>
        </p:nvSpPr>
        <p:spPr>
          <a:xfrm>
            <a:off x="1244520" y="2692440"/>
            <a:ext cx="10211040" cy="207000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Lindqvist y Allebeck (1990)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Link, Andrews y Cullen (1992)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Belfrage (1998)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4141"/>
                </a:solidFill>
                <a:latin typeface="Gill Sans"/>
                <a:ea typeface="Gill Sans"/>
              </a:rPr>
              <a:t>Australian State of  Victoria (1975-1985)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336760" y="495360"/>
            <a:ext cx="7709040" cy="111744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Estudios de Seguimiento de Pacientes dados de alta (II)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9000" y="1650960"/>
          <a:ext cx="12015360" cy="5740560"/>
        </p:xfrm>
        <a:graphic>
          <a:graphicData uri="http://schemas.openxmlformats.org/drawingml/2006/table">
            <a:tbl>
              <a:tblPr/>
              <a:tblGrid>
                <a:gridCol w="2657520"/>
                <a:gridCol w="2721240"/>
                <a:gridCol w="3124440"/>
                <a:gridCol w="3512160"/>
              </a:tblGrid>
              <a:tr h="110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indqvist y Allebeck (1990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Re-diagnóstico. 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eguimiento, 14 años 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Todos pacientes con esquizofrenia en Estocolmo nacidos 1920 y 1959 dados de alta en 1971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Riesgo Relativo de ind. con esquizofrenia de cometer una ofensa criminal es 1,2 veces para los hombres y 2,2 para las mujeres que pob. gral. 4 veces mas riesgo cometer ofensas violentas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</a:tr>
              <a:tr h="1612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Link, Andrews y Cullen (1992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- Pacientes internados por 1era vez el año anterior; 2- Pacientes en tratamiento durante al año anterior y una vez antes; 3- Pacientes sin tratamiento el año ant. 4- Muestra control comunidad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1,7% pacientes y 12,2% pacientes en trat. repetido tenían arrestos. Arrestos en pacientes eran más probables que aquellos en la comunidad (felonía y conducta violenta)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</a:tr>
              <a:tr h="835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Belfrage (1998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ohorte, Seguimiento a 1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uestra comunitaria sin TM (historia) y pacientes con DMM dados alta en 1986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42% hombres y 14% mujeres fueron condenadas de delito. Mayoría DMM cometía delitos después de 30 año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</a:tr>
              <a:tr h="10936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Victoria (Australia)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os-seccional, 2 moment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Criminalidad de personas admitidas a hospital con esquizo. en 1975 y 1985. Matched control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proporción de hombres con esquizo. tenían al menos 1 ofensa (+ violenta) comparado con ind. sin DM ambos años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c7d9"/>
                    </a:solidFill>
                  </a:tcPr>
                </a:tc>
              </a:tr>
              <a:tr h="1094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c Arthur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Seguimiento, Longitudinal, 10 años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1,136 Hombres entre 18 y 40 años seguidos x10 semanas después de alta. Grupo control 500 ind. vecindario</a:t>
                      </a:r>
                      <a:endParaRPr b="0" lang="en-US" sz="12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ill Sans Light"/>
                          <a:ea typeface="ヒラギノ角ゴ ProN W3"/>
                        </a:rPr>
                        <a:t>Mayor prevalencia violencia en ind- con co-morbilidad dados de alta con Abuso de Sustancias que individuos sólo con DMM dados de alta </a:t>
                      </a:r>
                      <a:endParaRPr b="0" lang="en-US" sz="13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</a:tr>
            </a:tbl>
          </a:graphicData>
        </a:graphic>
      </p:graphicFrame>
      <p:sp>
        <p:nvSpPr>
          <p:cNvPr id="720" name=""/>
          <p:cNvSpPr/>
          <p:nvPr/>
        </p:nvSpPr>
        <p:spPr>
          <a:xfrm>
            <a:off x="1968480" y="7581960"/>
            <a:ext cx="7924680" cy="2070000"/>
          </a:xfrm>
          <a:prstGeom prst="rect">
            <a:avLst/>
          </a:prstGeom>
          <a:solidFill>
            <a:srgbClr val="cad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3434"/>
                </a:solidFill>
                <a:latin typeface="Gill Sans"/>
                <a:ea typeface="Gill Sans"/>
              </a:rPr>
              <a:t>Conclusiones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43434"/>
                </a:solidFill>
                <a:latin typeface="Gill Sans"/>
                <a:ea typeface="Gill Sans"/>
              </a:rPr>
              <a:t>Más individuos que han sido dados de alta que individuos viviendo en la comunidad han sido condenados por ofensas criminales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3434"/>
                </a:solidFill>
                <a:latin typeface="Gill Sans"/>
                <a:ea typeface="Gill Sans"/>
              </a:rPr>
              <a:t>Consideraciones metodológicas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43434"/>
                </a:solidFill>
                <a:latin typeface="Gill Sans"/>
                <a:ea typeface="Gill Sans"/>
              </a:rPr>
              <a:t>¿Sesgos?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762120" y="152280"/>
            <a:ext cx="11480760" cy="1231920"/>
          </a:xfrm>
          <a:prstGeom prst="rect">
            <a:avLst/>
          </a:prstGeom>
          <a:solidFill>
            <a:srgbClr val="cfb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"/>
                <a:ea typeface="Gill Sans"/>
              </a:rPr>
              <a:t>El estudio MacArthur de Evaluación de Riesgo para la Violencia</a:t>
            </a: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 (estudios de seguimiento de pacientes dados de alta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2" name=""/>
          <p:cNvSpPr/>
          <p:nvPr/>
        </p:nvSpPr>
        <p:spPr>
          <a:xfrm>
            <a:off x="1384200" y="3441600"/>
            <a:ext cx="10211040" cy="598176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- Gente dada de alta no son una categoría homogénea en relación a la violenci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- Gente con DMM sin Abuso de Sustancias se involucran en significativamente menos violencia que gente con co-morbilidad con Abuso de Sustancias.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- La </a:t>
            </a:r>
            <a:r>
              <a:rPr b="1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prevalencia </a:t>
            </a: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de violencia de personas dadas de alta que no tienen síntomas de Abuso de Sustancias es aprox. la misma entre gente viviendo en sus comunidades que no tienen Abuso de Sustancias.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- La </a:t>
            </a:r>
            <a:r>
              <a:rPr b="1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prevalencia </a:t>
            </a: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de violencia es más alta entre gente aquellos que abusan de sustancias (hayan sido dados de alta o no) Sin embargo, personas que han sido dados de alta de un hospital psiquiátrico </a:t>
            </a:r>
            <a:r>
              <a:rPr b="1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tienen más probabilidades de tener síntomas de Abuso de Sustancias </a:t>
            </a: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que otra gente viviendo en la comunidad.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- La </a:t>
            </a:r>
            <a:r>
              <a:rPr b="1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prevalencia de violencia </a:t>
            </a: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de aquellos que han sido dados de alta y tienen síntomas de Abuso de Sustancias es mayor que la prevalencia de violencia en gente de la comunidad que tienen síntomas de abuso de sustancias, </a:t>
            </a:r>
            <a:r>
              <a:rPr b="1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por los primeros meses después de ser dados de alta</a:t>
            </a: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. 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- El </a:t>
            </a:r>
            <a:r>
              <a:rPr b="1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tipo de violencia</a:t>
            </a:r>
            <a:r>
              <a:rPr b="0" lang="en-US" sz="2000" spc="-1" strike="noStrike">
                <a:solidFill>
                  <a:srgbClr val="414141"/>
                </a:solidFill>
                <a:latin typeface="Gill Sans"/>
                <a:ea typeface="Gill Sans"/>
              </a:rPr>
              <a:t> de gente que ha sido dada de alta es muy similar a aquella cometida por gente en sus comunidades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3" name=""/>
          <p:cNvSpPr/>
          <p:nvPr/>
        </p:nvSpPr>
        <p:spPr>
          <a:xfrm>
            <a:off x="1384200" y="1359000"/>
            <a:ext cx="10211040" cy="1981080"/>
          </a:xfrm>
          <a:prstGeom prst="rect">
            <a:avLst/>
          </a:prstGeom>
          <a:solidFill>
            <a:srgbClr val="f6fa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1,136 Hombres entre 18 y 40 años seguidos x10 semanas después de alta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Comparación con 500 Adultos del mismo vecindario del grupo exp.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Auto-reporte, reportes cercanos y reportes hospital (violencia)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Entrevista acerca de violencia a las 10 semanas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Gill Sans"/>
              </a:rPr>
              <a:t>1992-1995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