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02F7D-AB3A-44A4-9AC7-9B0618856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5FB9-41D5-4A05-AC41-D900963F6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7E0CC-117C-4D71-A0EC-9A25A443F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68415-630A-45C0-9F92-5A3FD0F4C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60419-1F3C-4ECC-8579-3AB07C428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68965-7B3B-4C6D-A994-AD790FBA8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ED8B7-748C-4404-A100-9C8140BC5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63EA3-A191-4515-BBF0-9268BD807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33812-6540-4AA4-A025-025BAC66B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80B0F-8CFD-4186-8EA3-58FA93B1D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22276-B539-4618-9570-807DE417B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E3B2E-6208-4738-BA64-4D79C863F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50105-0973-4FF1-AD97-D238D147A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9CF8B-623C-44C3-8C71-F1C13CBDA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013E3-9B87-477E-BF46-FA158955A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D6349-5759-42B5-8750-50D4E7BA6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60999-3AE6-4BBF-BBF0-D79204C1E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3097D-5B1C-4B64-B8BE-32A66CDE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1122-7A74-493F-9EE1-BAB2F8DCF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33246-DAC2-4646-8DDA-6245299E6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60CA7-BF2B-48D0-B5EF-C0C036121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F53A-2661-45FD-A2FE-09706D14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1A1F-6FFF-4FF9-BCEE-A76DF2F96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0AE4-9551-4D24-BCC0-02E1B7E5A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01BC-2463-49A3-B2E6-5D274F66D99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 name="Picture 14" descr="Logo UCHILE"/>
          <p:cNvPicPr/>
          <p:nvPr/>
        </p:nvPicPr>
        <p:blipFill>
          <a:blip r:embed="rId2"/>
          <a:stretch/>
        </p:blipFill>
        <p:spPr>
          <a:xfrm>
            <a:off x="395280" y="907920"/>
            <a:ext cx="692280" cy="110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0520" y="2546280"/>
              <a:ext cx="711360" cy="474840"/>
              <a:chOff x="290520" y="2546280"/>
              <a:chExt cx="711360" cy="474840"/>
            </a:xfrm>
          </p:grpSpPr>
          <p:sp>
            <p:nvSpPr>
              <p:cNvPr id="5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grpSp>
          <p:nvGrpSpPr>
            <p:cNvPr id="53" name="Group 6"/>
            <p:cNvGrpSpPr/>
            <p:nvPr/>
          </p:nvGrpSpPr>
          <p:grpSpPr>
            <a:xfrm>
              <a:off x="414360" y="2968560"/>
              <a:ext cx="737640" cy="474840"/>
              <a:chOff x="414360" y="2968560"/>
              <a:chExt cx="737640" cy="474840"/>
            </a:xfrm>
          </p:grpSpPr>
          <p:sp>
            <p:nvSpPr>
              <p:cNvPr id="5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pic>
        <p:nvPicPr>
          <p:cNvPr id="59" name="Picture 17" descr="Logo UCHILE"/>
          <p:cNvPicPr/>
          <p:nvPr/>
        </p:nvPicPr>
        <p:blipFill>
          <a:blip r:embed="rId2"/>
          <a:stretch/>
        </p:blipFill>
        <p:spPr>
          <a:xfrm>
            <a:off x="279360" y="2349360"/>
            <a:ext cx="692280" cy="1106640"/>
          </a:xfrm>
          <a:prstGeom prst="rect">
            <a:avLst/>
          </a:prstGeom>
          <a:ln w="0">
            <a:noFill/>
          </a:ln>
        </p:spPr>
      </p:pic>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726E-D131-44A9-8451-90F6AA554011}"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l/imgres?imgurl=http://www.noatodo.org/files/2008/08/sigmund_freud.jpg&amp;imgrefurl=http://www.noatodo.org/teorias-sexuales-freudianas/&amp;h=1441&amp;w=1044&amp;sz=326&amp;hl=es&amp;start=2&amp;sig2=2OrGHpob0Ejj_dPk2D67Yg&amp;usg=__1kSOLtZQiUWsSf_tqCbe7Zl49wM=&amp;tbnid=O3i26yBp6jpGwM:&amp;tbnh=150&amp;tbnw=109&amp;ei=nIQISb7uM43ENJmnhN8G&amp;prev=/images%3Fq%3Dfreud%26gbv%3D2%26hl%3Des"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http://www.publimatic.com/agenda/psicoterapia.gif&amp;imgrefurl=http://www.publimatic.com/diario.php3%3Fd%3Dagenda%26numart%3D72760&amp;h=239&amp;w=250&amp;sz=6&amp;hl=es&amp;start=1&amp;sig2=2BdUUh_s1_va_-OW37PjWQ&amp;usg=__JlodizHwpycj9GW3Tp-hK3Cu58c=&amp;tbnid=gdP6Xni5RMdG8M:&amp;tbnh=106&amp;tbnw=111&amp;ei=14QISd-PC43eMLf_oOQG&amp;prev=/images%3Fq%3Dpsicoterapia%26gbv%3D2%26hl%3Des"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literaturabachillerato.files.wordpress.com/2008/04/ansiedad20nerviosismo_56859.jpg&amp;imgrefurl=http://literaturabachillerato.wordpress.com/2008/04/&amp;h=452&amp;w=678&amp;sz=12&amp;hl=es&amp;start=1&amp;sig2=IbOgHUEihXrj4KgUlHFEew&amp;usg=__IIFBhyeNqo8mO7It1-Fvn_sht3E=&amp;tbnid=5xNWbGHEeC-plM:&amp;tbnh=93&amp;tbnw=139&amp;ei=AoMISb-TE6P-NJnpgfMG&amp;prev=/images%3Fq%3Dansiedad%26gbv%3D2%26hl%3Des%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l/imgres?imgurl=http://www.lukor.com/hogarysalud/05062804.jpg&amp;imgrefurl=http://www.lukor.com/hogarysalud/05062804.htm&amp;h=222&amp;w=250&amp;sz=12&amp;hl=es&amp;start=33&amp;sig2=3cYfwWvoyPftZxM3HcsEBQ&amp;usg=__4mUxxZeHPEeHpmQlFRTlcVJzlLs=&amp;tbnid=41hA1Yt-t62eXM:&amp;tbnh=99&amp;tbnw=111&amp;ei=EYUISf2dOYfYNPbByOcG&amp;prev=/images%3Fq%3Dansiedad%26start%3D18%26gbv%3D2%26ndsp%3D18%26hl%3Des%26sa%3DN"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images.google.cl/imgres?imgurl=http://www.ellibertador.com/el%2520Libertador%2520Archivo/Semana%2520070/images/Soldados%2520USA%25206.JPG&amp;imgrefurl=http://matonsolitario.blogspot.com/2006/09/estos-soldados-gringos-peleando-en.html&amp;h=439&amp;w=652&amp;sz=60&amp;hl=es&amp;start=7&amp;sig2=n8kbd1yNdNhtR_7RBfzvJA&amp;usg=__ry9r-MCKko-EuH8xXNsu7T3om2U=&amp;tbnid=AAKZvETBXoaC-M:&amp;tbnh=93&amp;tbnw=138&amp;ei=LIUISa_pJKP-NIvoufEG&amp;prev=/images%3Fq%3Dsoldados%26gbv%3D2%26hl%3Des"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l/imgres?imgurl=http://www.intelligo.es/images/20060814230617-miedo%255B1%255D.jpg&amp;imgrefurl=http://drmime.wordpress.com/author/drmime/&amp;h=480&amp;w=319&amp;sz=33&amp;hl=es&amp;start=5&amp;sig2=qHqr-0JNAjBBu1RxXdMyuA&amp;usg=__4e7U2F_eiTicOf5vHju_jkOICGo=&amp;tbnid=uX0lvH2EIKbA4M:&amp;tbnh=129&amp;tbnw=86&amp;ei=ToUISeLMJqOiNdjcteEG&amp;prev=/images%3Fq%3Dmiedo%26gbv%3D2%26hl%3Des"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saludalia.com/Saludalia/web_saludalia/vivir_sano/doc/alcohol_y_drogas/jpg/alcohol_ansiedad_1.jpg&amp;imgrefurl=http://www.saludalia.com/Saludalia/web_saludalia/vivir_sano/doc/alcohol_y_drogas/doc/alcohol_ansiedad.htm&amp;h=190&amp;w=181&amp;sz=12&amp;hl=es&amp;start=6&amp;sig2=otPmLlVN7WuKltGTMSrQjA&amp;usg=__fdHyO2htJVhrYufKBrtCVG_jL-Y=&amp;tbnid=AiZgIW6jv0-y6M:&amp;tbnh=103&amp;tbnw=98&amp;ei=AoMISb-TE6P-NJnpgfMG&amp;prev=/images%3Fq%3Dansiedad%26gbv%3D2%26hl%3Des%26sa%3D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l/imgres?imgurl=http://bp1.blogger.com/_0leCgonyJ0E/R36oA0Si46I/AAAAAAAAAgg/O0QbMc8m1ZM/s320/ansiedad160304.jpg&amp;imgrefurl=http://ansiedadonline.blogspot.com/&amp;h=300&amp;w=269&amp;sz=26&amp;hl=es&amp;start=15&amp;sig2=lvppARzPKxCE4wtvFaM8Yg&amp;usg=__H8n7U2msO_GjKSkj-nPTQzg5Emo=&amp;tbnid=jX4f95y34kLtfM:&amp;tbnh=116&amp;tbnw=104&amp;ei=AoMISb-TE6P-NJnpgfMG&amp;prev=/images%3Fq%3Dansiedad%26gbv%3D2%26hl%3Des%26sa%3D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images.google.cl/imgres?imgurl=http://i.esmas.com/image/0/000/005/286/panicoNTnva.jpg&amp;imgrefurl=http://www.esmas.com/salud/enfermedades/mentales/594962.html&amp;h=270&amp;w=370&amp;sz=10&amp;hl=es&amp;start=1&amp;sig2=lqlihf2jEMkB0O2aGiz_DQ&amp;usg=__8r9YgF6Y0_jJaZEMysDsnpBQ4yM=&amp;tbnid=glcK7c1aIeRlBM:&amp;tbnh=89&amp;tbnw=122&amp;ei=doUISe53ndo0rsiU7QY&amp;prev=/images%3Fq%3Dpanico%26gbv%3D2%26hl%3Des"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l/imgres?imgurl=http://www.washingtonhispanic.com/Passissues/paper4_8_5/images/salud/ansiedad.jpg&amp;imgrefurl=http://www.washingtonhispanic.com/Passissues/paper4_8_5/html/salud.html&amp;h=290&amp;w=194&amp;sz=23&amp;hl=es&amp;start=20&amp;sig2=xsUZl1308czcW7wp3_DzHg&amp;usg=___w5h4Ya5oT-IikFggDjClPq7XHY=&amp;tbnid=bFqoJgPjNnzw4M:&amp;tbnh=115&amp;tbnw=77&amp;ei=goQISazVG4q4MfH67N4G&amp;prev=/images%3Fq%3Dansiedad%26start%3D18%26gbv%3D2%26ndsp%3D18%26hl%3Des%26sa%3D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Tahoma"/>
              </a:rPr>
              <a:t>Ansiedad en la Clínica: Técnicas Conductuales de Intervenció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042920" y="4869000"/>
            <a:ext cx="71294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Prof. Ps. José Luis Rossi 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tendencia a la ansiedad se correlaciona entre 0.6 y 0.8 con el llamado neuroticismo de Eysenck (1967, 1981).  Según Eysenck los neuróticos se caracterizan por presentar una intensa actividad del sistema nervioso autónomo y tasas muy lentas de habituación a los estímulos. J. A. Gray (1982) afirma que los individuos con una elevada tendencia ansiosa poseen características que reflejan una combinación de introversión y neuroticismo.</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tudio de Shields (1962, 1973) que evaluó la heredabilidad del neuroticismo, encontró correlaciones de 0.53 entre pares de gemelos monocigóticos criados separados, de 0.38 para monocigótos criados juntos y de 0.11 para dicigóticos criados juntos, lo que sugiere un patrón de heredabilidad elevado como factor determinante de la personalidad.</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tro estudio en gran escala de casi 13 mil pares de gemelos, realizado por Floderus-Myrhed y col (1980), informó la presencia de una heredabilidad para el neuroticismo del 0.5 para hombres y 0.58 para mujeres, lo que habla de que el factor genético puede dar cuenta de la mitad de la variancia al menos.  Esta posibilidad sugiere que el aspecto hereditario de los temores y las fobias consiste en una “vulnerabilidad” para desarrollar dichos síntomas.  Por consiguiente, los individuos con rasgos o una tendencia ansiosa pueden ser más vulnerables a exhibir estados de ansiedad, si se dan las condiciones requerid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Sensibilidad Ansiosa</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sí como las personas varían en su tendencia a experimentar síntomas ansiosos, también varían en sus temores respecto a dichos síntomas.  Para la mayor parte de las personas la ansiedad es meramente displacentera, mientras que para otras es aterrorizante.  En su descripción original, el constructo de</a:t>
            </a:r>
            <a:r>
              <a:rPr b="1" lang="es-CL" sz="2800" spc="-1" strike="noStrike">
                <a:solidFill>
                  <a:srgbClr val="000000"/>
                </a:solidFill>
                <a:latin typeface="Tahoma"/>
              </a:rPr>
              <a:t> sensibilidad ansiosa (SA) o anxiety sensitivity, </a:t>
            </a:r>
            <a:r>
              <a:rPr b="0" lang="es-CL" sz="2800" spc="-1" strike="noStrike">
                <a:solidFill>
                  <a:srgbClr val="000000"/>
                </a:solidFill>
                <a:latin typeface="Tahoma"/>
              </a:rPr>
              <a:t>denota estas diferencias individuales en el temor hacia la ansiedad (Reiss y McNally, 1985).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1" lang="es-CL" sz="2800" spc="-1" strike="noStrike">
                <a:solidFill>
                  <a:srgbClr val="000000"/>
                </a:solidFill>
                <a:latin typeface="Tahoma"/>
              </a:rPr>
              <a:t>sensibilidad ansiosa </a:t>
            </a:r>
            <a:r>
              <a:rPr b="0" lang="es-CL" sz="2800" spc="-1" strike="noStrike">
                <a:solidFill>
                  <a:srgbClr val="000000"/>
                </a:solidFill>
                <a:latin typeface="Tahoma"/>
              </a:rPr>
              <a:t>está compueta por tres factores correlacionado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emor a las sensaciones somática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emor al descontrol cognitivo 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emor a reacciones ansiosas públicamente observab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os factores pueden ser reducidos a temores más básicos, como el temor a la muerte, a la locura y a la evaluación negativ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Ansiedad y Personalidad</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a:t>
            </a:r>
            <a:r>
              <a:rPr b="0" i="1" lang="es-CL" sz="1800" spc="-1" strike="noStrike">
                <a:solidFill>
                  <a:srgbClr val="000000"/>
                </a:solidFill>
                <a:latin typeface="Tahoma"/>
              </a:rPr>
              <a:t>cluster </a:t>
            </a:r>
            <a:r>
              <a:rPr b="0" lang="es-CL" sz="1800" spc="-1" strike="noStrike">
                <a:solidFill>
                  <a:srgbClr val="000000"/>
                </a:solidFill>
                <a:latin typeface="Tahoma"/>
              </a:rPr>
              <a:t>o grupo C describe tipos de personalidad con rasgos temerosos, ansiosos o inhibidos y está actualmente compuesto por los trastornos evitativo, dependiente y obsesivo-compulsivo de personalidad.</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ha observado una comorbilidad frecuente entre algunos trastornos de ansiedad y rasgos o trastornos de personalidad vinculados al grupo C, el más común de ellos es la relación entre el Trastorno de Ansiedad Social o TAS (Eje I) y el Trastorno evitativo de personalidad (Eje II).  La superposición descriptiva de ambos trastornos es tan amplia que algunos autores, al estudiar la comorbilidad, han notado prevalencias tan altas como un 90% (Schneier y col. 1991), aunque en realidad las definiciones de ambos se superponen, tanto como para ser consideradas la misma entidad cuando el TAS es generalizado y de larga dat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tre algunos pocos desarrollos interesantes en esta área, se encuentra el vínculo entre variables de temperamento en niños y la presencia de TP o TA en sus familias.  La inhibición comportamental, alude a un cuadro de retraimiento o ansiedad frente a nuevas situaciones y se piensa que es un rasgo permanente del comportamiento (Kagan y col. 1988).  En un estudio, los pacientes con TP con AGF presentaron tener un porcentaje elevado de hijos con inhibición comportamental (Risebaum, Biederman y col. 198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Antecedentes históricos de la ansiedad</a:t>
            </a:r>
            <a:endParaRPr b="0" lang="en-US" sz="40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imeros investigadores clínicos centraron su atención en los aspectos somáticos de la ansiedad patológica. En los últimos cien años una variedad de nombres han intentado designar a la ansiedad en sus variadas manifestaciones y presentaciones; ya sea en forma de crisis agudas o como malestar crónico. Se han utilizado denominaciones tales como: disfuncionalismo cardíaco, corazón irritable, síndrome por esfuerzo, fatiga nerviosa, taquicardia nerviosa, astenia neurovegetativa,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1894 Freud acuña la denominación de “neurosis de angustia”, que desgloza a partir de la neurastenia. En el cuadro clínico de las neurosis de angustia, Freud incluyó los siguientes síntoma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xcitabilidad general, con insomnio e hiperestesia auditiv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pera angustiosa, que luego fue llamada ansiedad anticipatoria, refiriendo que era permanente y latente.</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37" name="PlaceHolder 2"/>
          <p:cNvSpPr>
            <a:spLocks noGrp="1"/>
          </p:cNvSpPr>
          <p:nvPr>
            <p:ph/>
          </p:nvPr>
        </p:nvSpPr>
        <p:spPr>
          <a:xfrm>
            <a:off x="1182240" y="2017800"/>
            <a:ext cx="381492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teriormente, Freud propone 4 subtipos diferenciales de Neurosi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eurosis de angusti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eurosis fóbic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eurosis obsesiv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eurosis histérica</a:t>
            </a:r>
            <a:endParaRPr b="0" lang="en-US" sz="2800" spc="-1" strike="noStrike">
              <a:solidFill>
                <a:srgbClr val="000000"/>
              </a:solidFill>
              <a:latin typeface="Tahoma"/>
            </a:endParaRPr>
          </a:p>
        </p:txBody>
      </p:sp>
      <p:sp>
        <p:nvSpPr>
          <p:cNvPr id="138" name=""/>
          <p:cNvSpPr txBox="1"/>
          <p:nvPr/>
        </p:nvSpPr>
        <p:spPr>
          <a:xfrm>
            <a:off x="5144760" y="2017800"/>
            <a:ext cx="380988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9" name="Picture 7" descr="sigmund_freud">
            <a:hlinkClick r:id="rId1"/>
          </p:cNvPr>
          <p:cNvPicPr/>
          <p:nvPr/>
        </p:nvPicPr>
        <p:blipFill>
          <a:blip r:embed="rId2"/>
          <a:stretch/>
        </p:blipFill>
        <p:spPr>
          <a:xfrm>
            <a:off x="6305400" y="2492280"/>
            <a:ext cx="1465560" cy="201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Tahoma"/>
              </a:rPr>
              <a:t>Presentaciones clínicas</a:t>
            </a:r>
            <a:endParaRPr b="0" lang="en-US" sz="4400" spc="-1" strike="noStrike">
              <a:solidFill>
                <a:srgbClr val="333399"/>
              </a:solidFill>
              <a:latin typeface="Tahoma"/>
            </a:endParaRPr>
          </a:p>
        </p:txBody>
      </p:sp>
      <p:sp>
        <p:nvSpPr>
          <p:cNvPr id="141" name="PlaceHolder 2"/>
          <p:cNvSpPr>
            <a:spLocks noGrp="1"/>
          </p:cNvSpPr>
          <p:nvPr>
            <p:ph/>
          </p:nvPr>
        </p:nvSpPr>
        <p:spPr>
          <a:xfrm>
            <a:off x="1182240" y="2017800"/>
            <a:ext cx="381492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sintomatología de los diversos trastornos ansiosos es bastante similar entre sí; lo que varía son principalmente las circunstancias en que ésta se produce y la historia natural de cada trastorno (evolución, curso y pronóstico).</a:t>
            </a:r>
            <a:endParaRPr b="0" lang="en-US" sz="2400" spc="-1" strike="noStrike">
              <a:solidFill>
                <a:srgbClr val="000000"/>
              </a:solidFill>
              <a:latin typeface="Tahoma"/>
            </a:endParaRPr>
          </a:p>
        </p:txBody>
      </p:sp>
      <p:sp>
        <p:nvSpPr>
          <p:cNvPr id="142"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3" name="Picture 7" descr="psicoterapia">
            <a:hlinkClick r:id="rId1"/>
          </p:cNvPr>
          <p:cNvPicPr/>
          <p:nvPr/>
        </p:nvPicPr>
        <p:blipFill>
          <a:blip r:embed="rId2"/>
          <a:stretch/>
        </p:blipFill>
        <p:spPr>
          <a:xfrm>
            <a:off x="6227640" y="2637000"/>
            <a:ext cx="1849680" cy="17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ansiedad es una de las emociones humanas básicas que contiene en si misma aspectos normales y patológicos del ser humano.</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stituye además un punto de convergencia de aspectos somáticos, psicológicos y culturales de las personas.</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o síntoma la ansiedad está presente en alguna forma  en casi la totalidad de los trastornos psiquiátricos, sin embargo, en los trastornos de ansiedad constituye </a:t>
            </a:r>
            <a:r>
              <a:rPr b="1" lang="es-ES" sz="2800" spc="-1" strike="noStrike">
                <a:solidFill>
                  <a:srgbClr val="000000"/>
                </a:solidFill>
                <a:latin typeface="Tahoma"/>
              </a:rPr>
              <a:t>el síntoma central.</a:t>
            </a:r>
            <a:endParaRPr b="0" lang="en-US" sz="2800" spc="-1" strike="noStrike">
              <a:solidFill>
                <a:srgbClr val="000000"/>
              </a:solidFill>
              <a:latin typeface="Tahoma"/>
            </a:endParaRPr>
          </a:p>
        </p:txBody>
      </p:sp>
      <p:pic>
        <p:nvPicPr>
          <p:cNvPr id="105" name="Picture 5" descr="ansiedad20nerviosismo_56859">
            <a:hlinkClick r:id="rId1"/>
          </p:cNvPr>
          <p:cNvPicPr/>
          <p:nvPr/>
        </p:nvPicPr>
        <p:blipFill>
          <a:blip r:embed="rId2"/>
          <a:stretch/>
        </p:blipFill>
        <p:spPr>
          <a:xfrm>
            <a:off x="6948360" y="549360"/>
            <a:ext cx="132408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Trastorno de Ansiedad Generalizada (TAG)</a:t>
            </a:r>
            <a:endParaRPr b="0" lang="en-US" sz="4000" spc="-1" strike="noStrike">
              <a:solidFill>
                <a:srgbClr val="333399"/>
              </a:solidFill>
              <a:latin typeface="Tahoma"/>
            </a:endParaRPr>
          </a:p>
        </p:txBody>
      </p:sp>
      <p:sp>
        <p:nvSpPr>
          <p:cNvPr id="145"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siedad y preocupación excesiva en relación a una amplia gama de acontecimientos</a:t>
            </a:r>
            <a:r>
              <a:rPr b="0" lang="es-ES_tradnl" sz="1800" spc="-1" strike="noStrike" u="sng">
                <a:solidFill>
                  <a:srgbClr val="000000"/>
                </a:solidFill>
                <a:uFillTx/>
                <a:latin typeface="Tahoma"/>
              </a:rPr>
              <a:t> </a:t>
            </a:r>
            <a:r>
              <a:rPr b="0" lang="es-ES_tradnl" sz="1800" spc="-1" strike="noStrike">
                <a:solidFill>
                  <a:srgbClr val="000000"/>
                </a:solidFill>
                <a:latin typeface="Tahoma"/>
              </a:rPr>
              <a:t>(rendimiento laboral, problemas familiares, etc) que se prolongan por más de 6 meses, asociado a 3 o más de los siguientes síntom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 inquietud-impacienci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 fatigabilidad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 dificultad concentración-mente en blanco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 irritabilidad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 tensión muscular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 alteración del sueño. </a:t>
            </a:r>
            <a:endParaRPr b="0" lang="en-US" sz="1800" spc="-1" strike="noStrike">
              <a:solidFill>
                <a:srgbClr val="000000"/>
              </a:solidFill>
              <a:latin typeface="Tahoma"/>
            </a:endParaRPr>
          </a:p>
        </p:txBody>
      </p:sp>
      <p:sp>
        <p:nvSpPr>
          <p:cNvPr id="146"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7" name="Picture 7" descr="05062804">
            <a:hlinkClick r:id="rId1"/>
          </p:cNvPr>
          <p:cNvPicPr/>
          <p:nvPr/>
        </p:nvPicPr>
        <p:blipFill>
          <a:blip r:embed="rId2"/>
          <a:stretch/>
        </p:blipFill>
        <p:spPr>
          <a:xfrm>
            <a:off x="6084720" y="2997360"/>
            <a:ext cx="1560600" cy="139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provoca malestar significativo y deterioro social-laboral, no debidos a otras razones conocidas (sustancias, enfermedades, etc.). Muchas veces coexiste con trastornos del ánimo, con otros trastornos ansiosos, con abuso de sustancias y cuadros relacionados con el estrés (colon irritable, cefaleas).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Trastorno de Ansiedad Generalizada (TAG)</a:t>
            </a:r>
            <a:endParaRPr b="0" lang="en-US" sz="40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dad de comienzo generalmente es la infancia o adolescencia (a veces sobre los 20’) y su curso es crónico pero fluctuante y agravándose en situaciones de estrés.</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entro de su etiología se puede señalar que existe una combinación de factores genéticos, rasgos de personalidad y eventos vitales que se entremezclan para dar lugar a la enfermedad.</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valencia: 2 – 3% de la población. Tasas de remisión espontánea muy bajas.</a:t>
            </a: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Trastorno por Estrés Postraumático</a:t>
            </a:r>
            <a:endParaRPr b="0" lang="en-US" sz="4000" spc="-1" strike="noStrike">
              <a:solidFill>
                <a:srgbClr val="333399"/>
              </a:solidFill>
              <a:latin typeface="Tahoma"/>
            </a:endParaRPr>
          </a:p>
        </p:txBody>
      </p:sp>
      <p:sp>
        <p:nvSpPr>
          <p:cNvPr id="153" name="PlaceHolder 2"/>
          <p:cNvSpPr>
            <a:spLocks noGrp="1"/>
          </p:cNvSpPr>
          <p:nvPr>
            <p:ph/>
          </p:nvPr>
        </p:nvSpPr>
        <p:spPr>
          <a:xfrm>
            <a:off x="1182240" y="2017800"/>
            <a:ext cx="3814920" cy="4114800"/>
          </a:xfrm>
          <a:prstGeom prst="rect">
            <a:avLst/>
          </a:prstGeom>
          <a:noFill/>
          <a:ln w="0">
            <a:noFill/>
          </a:ln>
        </p:spPr>
        <p:txBody>
          <a:bodyPr anchor="t">
            <a:normAutofit fontScale="97000"/>
          </a:bodyPr>
          <a:p>
            <a:pPr marL="788400" indent="-7884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ndividuo debe haber estado expuesto a un evento traumático en el que ha sufrido o presenciado eventos como muertes o amenazas para su integridad física o la de los demás y ha respondido con temor</a:t>
            </a:r>
            <a:r>
              <a:rPr b="0" lang="es-ES_tradnl" sz="2400" spc="-1" strike="noStrike" u="sng">
                <a:solidFill>
                  <a:srgbClr val="000000"/>
                </a:solidFill>
                <a:uFillTx/>
                <a:latin typeface="Tahoma"/>
              </a:rPr>
              <a:t> </a:t>
            </a:r>
            <a:r>
              <a:rPr b="0" lang="es-ES_tradnl" sz="2400" spc="-1" strike="noStrike">
                <a:solidFill>
                  <a:srgbClr val="000000"/>
                </a:solidFill>
                <a:latin typeface="Tahoma"/>
              </a:rPr>
              <a:t>(pej. episodios bélicos). </a:t>
            </a:r>
            <a:endParaRPr b="0" lang="en-US" sz="2400" spc="-1" strike="noStrike">
              <a:solidFill>
                <a:srgbClr val="000000"/>
              </a:solidFill>
              <a:latin typeface="Tahoma"/>
            </a:endParaRPr>
          </a:p>
        </p:txBody>
      </p:sp>
      <p:sp>
        <p:nvSpPr>
          <p:cNvPr id="154"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Picture 7" descr="Soldados%2520USA%25206">
            <a:hlinkClick r:id="rId1"/>
          </p:cNvPr>
          <p:cNvPicPr/>
          <p:nvPr/>
        </p:nvPicPr>
        <p:blipFill>
          <a:blip r:embed="rId2"/>
          <a:stretch/>
        </p:blipFill>
        <p:spPr>
          <a:xfrm>
            <a:off x="5508720" y="2924280"/>
            <a:ext cx="2249280" cy="1515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evento tiene que haber sido reexperimentado constantemente como recuerdos recurrentes (imágenes, pensamientos, percepciones), pesadillas, actuación como si el acontecimiento estuviese ocurriendo, malestar psicológico intenso frente a estímulos que simbolizan o recuerdan un aspecto de este acontecimiento, o hay respuestas fisiológicas frente a estos estímulos. </a:t>
            </a:r>
            <a:endParaRPr b="0" lang="en-US" sz="2800" spc="-1" strike="noStrike">
              <a:solidFill>
                <a:srgbClr val="000000"/>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Trastorno por Estrés Postraumático</a:t>
            </a:r>
            <a:endParaRPr b="0" lang="en-US" sz="40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asocia una evitación persistente (fóbica) de situaciones, y un embotamiento de la reactividad general o activación persistente. Si duran </a:t>
            </a:r>
            <a:r>
              <a:rPr b="1" lang="es-ES_tradnl" sz="2800" spc="-1" strike="noStrike">
                <a:solidFill>
                  <a:srgbClr val="000000"/>
                </a:solidFill>
                <a:latin typeface="Tahoma"/>
              </a:rPr>
              <a:t>menos de 3 meses</a:t>
            </a:r>
            <a:r>
              <a:rPr b="0" lang="es-ES_tradnl" sz="2800" spc="-1" strike="noStrike">
                <a:solidFill>
                  <a:srgbClr val="000000"/>
                </a:solidFill>
                <a:latin typeface="Tahoma"/>
              </a:rPr>
              <a:t> se considera un TEP agudo y si dura </a:t>
            </a:r>
            <a:r>
              <a:rPr b="1" lang="es-ES_tradnl" sz="2800" spc="-1" strike="noStrike">
                <a:solidFill>
                  <a:srgbClr val="000000"/>
                </a:solidFill>
                <a:latin typeface="Tahoma"/>
              </a:rPr>
              <a:t>más de 3 meses</a:t>
            </a:r>
            <a:r>
              <a:rPr b="0" lang="es-ES_tradnl" sz="2800" spc="-1" strike="noStrike">
                <a:solidFill>
                  <a:srgbClr val="000000"/>
                </a:solidFill>
                <a:latin typeface="Tahoma"/>
              </a:rPr>
              <a:t> se considera un TEP crónic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n sujetos reticentes a hablar de sus experienci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Trastorno por Estrés Agudo</a:t>
            </a:r>
            <a:endParaRPr b="0" lang="en-US" sz="4400" spc="-1" strike="noStrike">
              <a:solidFill>
                <a:srgbClr val="333399"/>
              </a:solidFill>
              <a:latin typeface="Tahoma"/>
            </a:endParaRPr>
          </a:p>
        </p:txBody>
      </p:sp>
      <p:sp>
        <p:nvSpPr>
          <p:cNvPr id="161" name="PlaceHolder 2"/>
          <p:cNvSpPr>
            <a:spLocks noGrp="1"/>
          </p:cNvSpPr>
          <p:nvPr>
            <p:ph/>
          </p:nvPr>
        </p:nvSpPr>
        <p:spPr>
          <a:xfrm>
            <a:off x="1182240" y="2017800"/>
            <a:ext cx="3814920" cy="4114800"/>
          </a:xfrm>
          <a:prstGeom prst="rect">
            <a:avLst/>
          </a:prstGeom>
          <a:noFill/>
          <a:ln w="0">
            <a:noFill/>
          </a:ln>
        </p:spPr>
        <p:txBody>
          <a:bodyPr anchor="t">
            <a:normAutofit/>
          </a:bodyPr>
          <a:p>
            <a:pPr marL="812880" indent="-812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individuo de haber estado expuesto a un evento traumático que significa sufrir o presenciar eventos caracterizados por muertes o amenazas para su integridad o la de los demás, y haber respondido con temor, desesperanza u horror intensos. </a:t>
            </a:r>
            <a:endParaRPr b="0" lang="en-US" sz="2000" spc="-1" strike="noStrike">
              <a:solidFill>
                <a:srgbClr val="000000"/>
              </a:solidFill>
              <a:latin typeface="Tahoma"/>
            </a:endParaRPr>
          </a:p>
          <a:p>
            <a:pPr marL="81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2"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3" name="Picture 7" descr="20060814230617-miedo%255B1%255D">
            <a:hlinkClick r:id="rId1"/>
          </p:cNvPr>
          <p:cNvPicPr/>
          <p:nvPr/>
        </p:nvPicPr>
        <p:blipFill>
          <a:blip r:embed="rId2"/>
          <a:stretch/>
        </p:blipFill>
        <p:spPr>
          <a:xfrm>
            <a:off x="6230880" y="2276640"/>
            <a:ext cx="1392120" cy="208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urante o después, el individuo presenta síntomas disociativos como falta de reactividad emocional, desrealización despersonalización, amnesia disociativa,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Trastorno por Estrés Agudo</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acontecimiento se reexperimenta persistentemente de distintas formas, se evitan estímulos asociados al trauma, hay síntomas de ansiedad o aumento de activación, y se afecta en general el funcionamiento personal. Su duración es de un </a:t>
            </a:r>
            <a:r>
              <a:rPr b="1" lang="es-ES_tradnl" sz="3200" spc="-1" strike="noStrike">
                <a:solidFill>
                  <a:srgbClr val="000000"/>
                </a:solidFill>
                <a:latin typeface="Tahoma"/>
              </a:rPr>
              <a:t>mínimo de 2 días y un máximo de 4 semanas</a:t>
            </a:r>
            <a:r>
              <a:rPr b="0" lang="es-ES_tradnl" sz="3200" spc="-1" strike="noStrike">
                <a:solidFill>
                  <a:srgbClr val="000000"/>
                </a:solidFill>
                <a:latin typeface="Tahoma"/>
              </a:rPr>
              <a:t>.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Diagnóstico Diferencial </a:t>
            </a:r>
            <a:br>
              <a:rPr sz="4000"/>
            </a:br>
            <a:r>
              <a:rPr b="0" lang="es-ES" sz="4000" spc="-1" strike="noStrike">
                <a:solidFill>
                  <a:srgbClr val="333399"/>
                </a:solidFill>
                <a:latin typeface="Tahoma"/>
              </a:rPr>
              <a:t>Trastornos adaptativos </a:t>
            </a:r>
            <a:endParaRPr b="0" lang="en-US" sz="40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a:t>
            </a:r>
            <a:r>
              <a:rPr b="0" lang="es-ES" sz="2800" spc="-1" strike="noStrike">
                <a:solidFill>
                  <a:srgbClr val="000000"/>
                </a:solidFill>
                <a:latin typeface="Tahoma"/>
              </a:rPr>
              <a:t>. La aparición de síntomas emocionales o comportamentales en respuesta a un estresante identificable tiene lugar dentro de los 3 meses siguientes a la presencia del estresan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B</a:t>
            </a:r>
            <a:r>
              <a:rPr b="0" lang="es-ES" sz="2800" spc="-1" strike="noStrike">
                <a:solidFill>
                  <a:srgbClr val="000000"/>
                </a:solidFill>
                <a:latin typeface="Tahoma"/>
              </a:rPr>
              <a:t>. Estos síntomas o comportamientos se expresan, clínicamente del siguiente mod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07" name="PlaceHolder 2"/>
          <p:cNvSpPr>
            <a:spLocks noGrp="1"/>
          </p:cNvSpPr>
          <p:nvPr>
            <p:ph/>
          </p:nvPr>
        </p:nvSpPr>
        <p:spPr>
          <a:xfrm>
            <a:off x="1182240" y="2017800"/>
            <a:ext cx="3814920" cy="4114800"/>
          </a:xfrm>
          <a:prstGeom prst="rect">
            <a:avLst/>
          </a:prstGeom>
          <a:noFill/>
          <a:ln w="0">
            <a:noFill/>
          </a:ln>
        </p:spPr>
        <p:txBody>
          <a:bodyPr anchor="t">
            <a:normAutofit fontScale="93000"/>
          </a:bodyPr>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nsiedad normal:</a:t>
            </a:r>
            <a:r>
              <a:rPr b="0" lang="es-ES" sz="1800" spc="-1" strike="noStrike">
                <a:solidFill>
                  <a:srgbClr val="000000"/>
                </a:solidFill>
                <a:latin typeface="Tahoma"/>
              </a:rPr>
              <a:t> emoción psicobiológica básica, adaptativa ante un desafío o peligro presente o futuro. Su función es la de motivar conductas para superar dicha situación, y su duración está en relación a la magnitud y la resolución del problema que la desencadena. </a:t>
            </a:r>
            <a:endParaRPr b="0" lang="en-US" sz="1800" spc="-1" strike="noStrike">
              <a:solidFill>
                <a:srgbClr val="000000"/>
              </a:solidFill>
              <a:latin typeface="Tahoma"/>
            </a:endParaRPr>
          </a:p>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nsiedad patológica: </a:t>
            </a:r>
            <a:r>
              <a:rPr b="0" lang="es-ES" sz="1800" spc="-1" strike="noStrike">
                <a:solidFill>
                  <a:srgbClr val="000000"/>
                </a:solidFill>
                <a:latin typeface="Tahoma"/>
              </a:rPr>
              <a:t>es una respuesta exagerada, no necesariamente ligada a un peligro, situación u objeto externo, y que puede llegar a ser incapacitante, al punto de condicionar la conducta de un individuo, y cuya aparición o desaparición parecen ser más aleatorias.</a:t>
            </a:r>
            <a:endParaRPr b="0" lang="en-US" sz="1800" spc="-1" strike="noStrike">
              <a:solidFill>
                <a:srgbClr val="000000"/>
              </a:solidFill>
              <a:latin typeface="Tahoma"/>
            </a:endParaRPr>
          </a:p>
        </p:txBody>
      </p:sp>
      <p:sp>
        <p:nvSpPr>
          <p:cNvPr id="108"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9" name="Picture 7" descr="alcohol_ansiedad_1">
            <a:hlinkClick r:id="rId1"/>
          </p:cNvPr>
          <p:cNvPicPr/>
          <p:nvPr/>
        </p:nvPicPr>
        <p:blipFill>
          <a:blip r:embed="rId2"/>
          <a:stretch/>
        </p:blipFill>
        <p:spPr>
          <a:xfrm>
            <a:off x="6291360" y="2997360"/>
            <a:ext cx="130176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g. Diferencial </a:t>
            </a:r>
            <a:br>
              <a:rPr sz="4400"/>
            </a:br>
            <a:r>
              <a:rPr b="0" lang="es-ES" sz="4400" spc="-1" strike="noStrike">
                <a:solidFill>
                  <a:srgbClr val="333399"/>
                </a:solidFill>
                <a:latin typeface="Tahoma"/>
              </a:rPr>
              <a:t>Trastornos adaptativos </a:t>
            </a:r>
            <a:endParaRPr b="0" lang="en-US" sz="44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1</a:t>
            </a:r>
            <a:r>
              <a:rPr b="0" lang="es-ES" sz="2800" spc="-1" strike="noStrike">
                <a:solidFill>
                  <a:srgbClr val="000000"/>
                </a:solidFill>
                <a:latin typeface="Tahoma"/>
              </a:rPr>
              <a:t>. Malestar mayor de lo esperable en respuesta al estresante </a:t>
            </a:r>
            <a:br>
              <a:rPr sz="2800"/>
            </a:br>
            <a:r>
              <a:rPr b="1" lang="es-ES" sz="2800" spc="-1" strike="noStrike">
                <a:solidFill>
                  <a:srgbClr val="000000"/>
                </a:solidFill>
                <a:latin typeface="Tahoma"/>
              </a:rPr>
              <a:t>2</a:t>
            </a:r>
            <a:r>
              <a:rPr b="0" lang="es-ES" sz="2800" spc="-1" strike="noStrike">
                <a:solidFill>
                  <a:srgbClr val="000000"/>
                </a:solidFill>
                <a:latin typeface="Tahoma"/>
              </a:rPr>
              <a:t>. Deterioro significativo de la actividad social o laboral (o académica) </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a:t>
            </a:r>
            <a:r>
              <a:rPr b="0" lang="es-ES" sz="2800" spc="-1" strike="noStrike">
                <a:solidFill>
                  <a:srgbClr val="000000"/>
                </a:solidFill>
                <a:latin typeface="Tahoma"/>
              </a:rPr>
              <a:t>. La alteración relacionada con el estrés no cumple los criterios para otro trastorno específico y no constituye una simple exacerbación de un trastorno preexistente. </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D</a:t>
            </a:r>
            <a:r>
              <a:rPr b="0" lang="es-ES" sz="2800" spc="-1" strike="noStrike">
                <a:solidFill>
                  <a:srgbClr val="000000"/>
                </a:solidFill>
                <a:latin typeface="Tahoma"/>
              </a:rPr>
              <a:t>. Los síntomas no responden a una reacción de duelo. </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agnóstico Diferencial </a:t>
            </a:r>
            <a:br>
              <a:rPr sz="4400"/>
            </a:br>
            <a:r>
              <a:rPr b="0" lang="es-ES" sz="4400" spc="-1" strike="noStrike">
                <a:solidFill>
                  <a:srgbClr val="333399"/>
                </a:solidFill>
                <a:latin typeface="Tahoma"/>
              </a:rPr>
              <a:t>Trastornos adaptativos </a:t>
            </a:r>
            <a:endParaRPr b="0" lang="en-US" sz="44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a:t>
            </a:r>
            <a:r>
              <a:rPr b="0" lang="es-ES" sz="2800" spc="-1" strike="noStrike">
                <a:solidFill>
                  <a:srgbClr val="000000"/>
                </a:solidFill>
                <a:latin typeface="Tahoma"/>
              </a:rPr>
              <a:t>. Una vez ha cesado el estresante (o sus consecuencias), los síntomas no persisten más de 6 mes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pecificar si: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gudo</a:t>
            </a:r>
            <a:r>
              <a:rPr b="0" lang="es-ES" sz="2800" spc="-1" strike="noStrike">
                <a:solidFill>
                  <a:srgbClr val="000000"/>
                </a:solidFill>
                <a:latin typeface="Tahoma"/>
              </a:rPr>
              <a:t>: si la alteración dura menos de 6 meses. </a:t>
            </a:r>
            <a:br>
              <a:rPr sz="2800"/>
            </a:br>
            <a:r>
              <a:rPr b="1" lang="es-ES" sz="2800" spc="-1" strike="noStrike">
                <a:solidFill>
                  <a:srgbClr val="000000"/>
                </a:solidFill>
                <a:latin typeface="Tahoma"/>
              </a:rPr>
              <a:t>Crónico</a:t>
            </a:r>
            <a:r>
              <a:rPr b="0" lang="es-ES" sz="2800" spc="-1" strike="noStrike">
                <a:solidFill>
                  <a:srgbClr val="000000"/>
                </a:solidFill>
                <a:latin typeface="Tahoma"/>
              </a:rPr>
              <a:t>: si la alteración dura 6 meses o má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agnóstico Diferencial </a:t>
            </a:r>
            <a:br>
              <a:rPr sz="4400"/>
            </a:br>
            <a:r>
              <a:rPr b="0" lang="es-ES" sz="4400" spc="-1" strike="noStrike">
                <a:solidFill>
                  <a:srgbClr val="333399"/>
                </a:solidFill>
                <a:latin typeface="Tahoma"/>
              </a:rPr>
              <a:t>Trastornos adaptativos </a:t>
            </a:r>
            <a:endParaRPr b="0" lang="en-US" sz="44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trastornos adaptativos son codificados según el subtipo, que se selecciona de acuerdo con los síntomas predominantes. El estresante específico puede señalarse en el Eje I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agnóstico Diferencial </a:t>
            </a:r>
            <a:br>
              <a:rPr sz="4400"/>
            </a:br>
            <a:r>
              <a:rPr b="0" lang="es-ES" sz="4400" spc="-1" strike="noStrike">
                <a:solidFill>
                  <a:srgbClr val="333399"/>
                </a:solidFill>
                <a:latin typeface="Tahoma"/>
              </a:rPr>
              <a:t>Trastornos adaptativos </a:t>
            </a:r>
            <a:endParaRPr b="0" lang="en-US" sz="44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1-Con estado de ánimo depresivo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2-Con ansiedad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3- Mixto, con ansiedad y estado de ánimo depresivo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4-Con trastorno de comportamiento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5- Con alteración mixta de las emociones y el comportamiento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6- No especificad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Trastorno de Pánico</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Trastorno de Pánico es una categoría diagnóstica relativamente reciente.  La descripción fenomenológica surgió a partir de observaciones clínicas del psiquiatra norteamericano Donal Klein (1964).  Unos años después, en 1972, fue formalmente reconocido como entidad en EEUU, por los Criterios Diagnósticos de Feighner.  Este fue el antecedente para su inclusión formal en el DSM-III, dispuesta por la AP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1992, la OMS (Organización Mundial de la Salud) con sede en Ginebra, incluyó este cuadro en su versión española, denominada CIE-1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Crisis o ataque de pánico: descripción</a:t>
            </a:r>
            <a:endParaRPr b="0" lang="en-US" sz="40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parición temporal y aislada de miedo o de malestar intensos acompañada de 4 o más de los siguientes síntomas, que se inician bruscamente y alcanzan su máxima expresión dentro de los primeros 10 minuto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síntomas de las crisis de pánico han sido ordenados, según la frecuencia estadística de aparición, de mayor a menor y además del miedo intenso o pánico, son los sigu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684360" y="1916280"/>
            <a:ext cx="8270640" cy="4216320"/>
          </a:xfrm>
          <a:prstGeom prst="rect">
            <a:avLst/>
          </a:prstGeom>
          <a:noFill/>
          <a:ln w="0">
            <a:noFill/>
          </a:ln>
        </p:spPr>
        <p:txBody>
          <a:bodyPr anchor="t">
            <a:normAutofit/>
          </a:bodyPr>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lpitaciones o taquicardia</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doración</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mblores o sacudida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nsación de ahogo</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nsación de atragantamiento</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resión o malestar torácico</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áuseas o molestias abdominales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estabilidad, mareo o sensación de desmayo</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srealización o despersonalización</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edo a volverse loco o descontrolarse</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edo a morir</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restesias (hormigueos o entumecimiento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calofríos o sofocaciones</a:t>
            </a:r>
            <a:endParaRPr b="0" lang="en-US" sz="2000" spc="-1" strike="noStrike">
              <a:solidFill>
                <a:srgbClr val="000000"/>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3" name="Line 11"/>
          <p:cNvSpPr/>
          <p:nvPr/>
        </p:nvSpPr>
        <p:spPr>
          <a:xfrm>
            <a:off x="6443640" y="1773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84" name="Line 12"/>
          <p:cNvSpPr/>
          <p:nvPr/>
        </p:nvSpPr>
        <p:spPr>
          <a:xfrm>
            <a:off x="6732720" y="184464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85" name="Line 13"/>
          <p:cNvSpPr/>
          <p:nvPr/>
        </p:nvSpPr>
        <p:spPr>
          <a:xfrm flipH="1">
            <a:off x="6443640" y="4292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86" name="Line 14"/>
          <p:cNvSpPr/>
          <p:nvPr/>
        </p:nvSpPr>
        <p:spPr>
          <a:xfrm>
            <a:off x="6443640" y="4365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87" name="Line 15"/>
          <p:cNvSpPr/>
          <p:nvPr/>
        </p:nvSpPr>
        <p:spPr>
          <a:xfrm>
            <a:off x="6732720" y="4365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88" name="Line 16"/>
          <p:cNvSpPr/>
          <p:nvPr/>
        </p:nvSpPr>
        <p:spPr>
          <a:xfrm flipH="1">
            <a:off x="6443640" y="5157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89" name="Line 17"/>
          <p:cNvSpPr/>
          <p:nvPr/>
        </p:nvSpPr>
        <p:spPr>
          <a:xfrm>
            <a:off x="6443640" y="522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90" name="Line 18"/>
          <p:cNvSpPr/>
          <p:nvPr/>
        </p:nvSpPr>
        <p:spPr>
          <a:xfrm>
            <a:off x="6732720" y="52293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91" name="Line 19"/>
          <p:cNvSpPr/>
          <p:nvPr/>
        </p:nvSpPr>
        <p:spPr>
          <a:xfrm flipH="1">
            <a:off x="6443640" y="5805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92" name="Text Box 20"/>
          <p:cNvSpPr/>
          <p:nvPr/>
        </p:nvSpPr>
        <p:spPr>
          <a:xfrm>
            <a:off x="6732720" y="2276640"/>
            <a:ext cx="1871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íntomas fisiológicos o somáticos</a:t>
            </a:r>
            <a:endParaRPr b="1" lang="en-US" sz="2000" spc="-1" strike="noStrike">
              <a:solidFill>
                <a:srgbClr val="000000"/>
              </a:solidFill>
              <a:latin typeface="Tahoma"/>
            </a:endParaRPr>
          </a:p>
        </p:txBody>
      </p:sp>
      <p:sp>
        <p:nvSpPr>
          <p:cNvPr id="193" name="Text Box 21"/>
          <p:cNvSpPr/>
          <p:nvPr/>
        </p:nvSpPr>
        <p:spPr>
          <a:xfrm>
            <a:off x="6732720" y="4365720"/>
            <a:ext cx="165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íntomas Cognitivos</a:t>
            </a:r>
            <a:endParaRPr b="1" lang="en-US" sz="2000" spc="-1" strike="noStrike">
              <a:solidFill>
                <a:srgbClr val="000000"/>
              </a:solidFill>
              <a:latin typeface="Tahoma"/>
            </a:endParaRPr>
          </a:p>
        </p:txBody>
      </p:sp>
      <p:sp>
        <p:nvSpPr>
          <p:cNvPr id="194" name="Text Box 22"/>
          <p:cNvSpPr/>
          <p:nvPr/>
        </p:nvSpPr>
        <p:spPr>
          <a:xfrm>
            <a:off x="6732720" y="5229360"/>
            <a:ext cx="201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íntomas fisiológicos o somático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e predominio de los síntomas fisiológicos o somáticos lleva al paciente a suponer que sus síntomas clínicos son más de índole física, por lo que es habitual que concurra a un servicio de emergencia, visite a un cardiólogo o a un clínico, con lo que inicia un largo peregrinar por diferentes especialistas, hasta dar con el diagnóstico adecu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a:t>
            </a:r>
            <a:r>
              <a:rPr b="1" lang="es-CL" sz="2400" spc="-1" strike="noStrike">
                <a:solidFill>
                  <a:srgbClr val="000000"/>
                </a:solidFill>
                <a:latin typeface="Tahoma"/>
              </a:rPr>
              <a:t>crisis de pánico </a:t>
            </a:r>
            <a:r>
              <a:rPr b="0" lang="es-CL" sz="2400" spc="-1" strike="noStrike">
                <a:solidFill>
                  <a:srgbClr val="000000"/>
                </a:solidFill>
                <a:latin typeface="Tahoma"/>
              </a:rPr>
              <a:t>se clasifican 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letas o típicas </a:t>
            </a:r>
            <a:r>
              <a:rPr b="0" lang="es-CL" sz="2400" spc="-1" strike="noStrike">
                <a:solidFill>
                  <a:srgbClr val="000000"/>
                </a:solidFill>
                <a:latin typeface="Tahoma"/>
              </a:rPr>
              <a:t>(si tienen 4 o más síntom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Incompletas o de síntomas limitados </a:t>
            </a:r>
            <a:r>
              <a:rPr b="0" lang="es-CL" sz="2400" spc="-1" strike="noStrike">
                <a:solidFill>
                  <a:srgbClr val="000000"/>
                </a:solidFill>
                <a:latin typeface="Tahoma"/>
              </a:rPr>
              <a:t>(con menos de 4 síntom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cuanto a las circunstancias determinantes de su aparición, se dividen 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Inesperada o espontáneas: </a:t>
            </a:r>
            <a:r>
              <a:rPr b="0" lang="es-CL" sz="2400" spc="-1" strike="noStrike">
                <a:solidFill>
                  <a:srgbClr val="000000"/>
                </a:solidFill>
                <a:latin typeface="Tahoma"/>
              </a:rPr>
              <a:t>Son aquellas en las que no puede detectarse un factor causal y ocurren típicamente al comienzo del TP. Pueden repetirse en cualquier momento de la enfermed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ituacionales: </a:t>
            </a:r>
            <a:r>
              <a:rPr b="0" lang="es-CL" sz="2400" spc="-1" strike="noStrike">
                <a:solidFill>
                  <a:srgbClr val="000000"/>
                </a:solidFill>
                <a:latin typeface="Tahoma"/>
              </a:rPr>
              <a:t>Se desencadenan por la exposición a un estímulo atemorizante y aún por la anticipación del mismo.  Además de ocurrir en el TP con o sin agorafobia, pueden darse en la fobia social y en el TEPT (trastorno por estrés postraumátic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Más o menos relacionadas a situaciones determinadas: </a:t>
            </a:r>
            <a:r>
              <a:rPr b="0" lang="es-CL" sz="2400" spc="-1" strike="noStrike">
                <a:solidFill>
                  <a:srgbClr val="000000"/>
                </a:solidFill>
                <a:latin typeface="Tahoma"/>
              </a:rPr>
              <a:t>Ocurren a veces, al exponer a la persona a estímulos potencialmente fobígenos, por ej. Al viajar en avión o en subte, un agorafóbico puede o no tener una crisi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Algunas definiciones…</a:t>
            </a:r>
            <a:endParaRPr b="0" lang="en-US" sz="4400" spc="-1" strike="noStrike">
              <a:solidFill>
                <a:srgbClr val="333399"/>
              </a:solidFill>
              <a:latin typeface="Tahoma"/>
            </a:endParaRPr>
          </a:p>
        </p:txBody>
      </p:sp>
      <p:sp>
        <p:nvSpPr>
          <p:cNvPr id="111" name="PlaceHolder 2"/>
          <p:cNvSpPr>
            <a:spLocks noGrp="1"/>
          </p:cNvSpPr>
          <p:nvPr>
            <p:ph/>
          </p:nvPr>
        </p:nvSpPr>
        <p:spPr>
          <a:xfrm>
            <a:off x="1182240" y="2017800"/>
            <a:ext cx="3814920" cy="4114800"/>
          </a:xfrm>
          <a:prstGeom prst="rect">
            <a:avLst/>
          </a:prstGeom>
          <a:noFill/>
          <a:ln w="0">
            <a:noFill/>
          </a:ln>
        </p:spPr>
        <p:txBody>
          <a:bodyPr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siedad:</a:t>
            </a:r>
            <a:r>
              <a:rPr b="0" lang="es-ES" sz="2000" spc="-1" strike="noStrike">
                <a:solidFill>
                  <a:srgbClr val="000000"/>
                </a:solidFill>
                <a:latin typeface="Tahoma"/>
              </a:rPr>
              <a:t> proviene del latín “anxietas” que significa congoja o aflicción. Consiste en un estado de malestar psicofísico caracterizado por una turbación o inquietud, y una inseguridad y temor ante lo que se vivencia como una amenaza inminente. El extremo de ansiedad puede llegar a paralizar al individuo, transformándose en pánico.</a:t>
            </a:r>
            <a:endParaRPr b="0" lang="en-US" sz="2000" spc="-1" strike="noStrike">
              <a:solidFill>
                <a:srgbClr val="000000"/>
              </a:solidFill>
              <a:latin typeface="Tahoma"/>
            </a:endParaRPr>
          </a:p>
        </p:txBody>
      </p:sp>
      <p:sp>
        <p:nvSpPr>
          <p:cNvPr id="112"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3" name="Picture 7" descr="ansiedad160304">
            <a:hlinkClick r:id="rId1"/>
          </p:cNvPr>
          <p:cNvPicPr/>
          <p:nvPr/>
        </p:nvPicPr>
        <p:blipFill>
          <a:blip r:embed="rId2"/>
          <a:stretch/>
        </p:blipFill>
        <p:spPr>
          <a:xfrm>
            <a:off x="6094440" y="2781360"/>
            <a:ext cx="1484280" cy="165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Trastorno de Pánico</a:t>
            </a:r>
            <a:endParaRPr b="0" lang="en-US" sz="4400" spc="-1" strike="noStrike">
              <a:solidFill>
                <a:srgbClr val="333399"/>
              </a:solidFill>
              <a:latin typeface="Tahoma"/>
            </a:endParaRPr>
          </a:p>
        </p:txBody>
      </p:sp>
      <p:sp>
        <p:nvSpPr>
          <p:cNvPr id="200" name="PlaceHolder 2"/>
          <p:cNvSpPr>
            <a:spLocks noGrp="1"/>
          </p:cNvSpPr>
          <p:nvPr>
            <p:ph/>
          </p:nvPr>
        </p:nvSpPr>
        <p:spPr>
          <a:xfrm>
            <a:off x="1182240" y="2017800"/>
            <a:ext cx="3814920" cy="4114800"/>
          </a:xfrm>
          <a:prstGeom prst="rect">
            <a:avLst/>
          </a:prstGeom>
          <a:noFill/>
          <a:ln w="0">
            <a:noFill/>
          </a:ln>
        </p:spPr>
        <p:txBody>
          <a:bodyPr anchor="t">
            <a:normAutofit/>
          </a:bodyPr>
          <a:p>
            <a:pPr marL="812880" indent="-812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manifiesta como crisis de pánico recurrentes, no siempre son predecibles (a diferencia de las fobias) y debe tener 1 o más de los siguientes síntomas en 1 o más meses: </a:t>
            </a:r>
            <a:endParaRPr b="0" lang="en-US" sz="1800" spc="-1" strike="noStrike">
              <a:solidFill>
                <a:srgbClr val="000000"/>
              </a:solidFill>
              <a:latin typeface="Tahoma"/>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 inquietud persistente por crisis</a:t>
            </a:r>
            <a:endParaRPr b="0" lang="en-US" sz="1800" spc="-1" strike="noStrike">
              <a:solidFill>
                <a:srgbClr val="000000"/>
              </a:solidFill>
              <a:latin typeface="Tahoma"/>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 preocupación por las crisis o sus consecuencias y </a:t>
            </a:r>
            <a:endParaRPr b="0" lang="en-US" sz="1800" spc="-1" strike="noStrike">
              <a:solidFill>
                <a:srgbClr val="000000"/>
              </a:solidFill>
              <a:latin typeface="Tahoma"/>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 cambio del comportamiento relacionado con la crisis. </a:t>
            </a:r>
            <a:endParaRPr b="0" lang="en-US" sz="1800" spc="-1" strike="noStrike">
              <a:solidFill>
                <a:srgbClr val="000000"/>
              </a:solidFill>
              <a:latin typeface="Tahoma"/>
            </a:endParaRPr>
          </a:p>
          <a:p>
            <a:pPr marL="812880" indent="-812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no debe ser consecuencia de sustancias, enfermedad médica, u otro trastorno. </a:t>
            </a:r>
            <a:endParaRPr b="0" lang="en-US" sz="1800" spc="-1" strike="noStrike">
              <a:solidFill>
                <a:srgbClr val="000000"/>
              </a:solidFill>
              <a:latin typeface="Tahoma"/>
            </a:endParaRPr>
          </a:p>
        </p:txBody>
      </p:sp>
      <p:sp>
        <p:nvSpPr>
          <p:cNvPr id="20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02" name="Picture 5" descr="panicoNTnva">
            <a:hlinkClick r:id="rId1"/>
          </p:cNvPr>
          <p:cNvPicPr/>
          <p:nvPr/>
        </p:nvPicPr>
        <p:blipFill>
          <a:blip r:embed="rId2"/>
          <a:stretch/>
        </p:blipFill>
        <p:spPr>
          <a:xfrm>
            <a:off x="6084720" y="2421000"/>
            <a:ext cx="2097360" cy="1530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cuanto a la presencia de agorafobia junto al trastorno de pánico, Barlow, asevera que la misma está presente en un 95% de los TP diagnosticados. Coincidentemente, la escuela de EEUU, liderada por Donald Klein, afirma que la AGF es siempre secundaria al TP, produciéndose una evitación progresiva, que es condicionada por el estímulo aversivo generado por las crisis de páni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99"/>
                </a:solidFill>
                <a:latin typeface="Tahoma"/>
              </a:rPr>
              <a:t>Prevalencia</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estima que 1 de cada 10 personas tiene una crisis de pánico aislada a lo largo de su vida, sin que la misma vuelva a repetirse. Diferentes estudios epidemiológicos indican que la prevalencia de por vida del trastorno de pánico con o sin agorafobia en la población general, oscila entre el 2 y 5%.</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isten amplias evidencias de que este trastorno tiene una tendencia familiar, en la que influyen tanto factores genéticos como de aprendizaje (Cía 2002).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observa una creciente tendencia a realizar el diagnóstico del Trastorno, probablemente debido a dos razone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un lado, hay una creciente conciencia pública y profesional acerca de la existencia de esta enfermedad, que hasta hace poco tiempo quedaba sin diagnostica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Y por el otro, las condiciones actuales de vida y de estrés ambiental, crean situaciones más desfavorables en relación a décadas pasada, las cuales pueden actuar como desencadenantes mediat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Trastorno de Pánico</a:t>
            </a: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uando se presenta el cuadro con agorafobia implica una asociación situacional que puede llevar a conductas evitativas (Sd. Agorafóbico). Varían en su frecuencia y severidad, y la edad de comienzo es entre la adolescencia tardía y la mitad de los 30’.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curso habitual es crónico con remision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 dos veces más frecuente en la mujer que en el hombre, y en el TP c/agorafobia es 3:1.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Complicaciones del TP y la AGF</a:t>
            </a:r>
            <a:endParaRPr b="0" lang="en-US" sz="40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comorbilidad psiquiátrica de estos pacientes se observa en tres de cada cuatro afectado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Depresión mayor 33%</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gorafobia 80 – 90%</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Fobia Social 28%</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TOC 15%</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Trastornos de Personalidad 40%</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Personalidad Evitativa 2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Diagnóstico diferencial</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sma bronquial</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ritmias cardíaca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ronaropatía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iper o hipotiroidismo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íntomas menopáusico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pilepsia temporal</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bstinencia de drogas o medicamento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bstinencia alcohólic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nfetamina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feinism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ihuan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caín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norexígeno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Agorafobia</a:t>
            </a:r>
            <a:endParaRPr b="0" lang="en-US" sz="4400" spc="-1" strike="noStrike">
              <a:solidFill>
                <a:srgbClr val="333399"/>
              </a:solidFill>
              <a:latin typeface="Tahoma"/>
            </a:endParaRPr>
          </a:p>
        </p:txBody>
      </p:sp>
      <p:sp>
        <p:nvSpPr>
          <p:cNvPr id="215" name="PlaceHolder 2"/>
          <p:cNvSpPr>
            <a:spLocks noGrp="1"/>
          </p:cNvSpPr>
          <p:nvPr>
            <p:ph/>
          </p:nvPr>
        </p:nvSpPr>
        <p:spPr>
          <a:xfrm>
            <a:off x="1182240" y="2017800"/>
            <a:ext cx="3814920" cy="4114800"/>
          </a:xfrm>
          <a:prstGeom prst="rect">
            <a:avLst/>
          </a:prstGeom>
          <a:noFill/>
          <a:ln w="0">
            <a:noFill/>
          </a:ln>
        </p:spPr>
        <p:txBody>
          <a:bodyPr anchor="t">
            <a:normAutofit fontScale="98000"/>
          </a:bodyPr>
          <a:p>
            <a:pPr marL="796320" indent="-7963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n el contexto del TP o presentarse de manera independiente. Se caracteriza por la ansiedad de estar en lugares o situaciones de las que no se puede escapar, en los que no se tenga ayuda frente a un ataque de pánico.</a:t>
            </a:r>
            <a:endParaRPr b="0" lang="en-US" sz="2400" spc="-1" strike="noStrike">
              <a:solidFill>
                <a:srgbClr val="000000"/>
              </a:solidFill>
              <a:latin typeface="Tahoma"/>
            </a:endParaRPr>
          </a:p>
        </p:txBody>
      </p:sp>
      <p:sp>
        <p:nvSpPr>
          <p:cNvPr id="216"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17" name="Picture 7" descr="248053395_f20be82368"/>
          <p:cNvPicPr/>
          <p:nvPr/>
        </p:nvPicPr>
        <p:blipFill>
          <a:blip r:embed="rId1"/>
          <a:stretch/>
        </p:blipFill>
        <p:spPr>
          <a:xfrm>
            <a:off x="5940360" y="2492280"/>
            <a:ext cx="2030400" cy="1530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Tahoma"/>
              </a:rPr>
              <a:t>Rasgos de personalidad de los pacientes predispuestos a padecer TP y otros trastornos de ansiedad (Cía, 2002)</a:t>
            </a:r>
            <a:endParaRPr b="0" lang="en-US" sz="28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ndencia a la dependencia o a una excesiva necesidad de aprobación.</a:t>
            </a:r>
            <a:endParaRPr b="0" lang="en-US" sz="3200" spc="-1" strike="noStrike">
              <a:solidFill>
                <a:srgbClr val="000000"/>
              </a:solidFill>
              <a:latin typeface="Tahoma"/>
            </a:endParaRPr>
          </a:p>
          <a:p>
            <a:pPr marL="325800" indent="-32580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nsamiento rígido o dicotómico.</a:t>
            </a:r>
            <a:endParaRPr b="0" lang="en-US" sz="3200" spc="-1" strike="noStrike">
              <a:solidFill>
                <a:srgbClr val="000000"/>
              </a:solidFill>
              <a:latin typeface="Tahoma"/>
            </a:endParaRPr>
          </a:p>
          <a:p>
            <a:pPr marL="325800" indent="-32580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Gran nivel de imaginación o visualización.</a:t>
            </a:r>
            <a:endParaRPr b="0" lang="en-US" sz="3200" spc="-1" strike="noStrike">
              <a:solidFill>
                <a:srgbClr val="000000"/>
              </a:solidFill>
              <a:latin typeface="Tahoma"/>
            </a:endParaRPr>
          </a:p>
          <a:p>
            <a:pPr marL="325800" indent="-32580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Hipercontrol y supresión de la percepción de los propios sentimient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Ansiedad y pánico en la mujer</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versos estudios epidemiológicos demuestran que las mujeres presentan tasas más elevadas de trastornos de ansiedad que los hombres.  El TP, la AGF, TAG y TPET son dos a tres veces más comunes en la mujer que en el homb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C y TAS, según algunos autores se presentan en una relación 1,5: 1 respecto al sexo masculin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ngustia:</a:t>
            </a:r>
            <a:r>
              <a:rPr b="0" lang="es-ES" sz="2400" spc="-1" strike="noStrike">
                <a:solidFill>
                  <a:srgbClr val="000000"/>
                </a:solidFill>
                <a:latin typeface="Tahoma"/>
              </a:rPr>
              <a:t> posee un carácter mas somático o visceral. La ansiedad transcurre más en la esfera psiquíca. Además, la angustia se vivencia como una amenaza de muerte inminente y de perder el control sobre uno mismo, sin saber a qué atener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iedo:</a:t>
            </a:r>
            <a:r>
              <a:rPr b="0" lang="es-ES" sz="2400" spc="-1" strike="noStrike">
                <a:solidFill>
                  <a:srgbClr val="000000"/>
                </a:solidFill>
                <a:latin typeface="Tahoma"/>
              </a:rPr>
              <a:t> el temor ante una situación externa peligrosa, pero que no atenta contra aspectos esenciales de la existencia del individuo. Se trata de un peligro preciso frente al cual se pueden tomar medidas defensiva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6" name="Picture 5" descr="ansiedad">
            <a:hlinkClick r:id="rId1"/>
          </p:cNvPr>
          <p:cNvPicPr/>
          <p:nvPr/>
        </p:nvPicPr>
        <p:blipFill>
          <a:blip r:embed="rId2"/>
          <a:stretch/>
        </p:blipFill>
        <p:spPr>
          <a:xfrm>
            <a:off x="7451640" y="476280"/>
            <a:ext cx="733680" cy="1095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Posibles causas:</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xistencia de una mayor vulnerabilidad genética.</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luctuaciones condicionadas por los cambios hormonales, que se dan a lo largo del ciclo vital femenino.</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el premenstruo y en la premenopausia suelen haber alteraciones del humor y ansiedad, lo que se debe a la </a:t>
            </a:r>
            <a:r>
              <a:rPr b="1" lang="es-CL" sz="2400" spc="-1" strike="noStrike">
                <a:solidFill>
                  <a:srgbClr val="000000"/>
                </a:solidFill>
                <a:latin typeface="Tahoma"/>
              </a:rPr>
              <a:t>disminución de los niveles de estrógeno y progesterona.</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P empeora en el premenstruo o puede tener un inicio tardío y empeoramiento en la perimenopaus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urante el embarazo, TP suele mejorar porque hay una disminución del tono simpático, aumenta la progesterona (se estimula la oxigenación e incrementan los receptores GABAérgicos), actuando como un ansiolítico natural.</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stparto correlaciona con la reaparición con los síntomas del TP.</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amamantamiento disminuye los síntomas del TP (acción de la prolactina), pudiendo producirse un empeoramiento después de suspender la lactanc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Condiciones heredofamiliares del TP</a:t>
            </a:r>
            <a:endParaRPr b="0" lang="en-US" sz="40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riesgo de por vida de padecer la enfermedad en los familiares de primer grado oscila entre un 20 y un 40%, en contraste con la prevalencia poblacional de 3%.</a:t>
            </a:r>
            <a:endParaRPr b="0" lang="en-US" sz="2800" spc="-1" strike="noStrike">
              <a:solidFill>
                <a:srgbClr val="000000"/>
              </a:solidFill>
              <a:latin typeface="Tahoma"/>
            </a:endParaRPr>
          </a:p>
          <a:p>
            <a:pPr marL="318960" indent="-31896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31% de concordancia en gemelos monocigóticos.</a:t>
            </a:r>
            <a:endParaRPr b="0" lang="en-US" sz="2800" spc="-1" strike="noStrike">
              <a:solidFill>
                <a:srgbClr val="000000"/>
              </a:solidFill>
              <a:latin typeface="Tahoma"/>
            </a:endParaRPr>
          </a:p>
          <a:p>
            <a:pPr marL="3189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Recordar influencia genético – hereditarias y variables de aprendizaje relacionados con estilos educativos y modalidades vincular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Provocación experimental de las crisis de pánico </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das pruebas de desafío o provocación pueden desencadenar crisis de pánico en pacientes con TP o en sujetos predispuesto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yección de lactato de sodio (provoca síntomas en 70% de los portadores v/s 5% de los controles norma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halación de CO2.</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sumo de cafeín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sumo de marihuan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studios con Neuroimágene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través del SPECT, es posible observar:</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umento del flujo sanguíneo cerebral</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umento del metabolismo en el parahipocampo derecho </a:t>
            </a:r>
            <a:r>
              <a:rPr b="0" lang="es-CL" sz="2400" spc="-1" strike="noStrike">
                <a:solidFill>
                  <a:srgbClr val="000000"/>
                </a:solidFill>
                <a:latin typeface="Tahoma"/>
              </a:rPr>
              <a:t>(centro emocional del cerebro)</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umento del flujo sanguíneo en los lóbulos temporales </a:t>
            </a:r>
            <a:r>
              <a:rPr b="0" lang="es-CL" sz="2400" spc="-1" strike="noStrike">
                <a:solidFill>
                  <a:srgbClr val="000000"/>
                </a:solidFill>
                <a:latin typeface="Tahoma"/>
              </a:rPr>
              <a:t>(relacionados con la transmisión de la respuesta emocional). Se observa en pacientes con mayores índices de ansiedad anticipatoria.</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be destacar que estas anomalías están presentes de manera permanente en los pacientes, es decir se mantienen después y en la ausencia de crisis.</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Fobias Específicas</a:t>
            </a:r>
            <a:endParaRPr b="0" lang="en-US" sz="4400" spc="-1" strike="noStrike">
              <a:solidFill>
                <a:srgbClr val="333399"/>
              </a:solidFill>
              <a:latin typeface="Tahoma"/>
            </a:endParaRPr>
          </a:p>
        </p:txBody>
      </p:sp>
      <p:sp>
        <p:nvSpPr>
          <p:cNvPr id="232" name="PlaceHolder 2"/>
          <p:cNvSpPr>
            <a:spLocks noGrp="1"/>
          </p:cNvSpPr>
          <p:nvPr>
            <p:ph/>
          </p:nvPr>
        </p:nvSpPr>
        <p:spPr>
          <a:xfrm>
            <a:off x="1182240" y="2017800"/>
            <a:ext cx="3814920" cy="4114800"/>
          </a:xfrm>
          <a:prstGeom prst="rect">
            <a:avLst/>
          </a:prstGeom>
          <a:noFill/>
          <a:ln w="0">
            <a:noFill/>
          </a:ln>
        </p:spPr>
        <p:txBody>
          <a:bodyPr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mor intenso y persistente desencadenado por presencia o anticipación de un objeto o situación. El estimulo provoca casi inevitablemente ansiedad, tomando la de crisis de pánico situacional. </a:t>
            </a: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conciencia de que el miedo es irracional y las situaciones se evitan o se soportan con mucha ansiedad, e interfiere en el funcionamiento social y laboral del sujeto significativamente. </a:t>
            </a:r>
            <a:endParaRPr b="0" lang="en-US" sz="2000" spc="-1" strike="noStrike">
              <a:solidFill>
                <a:srgbClr val="000000"/>
              </a:solidFill>
              <a:latin typeface="Tahoma"/>
            </a:endParaRPr>
          </a:p>
        </p:txBody>
      </p:sp>
      <p:sp>
        <p:nvSpPr>
          <p:cNvPr id="233"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34" name="Picture 7" descr="fobia-2"/>
          <p:cNvPicPr/>
          <p:nvPr/>
        </p:nvPicPr>
        <p:blipFill>
          <a:blip r:embed="rId1"/>
          <a:stretch/>
        </p:blipFill>
        <p:spPr>
          <a:xfrm>
            <a:off x="6143760" y="2924280"/>
            <a:ext cx="1311120" cy="1728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re los subtipos según frecuencia están: situacionales, ambientales, sangre-inyecciones-daño (con respuesta sincopal vaso-vagal, desmayo) y animal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Fobias Específicas</a:t>
            </a:r>
            <a:endParaRPr b="0" lang="en-US" sz="44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dad de inicio varía específicamente: situacional en infancia/ 20’, ambientales en infancia/comienzos adultez, animales y sangre-inyección-daño suelen comenzar en infancia. Factores predisponentes son eventos traumáticos, ataques de pánico inesperados, ver a otros padecer síntomas fóbicos. Sólo el 20% remite de manera espontánea.</a:t>
            </a:r>
            <a:r>
              <a:rPr b="0" lang="es-E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Fobia Social</a:t>
            </a:r>
            <a:endParaRPr b="0" lang="en-US" sz="4400" spc="-1" strike="noStrike">
              <a:solidFill>
                <a:srgbClr val="333399"/>
              </a:solidFill>
              <a:latin typeface="Tahoma"/>
            </a:endParaRPr>
          </a:p>
        </p:txBody>
      </p:sp>
      <p:sp>
        <p:nvSpPr>
          <p:cNvPr id="240"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iedo intenso y persistente a enfrentarse a personas que no sean familiares y puedan evaluarlo. La exposición a situaciones sociales produce casi invariablemente ansiedad, la persona conoce que su temor es excesivo e irracional y tiende a evitar este tipo de situaciones o las enfrenta con intensa ansiedad.</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Se debe realizar el diagnóstico adicional de Trastorno de personalidad por evitación ya que muchas veces coexisten. </a:t>
            </a:r>
            <a:endParaRPr b="0" lang="en-US" sz="1800" spc="-1" strike="noStrike">
              <a:solidFill>
                <a:srgbClr val="000000"/>
              </a:solidFill>
              <a:latin typeface="Tahoma"/>
            </a:endParaRPr>
          </a:p>
        </p:txBody>
      </p:sp>
      <p:sp>
        <p:nvSpPr>
          <p:cNvPr id="24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2" name="Picture 7" descr="1"/>
          <p:cNvPicPr/>
          <p:nvPr/>
        </p:nvPicPr>
        <p:blipFill>
          <a:blip r:embed="rId1"/>
          <a:stretch/>
        </p:blipFill>
        <p:spPr>
          <a:xfrm>
            <a:off x="6102360" y="2708280"/>
            <a:ext cx="1706400" cy="1873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Fobia Social</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general son personas hipersensibles a la crítica, poco asertivas y con autoestima baja, destrezas sociales disminuidas y características ansiosas. </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aparece en la adolescencia relacionándose a veces con una historia de inhibición comportamental</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iene un curso crónico aunque los síntomas pueden desaparecer o atenuarse en la adultez. Situaciones vitales específicas pueden desencadenarla</a:t>
            </a:r>
            <a:r>
              <a:rPr b="0" lang="es-ES" sz="2800" spc="-1" strike="noStrike">
                <a:solidFill>
                  <a:srgbClr val="000000"/>
                </a:solidFill>
                <a:latin typeface="Tahoma"/>
              </a:rPr>
              <a:t> </a:t>
            </a: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182600" y="1844640"/>
            <a:ext cx="7772400" cy="44640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trastornos de ansiedad pueden manifestarse a través de cambios en las cogniciones, en el estado fisiológico, en el comportamiento y en las emociones.  Los síntomas más comunes en la esfera cognitiva son, pensamientos persistentes que se imponen, sensaciones de fallar o de vergüenza, entre otros.  Los cambios fisiológicos más comunes incluyen palpitaciones, sudoración, contracturas musculares, náuseas y diarre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Trastorno Obsesivo Compulsivo</a:t>
            </a:r>
            <a:br>
              <a:rPr sz="4000"/>
            </a:br>
            <a:r>
              <a:rPr b="0" lang="es-ES_tradnl" sz="4000" spc="-1" strike="noStrike">
                <a:solidFill>
                  <a:srgbClr val="333399"/>
                </a:solidFill>
                <a:latin typeface="Tahoma"/>
              </a:rPr>
              <a:t>(TOC)</a:t>
            </a:r>
            <a:endParaRPr b="0" lang="en-US" sz="40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esencia de duda y ansiedad constante</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íntomas cognitivos, afectivos y conductuales. El componente neurovegetativo pasa a segundo plano</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esencia de obsesiones y compulsiones (con subtipos clínico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urso crónico e intermiten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Trastorno de Ansiedad inducido por sustancias</a:t>
            </a:r>
            <a:endParaRPr b="0" lang="en-US" sz="4000" spc="-1" strike="noStrike">
              <a:solidFill>
                <a:srgbClr val="333399"/>
              </a:solidFill>
              <a:latin typeface="Tahoma"/>
            </a:endParaRPr>
          </a:p>
        </p:txBody>
      </p:sp>
      <p:sp>
        <p:nvSpPr>
          <p:cNvPr id="248"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íntomas de ansiedad (ansiedad, crisis de pánico, obsesiones-compulsiones) aparecidos durante la intoxicación o abstinencia de sustancias sin explicarse mejor desde los otros trastornos de ansiedad descritos. Es necesario precisar la sustancia involucrada, el tipo de ansiedad predominante y el momento de inicio de la sintomatología. Entre las sustancias conocidas causantes de ansiedad están: anfetaminas, cafeína, cocaína, marihuana, esteroides, depresores (abstinencia), broncodilatadores, descongestionantes</a:t>
            </a:r>
            <a:r>
              <a:rPr b="0" lang="es-ES" sz="1600" spc="-1" strike="noStrike">
                <a:solidFill>
                  <a:srgbClr val="000000"/>
                </a:solidFill>
                <a:latin typeface="Tahoma"/>
              </a:rPr>
              <a:t> </a:t>
            </a:r>
            <a:endParaRPr b="0" lang="en-US" sz="1600" spc="-1" strike="noStrike">
              <a:solidFill>
                <a:srgbClr val="000000"/>
              </a:solidFill>
              <a:latin typeface="Tahoma"/>
            </a:endParaRPr>
          </a:p>
        </p:txBody>
      </p:sp>
      <p:sp>
        <p:nvSpPr>
          <p:cNvPr id="249"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0" name="Picture 7" descr="0"/>
          <p:cNvPicPr/>
          <p:nvPr/>
        </p:nvPicPr>
        <p:blipFill>
          <a:blip r:embed="rId1"/>
          <a:stretch/>
        </p:blipFill>
        <p:spPr>
          <a:xfrm>
            <a:off x="5867280" y="2781360"/>
            <a:ext cx="1992600" cy="1406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Tahoma"/>
              </a:rPr>
              <a:t>Tratamiento</a:t>
            </a:r>
            <a:endParaRPr b="0" lang="en-US" sz="4400" spc="-1" strike="noStrike">
              <a:solidFill>
                <a:srgbClr val="333399"/>
              </a:solidFill>
              <a:latin typeface="Tahoma"/>
            </a:endParaRPr>
          </a:p>
        </p:txBody>
      </p:sp>
      <p:sp>
        <p:nvSpPr>
          <p:cNvPr id="25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3" name="Picture 6" descr="terapia%2520imagen%25201"/>
          <p:cNvPicPr/>
          <p:nvPr/>
        </p:nvPicPr>
        <p:blipFill>
          <a:blip r:embed="rId1"/>
          <a:stretch/>
        </p:blipFill>
        <p:spPr>
          <a:xfrm>
            <a:off x="4000680" y="2924280"/>
            <a:ext cx="1935000" cy="2449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Tratamiento Farmacológico del TP: 1era Línea</a:t>
            </a:r>
            <a:endParaRPr b="0" lang="en-US" sz="4000" spc="-1" strike="noStrike">
              <a:solidFill>
                <a:srgbClr val="333399"/>
              </a:solidFill>
              <a:latin typeface="Tahoma"/>
            </a:endParaRPr>
          </a:p>
        </p:txBody>
      </p:sp>
      <p:sp>
        <p:nvSpPr>
          <p:cNvPr id="2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tidepresivos ISRS. Los más utilizados s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rtralina (50 a 150 mg/dí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oxetina (20-60 mg.). Perfil más sedante, aumento de pes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italopram y Escitalopram (20-60 mg y 10-30 mg.). Menor potencia terapéutica. Utilizados en pacientes sensibles a efectos adversos de los fármaco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luoxetina (20 a 60 mg). No es bien tolerada sin una BZD concomita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enzodiacepina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onazepam (1-4 mg/día). Tiene además tiene acción serotoninérgica, mejores efectos sobre la ansiedad anticipatoria y evitación fóbica, que el resto de las BZD. Tiene además una vida media larga y menor dificultad de discontinuació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lprazolam (2-6 m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Lorazepam (2-6 m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Tratamiento Farmacológico de Segunda Línea</a:t>
            </a:r>
            <a:endParaRPr b="0" lang="en-US" sz="4000" spc="-1" strike="noStrike">
              <a:solidFill>
                <a:srgbClr val="333399"/>
              </a:solidFill>
              <a:latin typeface="Tahoma"/>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tros Antidepresivo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icíclicos (Imipramina:50-75mg/día), IMAO (Moboclemida: 300-450 mg.): Menor costo; perfil menos benigno de seguridad y efectos secundario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ntidepresivos Duales: (Venlafaxina:75-150 mg.), Mirtazapina(15-30 m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nticonvulsivantes (Divalproato: 750/2000 m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Técnicas de la TCC utilizadas en TP y TA</a:t>
            </a:r>
            <a:endParaRPr b="0" lang="en-US" sz="4000" spc="-1" strike="noStrike">
              <a:solidFill>
                <a:srgbClr val="333399"/>
              </a:solidFill>
              <a:latin typeface="Tahoma"/>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eo diario de la ansiedad y el pánic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estructuración Cognitiv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sicoeducación del paciente y su famili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ctar y desafiar las interpretaciones catastrófica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osición in viv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roceptiv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situaciones y lugares evitados en AGF</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renamiento en reducción de a ansiedad e hiperalert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ajació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renamiento respiratorio (corregir hiperventilació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areas para el hoga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spiración y relajación</a:t>
            </a:r>
            <a:endParaRPr b="0" lang="en-US" sz="4400" spc="-1" strike="noStrike">
              <a:solidFill>
                <a:srgbClr val="333399"/>
              </a:solidFill>
              <a:latin typeface="Tahoma"/>
            </a:endParaRPr>
          </a:p>
        </p:txBody>
      </p:sp>
      <p:sp>
        <p:nvSpPr>
          <p:cNvPr id="26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Hiperventilar</a:t>
            </a:r>
            <a:r>
              <a:rPr b="0" lang="es-CL" sz="2800" spc="-1" strike="noStrike">
                <a:solidFill>
                  <a:srgbClr val="000000"/>
                </a:solidFill>
                <a:latin typeface="Tahoma"/>
              </a:rPr>
              <a:t> consiste en un aumento de la frecuencia respiratoria y/o una inhalación significativamente más profunda que lo necesario.  Cuando se hiperventila se producen un conjunto de cambios químicos en la sangre, debido a que se exhala más dióxido de carbono que lo normal.  En menos de un minuto pueden producirse los siguientes </a:t>
            </a:r>
            <a:r>
              <a:rPr b="1" lang="es-CL" sz="2800" spc="-1" strike="noStrike">
                <a:solidFill>
                  <a:srgbClr val="000000"/>
                </a:solidFill>
                <a:latin typeface="Tahoma"/>
              </a:rPr>
              <a:t>síntomas de hiperventil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lta de aire o disne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lpitacion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nsación de cabeza livian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estesias (principalmente en las extremidad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lor precordia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oca y garganta sec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ficultades para trag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emblo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doració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lidad y fatig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Para evaluar si una persona está hiperventilando, hay que observar los siguientes signo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piración superior o torácica, que se hace moviendo las costilla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pirar por la boca más que por la nariz.</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recuencia de 18 o más respiraciones por minuto (taquipne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recuente suspiros, carraspeos o to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r agua con frecuenci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os cambios comportamentales incluyen comerse las uñas, morderse los labios, hacer sonar los nudillos, presentar inquietud motora y finalmente, las emociones pueden incluir entre otros, angustia, miedos, aprensión e irritabilida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a:t>
            </a:r>
            <a:r>
              <a:rPr b="0" lang="es-CL" sz="3600" spc="-1" strike="noStrike">
                <a:solidFill>
                  <a:srgbClr val="333399"/>
                </a:solidFill>
                <a:latin typeface="Tahoma"/>
              </a:rPr>
              <a:t>Cómo detener la hiperventilación?</a:t>
            </a:r>
            <a:endParaRPr b="0" lang="en-US" sz="36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tener la respiración, no más de 10 a 15 seg., varias veces y en forma sucesiva.</a:t>
            </a:r>
            <a:endParaRPr b="0" lang="en-US" sz="2800" spc="-1" strike="noStrike">
              <a:solidFill>
                <a:srgbClr val="000000"/>
              </a:solidFill>
              <a:latin typeface="Tahoma"/>
            </a:endParaRPr>
          </a:p>
          <a:p>
            <a:pPr marL="585000" indent="-58500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pirar en una bolsa de papel cubriendo nariz y boca. Funciona bastante rápido ya que se vuelve a inhalar el CO</a:t>
            </a:r>
            <a:r>
              <a:rPr b="0" lang="es-CL" sz="2800" spc="-1" strike="noStrike" baseline="-16000">
                <a:solidFill>
                  <a:srgbClr val="000000"/>
                </a:solidFill>
                <a:latin typeface="Tahoma"/>
              </a:rPr>
              <a:t>2</a:t>
            </a:r>
            <a:r>
              <a:rPr b="0" lang="es-CL" sz="2800" spc="-1" strike="noStrike">
                <a:solidFill>
                  <a:srgbClr val="000000"/>
                </a:solidFill>
                <a:latin typeface="Tahoma"/>
              </a:rPr>
              <a:t> que se exhala dentro de la bolsa, lo que restaura rápidamente el PH normal y neutro de la sangre.</a:t>
            </a:r>
            <a:endParaRPr b="0" lang="en-US" sz="2800" spc="-1" strike="noStrike">
              <a:solidFill>
                <a:srgbClr val="000000"/>
              </a:solidFill>
              <a:latin typeface="Tahoma"/>
            </a:endParaRPr>
          </a:p>
          <a:p>
            <a:pPr marL="585000" indent="-58500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acticar la respiración diafragmática o profunda, que actúa como relajante natural balanceando los niveles de O</a:t>
            </a:r>
            <a:r>
              <a:rPr b="0" lang="es-CL" sz="2800" spc="-1" strike="noStrike" baseline="-16000">
                <a:solidFill>
                  <a:srgbClr val="000000"/>
                </a:solidFill>
                <a:latin typeface="Tahoma"/>
              </a:rPr>
              <a:t>2</a:t>
            </a:r>
            <a:r>
              <a:rPr b="0" lang="es-CL" sz="2800" spc="-1" strike="noStrike">
                <a:solidFill>
                  <a:srgbClr val="000000"/>
                </a:solidFill>
                <a:latin typeface="Tahoma"/>
              </a:rPr>
              <a:t> y CO</a:t>
            </a:r>
            <a:r>
              <a:rPr b="0" lang="es-CL" sz="2800" spc="-1" strike="noStrike" baseline="-16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Técnicas vagales</a:t>
            </a: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puede lograr una reducción de la frecuencia cardíaca, en un paciente con taquicardia panicosa, provocando el “</a:t>
            </a:r>
            <a:r>
              <a:rPr b="0" i="1" lang="es-CL" sz="2400" spc="-1" strike="noStrike">
                <a:solidFill>
                  <a:srgbClr val="000000"/>
                </a:solidFill>
                <a:latin typeface="Tahoma"/>
              </a:rPr>
              <a:t>Reflejo barosinusal de Valsalva” (previo control médic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le pide al paciente que durante 4 a 5 seg. efectúe una hiperpresión abdominal hinchando el vientre, o que intente soplar cerrando la boca y obturando las fosas nasales. Permite a los pacientes controlar su taquicardia que hasta entonces suponían fuera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ntrenamiento en Relajación</a:t>
            </a:r>
            <a:endParaRPr b="0" lang="en-US" sz="4400" spc="-1" strike="noStrike">
              <a:solidFill>
                <a:srgbClr val="333399"/>
              </a:solidFill>
              <a:latin typeface="Tahoma"/>
            </a:endParaRPr>
          </a:p>
        </p:txBody>
      </p:sp>
      <p:sp>
        <p:nvSpPr>
          <p:cNvPr id="273" name="PlaceHolder 2"/>
          <p:cNvSpPr>
            <a:spLocks noGrp="1"/>
          </p:cNvSpPr>
          <p:nvPr>
            <p:ph/>
          </p:nvPr>
        </p:nvSpPr>
        <p:spPr>
          <a:xfrm>
            <a:off x="1182240" y="2017800"/>
            <a:ext cx="7566120" cy="41148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técnicas más utilizadas son:</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trenamiento en relajación progresiva (Jacobson, 1938).</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trenamiento autógeno (Schultz, 1969).</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i="1" lang="es-CL" sz="2400" spc="-1" strike="noStrike">
                <a:solidFill>
                  <a:srgbClr val="000000"/>
                </a:solidFill>
                <a:latin typeface="Tahoma"/>
              </a:rPr>
              <a:t>Como todas la habilidades, el entrenamiento en relajación requiere de mucha práctica, y la constancia de hacer los ejercicios dos a tres veces diarias durante varias semanas, como mínimo.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ntrenamiento Autógeno de Schultz</a:t>
            </a:r>
            <a:endParaRPr b="0" lang="en-US" sz="4400" spc="-1" strike="noStrike">
              <a:solidFill>
                <a:srgbClr val="333399"/>
              </a:solidFill>
              <a:latin typeface="Tahoma"/>
            </a:endParaRPr>
          </a:p>
        </p:txBody>
      </p:sp>
      <p:sp>
        <p:nvSpPr>
          <p:cNvPr id="275"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 partir de 1912 Schultz elaboró los principios del entrenamiento autógeno. Partiendo de las observaciones en el uso de la hipnosis, la cual dominaba a la perfección. En 1926 comunica a la Asociación Médica de Berlín los primeros resultados obtenidos con su método de autohipnosi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7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denominación de entrenamiento autógeno la fundamenta etimológicamente del griego "autos" (sí mismo), "gen" (devenir), y podría traducirse como :" una ejercitación o entrenamiento, desarrollado a partir del propio "sí mismo" del sujeto y que configura a dicho "sí mism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79"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gún Schultz: "El principio sobre el que se fundamenta el método consiste en producir una transformación general del sujeto de experimentación mediante determinados ejercicios fisiológicos y racionales y que, permite obtener resultados idénticos a los que se logran en los estados hipnóticos“ (Schultz, 1969)</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81" name=""/>
          <p:cNvSpPr txBox="1"/>
          <p:nvPr/>
        </p:nvSpPr>
        <p:spPr>
          <a:xfrm>
            <a:off x="1182600" y="2017800"/>
            <a:ext cx="7772400" cy="4114800"/>
          </a:xfrm>
          <a:prstGeom prst="rect">
            <a:avLst/>
          </a:prstGeom>
          <a:noFill/>
          <a:ln w="0">
            <a:noFill/>
          </a:ln>
        </p:spPr>
        <p:txBody>
          <a:bodyPr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endo de los estudios iniciales de J.H.Schultz se han desarrollado versiones adaptadas del entrenamiento autógeno aunque generalmente siguen un armazón común: la utilización de imágenes que se refieren directamente a las funciones del sistema neurovegetativo. </a:t>
            </a:r>
            <a:endParaRPr b="0" lang="en-US" sz="3200" spc="-1" strike="noStrike">
              <a:solidFill>
                <a:srgbClr val="000000"/>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83"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gún Huber(1980): "Estas imágenes se concentran en fórmulas, según determinados elementos básicos de eficacia sugestiva, y se aplican a regiones orgánicas particularmente accesibles subjetiva y cognoscitivamente: el estómago, la respiración, el corazón, la sensación de su cuerpo (cabez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Tahoma"/>
              </a:rPr>
              <a:t>EL LUGAR PARA REALIZAR LOS EJERCICIOS</a:t>
            </a:r>
            <a:endParaRPr b="0" lang="en-US" sz="4400" spc="-1" strike="noStrike">
              <a:solidFill>
                <a:srgbClr val="333399"/>
              </a:solidFill>
              <a:latin typeface="Tahoma"/>
            </a:endParaRPr>
          </a:p>
        </p:txBody>
      </p:sp>
      <p:sp>
        <p:nvSpPr>
          <p:cNvPr id="285" name=""/>
          <p:cNvSpPr txBox="1"/>
          <p:nvPr/>
        </p:nvSpPr>
        <p:spPr>
          <a:xfrm>
            <a:off x="1182600" y="2017800"/>
            <a:ext cx="7772400" cy="4114800"/>
          </a:xfrm>
          <a:prstGeom prst="rect">
            <a:avLst/>
          </a:prstGeom>
          <a:noFill/>
          <a:ln w="0">
            <a:noFill/>
          </a:ln>
        </p:spPr>
        <p:txBody>
          <a:bodyPr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requisitos mínimos: </a:t>
            </a:r>
            <a:br>
              <a:rPr sz="3200"/>
            </a:br>
            <a:r>
              <a:rPr b="0" lang="es-ES" sz="3200" spc="-1" strike="noStrike">
                <a:solidFill>
                  <a:srgbClr val="000000"/>
                </a:solidFill>
                <a:latin typeface="Tahoma"/>
              </a:rPr>
              <a:t>-Ambiente tranquilo, sin demasiados ruidos y lejos de los posibles estímulos exteriores perturbantes. </a:t>
            </a:r>
            <a:br>
              <a:rPr sz="3200"/>
            </a:br>
            <a:r>
              <a:rPr b="0" lang="es-ES" sz="3200" spc="-1" strike="noStrike">
                <a:solidFill>
                  <a:srgbClr val="000000"/>
                </a:solidFill>
                <a:latin typeface="Tahoma"/>
              </a:rPr>
              <a:t>-Temperatura adecuada; la habitación tiene que tener una temperatura moderada (ni alta ni baja) para facilitar la relajación. </a:t>
            </a:r>
            <a:br>
              <a:rPr sz="3200"/>
            </a:br>
            <a:r>
              <a:rPr b="0" lang="es-ES" sz="3200" spc="-1" strike="noStrike">
                <a:solidFill>
                  <a:srgbClr val="000000"/>
                </a:solidFill>
                <a:latin typeface="Tahoma"/>
              </a:rPr>
              <a:t>-Luz moderada; es importante que se mantenga la habitación con una luz tenue. </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Tahoma"/>
              </a:rPr>
              <a:t>LA POSICION PARA LA RELAJACION</a:t>
            </a:r>
            <a:endParaRPr b="0" lang="en-US" sz="4400" spc="-1" strike="noStrike">
              <a:solidFill>
                <a:srgbClr val="333399"/>
              </a:solidFill>
              <a:latin typeface="Tahoma"/>
            </a:endParaRPr>
          </a:p>
        </p:txBody>
      </p:sp>
      <p:sp>
        <p:nvSpPr>
          <p:cNvPr id="28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a el entrenamiento autógeno podemos utilizar tres tipos de posiciones: </a:t>
            </a:r>
            <a:br>
              <a:rPr sz="3200"/>
            </a:br>
            <a:r>
              <a:rPr b="0" lang="es-ES" sz="3200" spc="-1" strike="noStrike">
                <a:solidFill>
                  <a:srgbClr val="000000"/>
                </a:solidFill>
                <a:latin typeface="Tahoma"/>
              </a:rPr>
              <a:t>1-Tendido sobre una cama o un diván con los brazos y las piernas ligeramente en ángulo y apartados del cuerp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764640"/>
            <a:ext cx="7597800" cy="99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strés</a:t>
            </a:r>
            <a:endParaRPr b="0" lang="en-US" sz="4400" spc="-1" strike="noStrike">
              <a:solidFill>
                <a:srgbClr val="333399"/>
              </a:solidFill>
              <a:latin typeface="Tahoma"/>
            </a:endParaRPr>
          </a:p>
        </p:txBody>
      </p:sp>
      <p:sp>
        <p:nvSpPr>
          <p:cNvPr id="121" name="PlaceHolder 2"/>
          <p:cNvSpPr>
            <a:spLocks noGrp="1"/>
          </p:cNvSpPr>
          <p:nvPr>
            <p:ph/>
          </p:nvPr>
        </p:nvSpPr>
        <p:spPr>
          <a:xfrm>
            <a:off x="1258560" y="1844280"/>
            <a:ext cx="7566120" cy="443556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o término general, el estrés designa a todas las exigencias, tensiones y agresiones a las que es sometido un organismo humano o animal, en forma aguda o crónica.  Esta primera definición engloba a los estímulos o agentes estresantes.  También se denomina estrés a la respuesta fisiológica y psicológica que manifiesta el individuo ante los diferentes estresores.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Hans Selye describió en 1936 el Síndrome General de Adaptación (SGA), detallando los ejes biológicos de respuesta del organismo ante diferentes estímulos perturbadores o amenazadores y estableciendo una secuencia de reacciones específicas (fases de alarma, de resistencia y de claudicación o agotamien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Tahoma"/>
              </a:rPr>
              <a:t>CONSEJOS PARA FACILITAR LA RELAJACION</a:t>
            </a:r>
            <a:r>
              <a:rPr b="0" lang="es-ES"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8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un sentido monótono y rítmico; intentando que nuestra mente este completamente centrada en la frase propuesta. </a:t>
            </a:r>
            <a:br>
              <a:rPr sz="3200"/>
            </a:br>
            <a:r>
              <a:rPr b="0" lang="es-ES" sz="3200" spc="-1" strike="noStrike">
                <a:solidFill>
                  <a:srgbClr val="000000"/>
                </a:solidFill>
                <a:latin typeface="Tahoma"/>
              </a:rPr>
              <a:t>      Por otro lado tenemos que entregarnos a los diferentes ejercicios sin una gran presión de ren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Tahoma"/>
              </a:rPr>
              <a:t> </a:t>
            </a:r>
            <a:r>
              <a:rPr b="1" lang="es-ES" sz="4000" spc="-1" strike="noStrike">
                <a:solidFill>
                  <a:srgbClr val="333399"/>
                </a:solidFill>
                <a:latin typeface="Tahoma"/>
              </a:rPr>
              <a:t>TERMINO DE LA SESION DE ENTRENAMIENTO</a:t>
            </a:r>
            <a:r>
              <a:rPr b="0" lang="es-ES"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91" name=""/>
          <p:cNvSpPr txBox="1"/>
          <p:nvPr/>
        </p:nvSpPr>
        <p:spPr>
          <a:xfrm>
            <a:off x="1182600" y="2017800"/>
            <a:ext cx="7772400" cy="411480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muy importante terminar las sesiones de práctica, tanto en casa como en el consultorio del terapeuta, de una forma adecuada y precisa. Se le instruirá al cliente para que siga las formulas propuestas (estirar y flexionar los brazos, respirar profundamente, abrir los ojos); y además, se le instruirá para que termine siempre las sesiones de relajación de la forma prescrita y que mantenga con bastante rigor esta norma de finalización. </a:t>
            </a:r>
            <a:br>
              <a:rPr sz="2800"/>
            </a:br>
            <a:r>
              <a:rPr b="0" lang="es-E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93"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espués de finalizar el entrenamiento y practicar la fórmula propuesta para terminar, es conveniente que el sujeto no abandone inmediatamente el sillón de relajación, y que si se le tiene que interrogar sobre la sesión, se le interrogue sentado en el lugar de práctica. Esta norma se le indica también para cuando practique en casa. Con esto conseguimos que el sujeto no se incorpore de forma rápida y por tanto evitamos que sufra algún mareo inoportuno que pueda hacerle temer por las consecuencias desagradables de la relaj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Tahoma"/>
              </a:rPr>
              <a:t>CURSO HABITUAL DEL ENTRENAMIENTO AUTÓGENO</a:t>
            </a:r>
            <a:endParaRPr b="0" lang="en-US" sz="4000" spc="-1" strike="noStrike">
              <a:solidFill>
                <a:srgbClr val="333399"/>
              </a:solidFill>
              <a:latin typeface="Tahoma"/>
            </a:endParaRPr>
          </a:p>
        </p:txBody>
      </p:sp>
      <p:sp>
        <p:nvSpPr>
          <p:cNvPr id="29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trenamiento autógeno según J.H.Schultz (1926)</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licación de T.Carnwath y D. Miller (1978)</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Abreviado Huber(1980); Ilabaca (200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Tahoma"/>
              </a:rPr>
              <a:t>Método Abreviado</a:t>
            </a:r>
            <a:endParaRPr b="0" lang="en-US" sz="4400" spc="-1" strike="noStrike">
              <a:solidFill>
                <a:srgbClr val="333399"/>
              </a:solidFill>
              <a:latin typeface="Tahoma"/>
            </a:endParaRPr>
          </a:p>
        </p:txBody>
      </p:sp>
      <p:sp>
        <p:nvSpPr>
          <p:cNvPr id="29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1- Respiración Diafragmática</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2- Autoinstrucciones Progresivas: 6 etapa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3- Finalización del Entrena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299" name=""/>
          <p:cNvSpPr txBox="1"/>
          <p:nvPr/>
        </p:nvSpPr>
        <p:spPr>
          <a:xfrm>
            <a:off x="1182600" y="2017800"/>
            <a:ext cx="7772400" cy="411480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ahoma"/>
              </a:rPr>
              <a:t>   </a:t>
            </a:r>
            <a:r>
              <a:rPr b="0" i="1" lang="es-CL" sz="3200" spc="-1" strike="noStrike">
                <a:solidFill>
                  <a:srgbClr val="000000"/>
                </a:solidFill>
                <a:latin typeface="Tahoma"/>
              </a:rPr>
              <a:t>Como todas la habilidades, el entrenamiento en relajación requiere de mucha práctica, y la constancia de hacer los ejercicios dos a tres veces diarias durante varias semanas, como mínimo. </a:t>
            </a:r>
            <a:endParaRPr b="0" lang="en-US" sz="3200" spc="-1" strike="noStrike">
              <a:solidFill>
                <a:srgbClr val="000000"/>
              </a:solidFill>
              <a:latin typeface="Tahom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ahoma"/>
              </a:rPr>
              <a:t>	</a:t>
            </a:r>
            <a:r>
              <a:rPr b="0" i="1" lang="es-CL" sz="3200" spc="-1" strike="noStrike">
                <a:solidFill>
                  <a:srgbClr val="000000"/>
                </a:solidFill>
                <a:latin typeface="Tahoma"/>
              </a:rPr>
              <a:t>Una vez que el paciente se encuentra entrenado, deberá llevar a la práctica el ejercicio durante las situaciones ansiógenas.</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ahoma"/>
              </a:rPr>
              <a:t>	</a:t>
            </a:r>
            <a:r>
              <a:rPr b="0" i="1" lang="es-CL" sz="3200" spc="-1" strike="noStrike">
                <a:solidFill>
                  <a:srgbClr val="000000"/>
                </a:solidFill>
                <a:latin typeface="Tahoma"/>
              </a:rPr>
              <a:t>La práctica requiere de frecuentes exposiciones breves a situaciones ansiógenas (10 a 20 mi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333360"/>
            <a:ext cx="7756560" cy="142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Ansiedad estado vs. Ansiedad rasgo</a:t>
            </a:r>
            <a:endParaRPr b="0" lang="en-US" sz="40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 importante determinar cuándo la ansiedad es simplemente un estado emocional o cuándo es un rasgo relativamente estable de la personalidad.  Esto nos obliga a distinguir entre la ansiedad estado versus la ansiedad rasgo.</a:t>
            </a:r>
            <a:endParaRPr b="0" lang="en-US" sz="2400" spc="-1" strike="noStrike">
              <a:solidFill>
                <a:srgbClr val="000000"/>
              </a:solidFill>
              <a:latin typeface="Tahoma"/>
            </a:endParaRPr>
          </a:p>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estado </a:t>
            </a:r>
            <a:r>
              <a:rPr b="1" lang="es-CL" sz="2400" spc="-1" strike="noStrike">
                <a:solidFill>
                  <a:srgbClr val="000000"/>
                </a:solidFill>
                <a:latin typeface="Tahoma"/>
              </a:rPr>
              <a:t>ansioso (anxiety state), </a:t>
            </a:r>
            <a:r>
              <a:rPr b="0" lang="es-CL" sz="2400" spc="-1" strike="noStrike">
                <a:solidFill>
                  <a:srgbClr val="000000"/>
                </a:solidFill>
                <a:latin typeface="Tahoma"/>
              </a:rPr>
              <a:t>se caracteriza por sentimientos subjetivos concientemente percibidos de tensión y aprensión (síntomas subjetivos) y por una actividad elevada del sistema nervioso autónomo, mientras que la tendencia ansiosa, o rasgo ansioso (trait anxiety), ha sido definida como una diferencia individual, relativamente estable en la predisposición ansiosa, (Spielberger y col. 197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2:01:25Z</dcterms:created>
  <dc:creator>sergio</dc:creator>
  <dc:description/>
  <dc:language>en-US</dc:language>
  <cp:lastModifiedBy>Jose luis rossi</cp:lastModifiedBy>
  <dcterms:modified xsi:type="dcterms:W3CDTF">2011-12-16T16:36:00Z</dcterms:modified>
  <cp:revision>26</cp:revision>
  <dc:subject/>
  <dc:title>Antidepresivos</dc:title>
</cp:coreProperties>
</file>