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1DD-FAD2-4C11-B9F5-82F95DF1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A4C-C8F6-4195-BE28-4A14A32D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E093-6539-4ACE-B079-DBFCF20C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655-B93E-493B-AC3F-8ADFECA7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98BA-32CD-4A0F-91DC-687155AB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22AF-99A3-4B7C-8376-4D09E7BE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4A48-957D-4604-AF36-EA4AE99B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75FC-F804-4998-9CB5-B3848F5F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7525-5E21-495D-BCC0-ECA940D8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694C-FD7D-42E1-8AF8-F3B32CE2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E2DD-56CE-4B8D-B93E-A0918758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C18-2F5C-422D-ADA2-98AAEEF6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A873-E16F-43E7-ACF2-E19F46F6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6083-F71E-469A-AD8C-01EA0676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EB3B-464C-4C6C-8315-76448C86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DC47-14E4-4A97-85F7-2DA8F1EB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4DE0-E6AE-4AD9-8935-8F95B3AC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3EE-EE11-425D-9CB8-D6DB7858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FA89-8940-422B-AC3E-2368AA8B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6FA-B690-4C11-AECA-E7B43B7A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964-BC56-4C87-81EC-2693FBAF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8ABE-C082-4130-A603-A4626672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7E88-75B8-4E5F-BCD6-54D00BBC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839D-52C1-4ABA-B576-41B11340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11F7-4FF0-4150-A677-44C466B342C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379B-E473-49D9-B489-AC939F16B1F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A modo de introducción ..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El Hombre es por naturaleza un Animal Social, y el insocial por naturaleza y no por azar o es un mal hombre o más que un hombre... La sociedad es por natutaleza anterior al individuo... El que no puede vivir en sociedad, o no necesita nada por su propia suficiencia, o no es miembro de la ciudad, sino una bestia o un Di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istót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lítica 328 A.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221304"/>
                </a:solidFill>
                <a:latin typeface="Arial"/>
              </a:rPr>
              <a:t>Psicología Social – Antecedente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6089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ara Fuent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rítica al modelo  de hombre y sociedad separados y plantea la construcción de la subjetividad: particularidades del recorrido vital. Construcción particular producto de la interpenetración entre los ind, lo social y lo grup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ujetos activos y activ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area del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: favorecer la correspondencia entre proyecto invididual y soci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leva lo grupal como mediad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221304"/>
                </a:solidFill>
                <a:latin typeface="Arial"/>
              </a:rPr>
              <a:t>Psicología Social en busca de su objeto</a:t>
            </a:r>
            <a:br>
              <a:rPr sz="28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4240" y="1643040"/>
            <a:ext cx="814392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render como los pensamientos, sentimientos y comportamientos de las personas so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iad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or la presencia real, imaginaria o implícita de otros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llport, 196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la Ciencia de la mente y de la sociedad en cuanto determinación mutua. Interacción (Turner 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221304"/>
                </a:solidFill>
                <a:latin typeface="Arial"/>
              </a:rPr>
              <a:t>Psicología Social en busca de su objeto </a:t>
            </a:r>
            <a:br>
              <a:rPr sz="2800"/>
            </a:br>
            <a:r>
              <a:rPr b="0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557360"/>
            <a:ext cx="7391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Moscovici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 la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.Soc ciencia puente entre ambas disciplinas, que establece la continuidad entre los fenómenos individuales y colectivos.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isión psicosocial: no es individuo y sociedad como dos entes aislados e independientes sino dos constructos interdependientes que se conforman mutuament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o individual existe en lo social y lo social no es una abstracción, esta compuesto por las individualidad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 sociedad no está afuera (también lo esta) de nosotros, nos conforma, nos da identidad, al mismo tiempo nosotros conformamos la socieda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s una relación contradictoria entre la sociedad que llevamos adentro y la realidad socia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21304"/>
                </a:solidFill>
                <a:latin typeface="Arial"/>
              </a:rPr>
              <a:t>Psicología Social en busca de su objeto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28640"/>
            <a:ext cx="76089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3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sión Triádica: Yo, yo social y sociedad lo que determina los resultados de la interac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La Psi Soc: es la ciencia del conflicto  entre Individuo  y Sociedad (tensió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je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Fenómenos de la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eolog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(Representaciones y Actitudes: Estereotipos y Creencias – Lo Cognitivo y la construcción del mundo para actuar y comunic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Fenómenos de la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unicación Social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(Intercambios lingüisticos y no lingüisticos) Influencia Social. Medios para transmitir información e influir en los demá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iveles: relaciones entre Inds, Entre ind – grupo y entre gru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221304"/>
                </a:solidFill>
                <a:latin typeface="Arial"/>
              </a:rPr>
              <a:t>Psicología Social en busca de su objeto </a:t>
            </a:r>
            <a:r>
              <a:rPr b="0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a sociedad no es la variable independiente y el individuo la dependi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al estilo determinista de la realidad hu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ona es social y lo social es conformado por el hombre en un movimiento constante, dialéctico, contradicto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sujeto activo y constructor, transformador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 En palabras de Moscovici, ante la pregunta clásica es ¿quíen socializa al individuo?, el agrega ¿quién socializa a la sociedad?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221304"/>
                </a:solidFill>
                <a:latin typeface="Arial"/>
              </a:rPr>
              <a:t>Psicología Social en busca de su objeto </a:t>
            </a:r>
            <a:br>
              <a:rPr sz="2800"/>
            </a:br>
            <a:r>
              <a:rPr b="0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052640"/>
            <a:ext cx="73915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403280" y="1413000"/>
            <a:ext cx="684072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sínte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o individual”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la sociedad internalizada de manera particular; es la particularización o individualización de lo social (subjetividad). Signific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 socie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una construcción de los individuos sociales. :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ubje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221304"/>
                </a:solidFill>
                <a:latin typeface="Arial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221304"/>
                </a:solidFill>
                <a:latin typeface="Arial"/>
              </a:rPr>
              <a:t>Psicología Social Latinoamerican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136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442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¿QUE ESTUDIA LA PSICOLOGIA SOCIAL?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 Martín Bar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080" indent="-26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námica de grupo: (pequeño y e intragrupal -aislado) y desde el poder (influencia de las mayori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tudiar la realidad cotidiana que refleje los conflictos claves de las mayorí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os mecanismos de dominación (ideologí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vivienda social y sus consecuencia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ndicalismo, las negociaciones laborales, huelgas y procesos de  toma de dec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bjeto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acción humana, individual o grupal, en cuanto referida 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la acción en cuanto ideológ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nflujo interpersonal: sujeto, los otros, una acción concreta y un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stema o red de significaciones propio de una sociedad o de un grupo so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iencia bisagra: mostrar la conexión entre la estructura personal y la estructura soci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10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10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10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1000" fill="hold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1000" fill="hold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1304"/>
                </a:solidFill>
                <a:latin typeface="Times New Roman"/>
              </a:rPr>
              <a:t>La Construcción Histórica de la psicología Social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1125360"/>
            <a:ext cx="76820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foque histór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¿cuando comienza la Psicología Social? ¿Cuales son sus antecedentes? Lo ideológico los cambios sociales y los énfa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foque ideológ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ómo las corrientes psicólogicas se han aproximado a lo psicosocial en la medida en que son enfoques que intentan comprender (leer) al ser humano y su relación con lo social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) Antecedentes en la Filosofía (Relación Ind-Socied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.1) Los Griegos: (siglos 5° y 4° 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36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os sofistas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persuasión, la palabra y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tifo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993600" indent="0">
              <a:lnSpc>
                <a:spcPct val="7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 Protágora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: “El hombre es la medida de las cosas”. ¿Objetivi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3640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latón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sat. de necesidades - utilitarismo y animismo (alma –moral: edu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3640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ristóteles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Animal Social por naturaleza, realización en la soc., edu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3 Flecha curvada hacia la derecha"/>
          <p:cNvSpPr/>
          <p:nvPr/>
        </p:nvSpPr>
        <p:spPr>
          <a:xfrm>
            <a:off x="1187280" y="1844640"/>
            <a:ext cx="360360" cy="1871640"/>
          </a:xfrm>
          <a:custGeom>
            <a:avLst/>
            <a:gdLst>
              <a:gd name="textAreaLeft" fmla="*/ 48240 w 360360"/>
              <a:gd name="textAreaRight" fmla="*/ 312120 w 360360"/>
              <a:gd name="textAreaTop" fmla="*/ 434160 h 1871640"/>
              <a:gd name="textAreaBottom" fmla="*/ 139248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21" stAng="-5400000" swAng="-5400000"/>
                <a:lnTo>
                  <a:pt x="0" y="11060"/>
                </a:lnTo>
                <a:arcTo wR="21600" hR="10021" stAng="10800000" swAng="-3654136"/>
                <a:lnTo>
                  <a:pt x="16200" y="21282"/>
                </a:lnTo>
                <a:lnTo>
                  <a:pt x="21600" y="20562"/>
                </a:lnTo>
                <a:lnTo>
                  <a:pt x="16200" y="19205"/>
                </a:lnTo>
                <a:lnTo>
                  <a:pt x="16200" y="19724"/>
                </a:lnTo>
                <a:arcTo wR="21600" hR="10021" stAng="7145864" swAng="3571360"/>
                <a:lnTo>
                  <a:pt x="29" y="10541"/>
                </a:lnTo>
                <a:arcTo wR="21600" hR="10021" stAng="-10717224" swAng="5317224"/>
                <a:close/>
              </a:path>
              <a:path fill="darkenLess" w="21600" h="21600">
                <a:moveTo>
                  <a:pt x="21600" y="0"/>
                </a:moveTo>
                <a:arcTo wR="21600" hR="10021" stAng="-5400000" swAng="-5400000"/>
                <a:lnTo>
                  <a:pt x="0" y="10021"/>
                </a:lnTo>
                <a:arcTo wR="21600" hR="10021" stAng="10800000" swAng="-82776"/>
                <a:lnTo>
                  <a:pt x="29" y="10541"/>
                </a:lnTo>
                <a:arcTo wR="21600" hR="10021" stAng="-10717224" swAng="5317224"/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1304"/>
                </a:solidFill>
                <a:latin typeface="Times New Roman"/>
              </a:rPr>
              <a:t>La Construcción Histórica de la psicología Social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560" y="765000"/>
            <a:ext cx="76820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.2) El renacimiento y la Ilustrac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s cambios , su significado y la búsqueda de la ver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quiavello (1469- 1527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El poder como fin, el dominio como medio.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aquiavel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Bacon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1561- 1826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imitaciones en la observación humana (sesgos) –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ercepción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Hobbes (1588- 1679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Nat humana tiende al conflicto y la guerra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l Estado. El Empirism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Los ideólogos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Locke: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1632- 1704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La tábula rasa y el igualitarismo, el antiinnatism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 Tracy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1754- 1836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el individuo y el bien común –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Los grupos un nueva t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92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.3) Siglos XIX y 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mte (1789- 1857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La moral (psicología) El encuentro de lo bio y sociológico. El monismo metodológico y el positivismo.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xpl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lthey (1883-1911):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hombre es una realidad histórica –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Compr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Weber (1864- 1920):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significado de los otros y la acción Social –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urkheim (1858- 1917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las rep.colectivas – Determinismo social  -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p 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c.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arwin (1809-1882):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biologicismo al cambio social: las especie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l inst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rx (1818 – 1883):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 material y la conscien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circunstancias hacen a los hombres tanto como los hombres a las circunstancias”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Conciencia proletaria necesita para su efectividad que exista consciencia subjetiva de la consciencia colectiva.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ubjetiv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Ideología Alemana 184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21304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817236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) La psicología de la Conducta Co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sicología de los Pueblos (Wolkerphychologie)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– Lazarus, Stheinthal (1823-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sicologia de las Masas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 Bon (1841-1931): Hipnósis, Sugestión, Crimi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urkheim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presentaciones Colec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) La Psicología de las relaciones interindividuales -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arde (1843 – 1904)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imitación y sugestión humanas en la intera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) Psicología Social de los Insti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c. Dougall (1871 – 193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) Psicología Social de las Actitudes -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lport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conductismo Social, la facilitación Social – Lo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itud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hurstone, Lickert, Sondeos Sociales (Gall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21304"/>
                </a:solidFill>
                <a:latin typeface="Arial"/>
              </a:rPr>
              <a:t>Desarrollo Históric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8172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) Psicología del Comportamiento en Gru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ton May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Experimentos de Hawthorne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oman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fatiga labo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ren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Sociograma, Sociodrama, Psicod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ewi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Grupo como todo dinámico – Lideraz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heri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Nor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) La posguerra hasta los set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cuela de Frankfurt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Adorno y la Pd. Autoritaria - Actitu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suas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Hovland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s de la propaganda y modificación de actitu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fluencia Social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herif, Asch y Mil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eide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y el psicólogo inge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estinge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y la Disonancia Cogniti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 indent="0"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 individual, lo conductista y la irrelevancia Social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risis de la Psicología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21304"/>
                </a:solidFill>
                <a:latin typeface="Arial"/>
              </a:rPr>
              <a:t>Desarrollo Históric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8172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) La Psicología Social hasta Nuestros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resurgimiento (80 hasta ahora)  con el Sociocognitivi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jfel – lo grup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scovici – influencia y representaciones) Europa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cioconstruccionismo y nuevas tendenc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Gergen, Ibañez)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realidad se construye en la interacción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21304"/>
                </a:solidFill>
                <a:latin typeface="Arial"/>
              </a:rPr>
              <a:t>Psicología Social – Lo fundacional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71720" y="1571760"/>
            <a:ext cx="76197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sicología Social Moderna: Triplett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(1898),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lport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(1924)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Facilitación Social, Inhibición Social- Zajonc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(1965)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presencia de otros facilitaría la ejecución si se domina la acción y la dificultaría si no se domina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 SOCIAL – EXTERIORIDAD A TEJIDO SIN COS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gran tensión: Sociologísmo y Psicolog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752480" y="47242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932360" y="3071880"/>
            <a:ext cx="381636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oss (1908) P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niveles y corrientes que existen entre los seres humanos producto de su asociació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</a:rPr>
              <a:t>Grupos: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 Yo ind al grup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y las relaciones entre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187280" y="3143160"/>
            <a:ext cx="37450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c Dougall (1908) P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</a:rPr>
              <a:t>Instintos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 y capacidades innatas de la mente human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</a:rPr>
              <a:t>Disposiciones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: imitación, sugestión y simpat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221304"/>
                </a:solidFill>
                <a:latin typeface="Arial"/>
              </a:rPr>
              <a:t>Psicología Social – Antecedentes </a:t>
            </a:r>
            <a:br>
              <a:rPr sz="2800"/>
            </a:br>
            <a:r>
              <a:rPr b="0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221304"/>
                </a:solidFill>
                <a:latin typeface="Arial"/>
                <a:ea typeface="Arial"/>
              </a:rPr>
              <a:t>Reduccionismos: Sociológico y Psicológismo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584360"/>
            <a:ext cx="73915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Sociolog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omportamiento de cada individuo particular se desenvuelve bajo la determinación de una estructura social que lo sup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ello éste responde a las condiciones y procesos históricos, culturales, institucionales, políticos y económicos en los que vive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terminismo social: ¿Porqué no somos y actuamos de igual maner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221304"/>
                </a:solidFill>
                <a:latin typeface="Arial"/>
              </a:rPr>
              <a:t>Psicología Social – Antecedentes </a:t>
            </a:r>
            <a:br>
              <a:rPr sz="2800"/>
            </a:br>
            <a:r>
              <a:rPr b="0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640" y="1052640"/>
            <a:ext cx="770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Psicologismo (M. Bar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fenómenos psicosociales explicados solo psicológica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stracción de  las condiciones sociales, descontextualizando los fenómenos, de las condiciones históricas y mat.en las que ocurr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xplicación del fenómeno: causalidad individual, desresponsabilizando al resto de la socieda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judica todo problema a causas individuales, manteniendo sin cuestionamientos el orden social en el que se desarr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 Violencia delin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3:24:53Z</dcterms:created>
  <dc:creator>Pablo Valdivieso</dc:creator>
  <dc:description/>
  <dc:language>en-US</dc:language>
  <cp:lastModifiedBy>Pablo Valdivieso T.</cp:lastModifiedBy>
  <dcterms:modified xsi:type="dcterms:W3CDTF">2011-03-18T21:36:39Z</dcterms:modified>
  <cp:revision>329</cp:revision>
  <dc:subject/>
  <dc:title>El Sociocognitivismo: Antecedentes:    </dc:title>
</cp:coreProperties>
</file>