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082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D0C85-C917-4224-BC33-7615A74EE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1B01C-545C-4C90-B03C-DE1E02687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C272B-05C1-4B54-AD04-A1EE7CE10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56F92-121D-4C7C-AE32-C8D05005B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F37FB-0D87-4EE2-972F-DC5DC068C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AF4EF-0EF6-4306-B13F-9837A0E3B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2EADC-0C62-4B3D-AD35-D0DFBC31E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176AD-E76C-4BBC-BE43-9C169CEDE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BEEA3-4700-4F9A-AF91-20046D7ED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63CDD-1BD0-4DDC-83ED-527724451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3D8B0-D75F-4E9C-9D1F-BD457EECB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7044E-909A-44B3-BE64-AA35097E9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4E49F-F1A8-40EC-8466-5745488DA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F3F43-675F-4285-B1AD-A80B8A34F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6824F-6060-4F18-A5A5-22BC119C7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653BB-52F4-4F66-A984-64B8DF4CA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880F5-49D0-4BF9-92EA-BE1C17545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C2C4F-F2AD-435F-8F40-D4DE871B6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D3CAD-D17D-4C3C-8EF5-51FF3CB48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F986D-5D93-4D52-9599-906BB78F6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6C42D-6362-452D-B215-6886B6D3B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F4D22-33B3-4148-BD4A-7CA52D1BB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8241F-7488-4410-BEDD-33E953466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F0354-1B70-4255-950C-64E5D8448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Line 3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4" descr="minispir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5" descr="minispir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4619C-C9FE-4B55-93C5-BC4F6DDF3587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3" descr="minispir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5" descr="minispir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B0935-3F25-4113-A4A0-FB7B0F71C134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221304"/>
                </a:solidFill>
                <a:latin typeface="Times New Roman"/>
              </a:rPr>
              <a:t>A modo de introducción ...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El Hombre es por naturaleza un Animal Social, y el insocial por naturaleza y no por azar o es un mal hombre o más que un hombre... La sociedad es por natutaleza anterior al individuo... El que no puede vivir en sociedad, o no necesita nada por su propia suficiencia, o no es miembro de la ciudad, sino una bestia o un Dios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ristóte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olítica 328 A.C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221304"/>
                </a:solidFill>
                <a:latin typeface="Arial"/>
              </a:rPr>
              <a:t>Psicología Social – Antecedentes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42920" y="1557360"/>
            <a:ext cx="7608960" cy="50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just">
              <a:lnSpc>
                <a:spcPct val="80000"/>
              </a:lnSpc>
              <a:spcBef>
                <a:spcPts val="550"/>
              </a:spcBef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80000"/>
              </a:lnSpc>
              <a:spcBef>
                <a:spcPts val="550"/>
              </a:spcBef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Mara Fuentes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 algn="just">
              <a:lnSpc>
                <a:spcPct val="80000"/>
              </a:lnSpc>
              <a:spcBef>
                <a:spcPts val="550"/>
              </a:spcBef>
              <a:spcAft>
                <a:spcPts val="5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Crítica al modelo  de hombre y sociedad separados y plantea la construcción de la subjetividad: particularidades del recorrido vital. Construcción particular producto de la interpenetración entre los ind, lo social y lo grup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 algn="just">
              <a:lnSpc>
                <a:spcPct val="80000"/>
              </a:lnSpc>
              <a:spcBef>
                <a:spcPts val="550"/>
              </a:spcBef>
              <a:spcAft>
                <a:spcPts val="5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Sujetos activos y activad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 algn="just">
              <a:lnSpc>
                <a:spcPct val="80000"/>
              </a:lnSpc>
              <a:spcBef>
                <a:spcPts val="550"/>
              </a:spcBef>
              <a:spcAft>
                <a:spcPts val="5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Tarea del </a:t>
            </a:r>
            <a:r>
              <a:rPr b="0" lang="el-GR" sz="2200" spc="-1" strike="noStrike">
                <a:solidFill>
                  <a:srgbClr val="000000"/>
                </a:solidFill>
                <a:latin typeface="Arial"/>
                <a:ea typeface="Arial"/>
              </a:rPr>
              <a:t>ψ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: favorecer la correspondencia entre proyecto invididual y social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 algn="just">
              <a:lnSpc>
                <a:spcPct val="80000"/>
              </a:lnSpc>
              <a:spcBef>
                <a:spcPts val="550"/>
              </a:spcBef>
              <a:spcAft>
                <a:spcPts val="5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Releva lo grupal como mediad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61" dur="indefinite" restart="never" nodeType="tmRoot">
          <p:childTnLst>
            <p:seq>
              <p:cTn id="562" dur="indefinite" nodeType="mainSeq">
                <p:childTnLst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1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1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10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10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10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10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s-ES_tradnl" sz="2800" spc="-1" strike="noStrike">
                <a:solidFill>
                  <a:srgbClr val="221304"/>
                </a:solidFill>
                <a:latin typeface="Comic Sans MS"/>
                <a:ea typeface="Times New Roman"/>
              </a:rPr>
              <a:t> </a:t>
            </a:r>
            <a:r>
              <a:rPr b="0" lang="es-ES_tradnl" sz="3200" spc="-1" strike="noStrike">
                <a:solidFill>
                  <a:srgbClr val="221304"/>
                </a:solidFill>
                <a:latin typeface="Arial"/>
              </a:rPr>
              <a:t>Psicología Social en busca de su objeto</a:t>
            </a:r>
            <a:br>
              <a:rPr sz="2800"/>
            </a:b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14240" y="1643040"/>
            <a:ext cx="8143920" cy="466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676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2419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mprender como los pensamientos, sentimientos y comportamientos de las personas son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fluenciadas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por la presencia real, imaginaria o implícita de otros.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(Allport, 196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6676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2419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6676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2419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 la Ciencia de la mente y de la sociedad en cuanto determinación mutua. Interacción (Turner 1999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66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2419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66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2419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66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2419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66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2419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66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2419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3" dur="indefinite" restart="never" nodeType="tmRoot">
          <p:childTnLst>
            <p:seq>
              <p:cTn id="594" dur="indefinite" nodeType="mainSeq">
                <p:childTnLst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s-ES_tradnl" sz="2800" spc="-1" strike="noStrike">
                <a:solidFill>
                  <a:srgbClr val="221304"/>
                </a:solidFill>
                <a:latin typeface="Comic Sans MS"/>
                <a:ea typeface="Times New Roman"/>
              </a:rPr>
              <a:t> </a:t>
            </a:r>
            <a:r>
              <a:rPr b="0" lang="es-ES_tradnl" sz="3600" spc="-1" strike="noStrike">
                <a:solidFill>
                  <a:srgbClr val="221304"/>
                </a:solidFill>
                <a:latin typeface="Arial"/>
              </a:rPr>
              <a:t>Psicología Social en busca de su objeto </a:t>
            </a:r>
            <a:br>
              <a:rPr sz="2800"/>
            </a:br>
            <a:r>
              <a:rPr b="0" lang="es-ES_tradnl" sz="2800" spc="-1" strike="noStrike">
                <a:solidFill>
                  <a:srgbClr val="221304"/>
                </a:solidFill>
                <a:latin typeface="Comic Sans MS"/>
                <a:ea typeface="Times New Roman"/>
              </a:rPr>
              <a:t> </a:t>
            </a:r>
            <a:br>
              <a:rPr sz="2800"/>
            </a:b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680" y="1557360"/>
            <a:ext cx="739152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  <a:ea typeface="Arial"/>
              </a:rPr>
              <a:t>Moscovici: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Arial"/>
              </a:rPr>
              <a:t> la </a:t>
            </a:r>
            <a:r>
              <a:rPr b="0" lang="el-GR" sz="2200" spc="-1" strike="noStrike">
                <a:solidFill>
                  <a:srgbClr val="000000"/>
                </a:solidFill>
                <a:latin typeface="Arial"/>
                <a:ea typeface="Arial"/>
              </a:rPr>
              <a:t>ψ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Arial"/>
              </a:rPr>
              <a:t>.Soc ciencia puente entre ambas disciplinas, que establece la continuidad entre los fenómenos individuales y colectivos.</a:t>
            </a:r>
            <a:r>
              <a:rPr b="1" lang="es-ES_tradnl" sz="2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visión psicosocial: no es individuo y sociedad como dos entes aislados e independientes sino dos constructos interdependientes que se conforman mutuamente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Lo individual existe en lo social y lo social no es una abstracción, esta compuesto por las individualidades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La sociedad no está afuera (también lo esta) de nosotros, nos conforma, nos da identidad, al mismo tiempo nosotros conformamos la sociedad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Es una relación contradictoria entre la sociedad que llevamos adentro y la realidad social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7" dur="indefinite" restart="never" nodeType="tmRoot">
          <p:childTnLst>
            <p:seq>
              <p:cTn id="608" dur="indefinite" nodeType="mainSeq">
                <p:childTnLst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221304"/>
                </a:solidFill>
                <a:latin typeface="Arial"/>
              </a:rPr>
              <a:t>Psicología Social en busca de su objeto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680" y="1628640"/>
            <a:ext cx="760896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3352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Visión Triádica: Yo, yo social y sociedad lo que determina los resultados de la interacció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352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La Psi Soc: es la ciencia del conflicto  entre Individuo  y Sociedad (tensión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Objet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3520" indent="-53352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Fenómenos de la </a:t>
            </a:r>
            <a:r>
              <a:rPr b="0" lang="es-ES_tradnl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Ideología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 (Representaciones y Actitudes: Estereotipos y Creencias – Lo Cognitivo y la construcción del mundo para actuar y comunica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3520" indent="-53352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Fenómenos de la </a:t>
            </a:r>
            <a:r>
              <a:rPr b="0" lang="es-ES_tradnl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Comunicación Social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(Intercambios lingüisticos y no lingüisticos) Influencia Social. Medios para transmitir información e influir en los demá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3520" indent="-53352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Niveles: relaciones entre Inds, Entre ind – grupo y entre grup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9" dur="indefinite" restart="never" nodeType="tmRoot">
          <p:childTnLst>
            <p:seq>
              <p:cTn id="640" dur="indefinite" nodeType="mainSeq">
                <p:childTnLst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1" dur="1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2" dur="1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10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10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10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10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1000" fill="hold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1000" fill="hold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1000" fill="hold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1000" fill="hold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s-ES_tradnl" sz="2800" spc="-1" strike="noStrike">
                <a:solidFill>
                  <a:srgbClr val="221304"/>
                </a:solidFill>
                <a:latin typeface="Comic Sans MS"/>
                <a:ea typeface="Times New Roman"/>
              </a:rPr>
              <a:t> </a:t>
            </a:r>
            <a:r>
              <a:rPr b="0" lang="es-ES_tradnl" sz="2800" spc="-1" strike="noStrike">
                <a:solidFill>
                  <a:srgbClr val="221304"/>
                </a:solidFill>
                <a:latin typeface="Arial"/>
              </a:rPr>
              <a:t>Psicología Social en busca de su objeto </a:t>
            </a:r>
            <a:r>
              <a:rPr b="0" lang="es-ES_tradnl" sz="2800" spc="-1" strike="noStrike">
                <a:solidFill>
                  <a:srgbClr val="221304"/>
                </a:solidFill>
                <a:latin typeface="Comic Sans MS"/>
                <a:ea typeface="Times New Roman"/>
              </a:rPr>
              <a:t> </a:t>
            </a:r>
            <a:br>
              <a:rPr sz="2800"/>
            </a:b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680" y="1219320"/>
            <a:ext cx="73915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La sociedad no es la variable independiente y el individuo la dependiente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, al estilo determinista de la realidad huma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a persona es social y lo social es conformado por el hombre en un movimiento constante, dialéctico, contradictori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s un sujeto activo y constructor, transformador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. En palabras de Moscovici, ante la pregunta clásica es ¿quíen socializa al individuo?, el agrega ¿quién socializa a la sociedad?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1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1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10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10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s-ES_tradnl" sz="2800" spc="-1" strike="noStrike">
                <a:solidFill>
                  <a:srgbClr val="221304"/>
                </a:solidFill>
                <a:latin typeface="Comic Sans MS"/>
                <a:ea typeface="Times New Roman"/>
              </a:rPr>
              <a:t> </a:t>
            </a:r>
            <a:r>
              <a:rPr b="0" lang="es-ES_tradnl" sz="3200" spc="-1" strike="noStrike">
                <a:solidFill>
                  <a:srgbClr val="221304"/>
                </a:solidFill>
                <a:latin typeface="Arial"/>
              </a:rPr>
              <a:t>Psicología Social en busca de su objeto </a:t>
            </a:r>
            <a:br>
              <a:rPr sz="2800"/>
            </a:br>
            <a:r>
              <a:rPr b="0" lang="es-ES_tradnl" sz="2800" spc="-1" strike="noStrike">
                <a:solidFill>
                  <a:srgbClr val="221304"/>
                </a:solidFill>
                <a:latin typeface="Comic Sans MS"/>
                <a:ea typeface="Times New Roman"/>
              </a:rPr>
              <a:t> </a:t>
            </a:r>
            <a:br>
              <a:rPr sz="2800"/>
            </a:b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66680" y="1052640"/>
            <a:ext cx="739152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4"/>
          <p:cNvSpPr/>
          <p:nvPr/>
        </p:nvSpPr>
        <p:spPr>
          <a:xfrm>
            <a:off x="1403280" y="1413000"/>
            <a:ext cx="6840720" cy="37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En síntes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“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lo individual”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es la sociedad internalizada de manera particular; es la particularización o individualización de lo social (subjetividad). Significació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la sociedad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es una construcción de los individuos sociales. :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Subjetiv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5" dur="indefinite" restart="never" nodeType="tmRoot">
          <p:childTnLst>
            <p:seq>
              <p:cTn id="696" dur="indefinite" nodeType="mainSeq">
                <p:childTnLst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1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1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3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10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10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10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10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762012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s-ES_tradnl" sz="3200" spc="-1" strike="noStrike">
                <a:solidFill>
                  <a:srgbClr val="221304"/>
                </a:solidFill>
                <a:latin typeface="Arial"/>
                <a:ea typeface="Times New Roman"/>
              </a:rPr>
              <a:t> </a:t>
            </a:r>
            <a:r>
              <a:rPr b="0" lang="es-ES_tradnl" sz="3600" spc="-1" strike="noStrike">
                <a:solidFill>
                  <a:srgbClr val="221304"/>
                </a:solidFill>
                <a:latin typeface="Arial"/>
              </a:rPr>
              <a:t>Psicología Social Latinoamericana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81360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lvl="1" marL="442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¿QUE ESTUDIA LA PSICOLOGIA SOCIAL? 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. Martín Baró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42080" indent="0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42080" indent="-267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Dinámica de grupo: (pequeño y e intragrupal -aislado) y desde el poder (influencia de las mayorias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4208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1" marL="442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Estudiar la realidad cotidiana que refleje los conflictos claves de las mayorías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42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829800" indent="-267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los mecanismos de dominación (ideología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829800" indent="-267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la vivienda social y sus consecuencias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829800" indent="-267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sindicalismo, las negociaciones laborales, huelgas y procesos de  toma de decisió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82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829800" indent="-267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Objeto: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la acción humana, individual o grupal, en cuanto referida a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otr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82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la acción en cuanto ideológic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829800" indent="-267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Influjo interpersonal: sujeto, los otros, una acción concreta y un </a:t>
            </a: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istema o red de significaciones propio de una sociedad o de un grupo socia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829800" indent="-267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Ciencia bisagra: mostrar la conexión entre la estructura personal y la estructura social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13" dur="indefinite" restart="never" nodeType="tmRoot">
          <p:childTnLst>
            <p:seq>
              <p:cTn id="714" dur="indefinite" nodeType="mainSeq">
                <p:childTnLst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9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0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1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1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1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10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10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1000" fill="hold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1000" fill="hold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7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9" dur="1000" fill="hold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0" dur="1000" fill="hold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1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1000" fill="hold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1000" fill="hold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9" dur="1000" fill="hold"/>
                                        <p:tgtEl>
                                          <p:spTgt spid="1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0" dur="1000" fill="hold"/>
                                        <p:tgtEl>
                                          <p:spTgt spid="1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3" dur="1000" fill="hold"/>
                                        <p:tgtEl>
                                          <p:spTgt spid="1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4" dur="1000" fill="hold"/>
                                        <p:tgtEl>
                                          <p:spTgt spid="1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9" dur="1000" fill="hold"/>
                                        <p:tgtEl>
                                          <p:spTgt spid="1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0" dur="1000" fill="hold"/>
                                        <p:tgtEl>
                                          <p:spTgt spid="1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5" dur="1000" fill="hold"/>
                                        <p:tgtEl>
                                          <p:spTgt spid="1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6" dur="1000" fill="hold"/>
                                        <p:tgtEl>
                                          <p:spTgt spid="1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7620120" cy="74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221304"/>
                </a:solidFill>
                <a:latin typeface="Times New Roman"/>
              </a:rPr>
              <a:t>La Construcción Histórica de la psicología Social</a:t>
            </a:r>
            <a:br>
              <a:rPr sz="2800"/>
            </a:b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42560" y="1125360"/>
            <a:ext cx="768204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000000"/>
                </a:solidFill>
                <a:uFillTx/>
                <a:latin typeface="Times New Roman"/>
              </a:rPr>
              <a:t>Desarrol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000000"/>
                </a:solidFill>
                <a:uFillTx/>
                <a:latin typeface="Times New Roman"/>
              </a:rPr>
              <a:t>Enfoque histórico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: ¿cuando comienza la Psicología Social? ¿Cuales son sus antecedentes? Lo ideológico los cambios sociales y los énfasi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000000"/>
                </a:solidFill>
                <a:uFillTx/>
                <a:latin typeface="Times New Roman"/>
              </a:rPr>
              <a:t>Enfoque ideológico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: cómo las corrientes psicólogicas se han aproximado a lo psicosocial en la medida en que son enfoques que intentan comprender (leer) al ser humano y su relación con lo social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ts val="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1) Antecedentes en la Filosofía (Relación Ind-Socieda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1.1) Los Griegos: (siglos 5° y 4° A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3640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Los sofistas: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La persuasión, la palabra y 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Antifon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993600" indent="0">
              <a:lnSpc>
                <a:spcPct val="7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- Protágoras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: “El hombre es la medida de las cosas”. ¿Objetividad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3640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Platón: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sat. de necesidades - utilitarismo y animismo (alma –moral: edu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3640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Aristóteles: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Animal Social por naturaleza, realización en la soc., edu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3 Flecha curvada hacia la derecha"/>
          <p:cNvSpPr/>
          <p:nvPr/>
        </p:nvSpPr>
        <p:spPr>
          <a:xfrm>
            <a:off x="1187280" y="1844640"/>
            <a:ext cx="360360" cy="1871640"/>
          </a:xfrm>
          <a:custGeom>
            <a:avLst/>
            <a:gdLst>
              <a:gd name="textAreaLeft" fmla="*/ 48240 w 360360"/>
              <a:gd name="textAreaRight" fmla="*/ 312120 w 360360"/>
              <a:gd name="textAreaTop" fmla="*/ 434160 h 1871640"/>
              <a:gd name="textAreaBottom" fmla="*/ 1392480 h 1871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10021" stAng="-5400000" swAng="-5400000"/>
                <a:lnTo>
                  <a:pt x="0" y="11060"/>
                </a:lnTo>
                <a:arcTo wR="21600" hR="10021" stAng="10800000" swAng="-3654136"/>
                <a:lnTo>
                  <a:pt x="16200" y="21282"/>
                </a:lnTo>
                <a:lnTo>
                  <a:pt x="21600" y="20562"/>
                </a:lnTo>
                <a:lnTo>
                  <a:pt x="16200" y="19205"/>
                </a:lnTo>
                <a:lnTo>
                  <a:pt x="16200" y="19724"/>
                </a:lnTo>
                <a:arcTo wR="21600" hR="10021" stAng="7145864" swAng="3571360"/>
                <a:lnTo>
                  <a:pt x="29" y="10541"/>
                </a:lnTo>
                <a:arcTo wR="21600" hR="10021" stAng="-10717224" swAng="5317224"/>
                <a:close/>
              </a:path>
              <a:path fill="darkenLess" w="21600" h="21600">
                <a:moveTo>
                  <a:pt x="21600" y="0"/>
                </a:moveTo>
                <a:arcTo wR="21600" hR="10021" stAng="-5400000" swAng="-5400000"/>
                <a:lnTo>
                  <a:pt x="0" y="10021"/>
                </a:lnTo>
                <a:arcTo wR="21600" hR="10021" stAng="10800000" swAng="-82776"/>
                <a:lnTo>
                  <a:pt x="29" y="10541"/>
                </a:lnTo>
                <a:arcTo wR="21600" hR="10021" stAng="-10717224" swAng="5317224"/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1000" fill="hold"/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1000" fill="hold"/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1000" fill="hold"/>
                                        <p:tgtEl>
                                          <p:spTgt spid="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1000" fill="hold"/>
                                        <p:tgtEl>
                                          <p:spTgt spid="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9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9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7620120" cy="74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221304"/>
                </a:solidFill>
                <a:latin typeface="Times New Roman"/>
              </a:rPr>
              <a:t>La Construcción Histórica de la psicología Social</a:t>
            </a:r>
            <a:br>
              <a:rPr sz="2800"/>
            </a:b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42560" y="765000"/>
            <a:ext cx="768204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39564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1.2) El renacimiento y la Ilustració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9564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los cambios , su significado y la búsqueda de la verda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9564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Maquiavello (1469- 1527)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: El poder como fin, el dominio como medio. </a:t>
            </a: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Maquiavelism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9564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Bacon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(1561- 1826)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Limitaciones en la observación humana (sesgos) – </a:t>
            </a: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Percepción Soci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9564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Hobbes (1588- 1679)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: Nat humana tiende al conflicto y la guerra </a:t>
            </a:r>
            <a:r>
              <a:rPr b="0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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El Estado. El Empirism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9564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Los ideólogos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: Locke: </a:t>
            </a: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(1632- 1704)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 La tábula rasa y el igualitarismo, el antiinnatismo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9564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 u="sng">
                <a:solidFill>
                  <a:srgbClr val="000000"/>
                </a:solidFill>
                <a:uFillTx/>
                <a:latin typeface="Times New Roman"/>
              </a:rPr>
              <a:t>De Tracy </a:t>
            </a: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(1754- 1836)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: el individuo y el bien común – </a:t>
            </a: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Los grupos un nueva tens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79200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9564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1.3) Siglos XIX y X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9564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Comte (1789- 1857)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: La moral (psicología) El encuentro de lo bio y sociológico. El monismo metodológico y el positivismo.</a:t>
            </a:r>
            <a:r>
              <a:rPr b="0" lang="es-ES_tradnl" sz="16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Explic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9564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Dilthey (1883-1911): 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El hombre es una realidad histórica –</a:t>
            </a: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 Comprens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9564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Weber (1864- 1920): 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el significado de los otros y la acción Social – </a:t>
            </a: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Influencia</a:t>
            </a:r>
            <a:r>
              <a:rPr b="0" lang="es-ES_tradnl" sz="16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9564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Durkheim (1858- 1917)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: las rep.colectivas – Determinismo social  - </a:t>
            </a: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Rep s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oc.</a:t>
            </a:r>
            <a:r>
              <a:rPr b="0" lang="es-ES_tradnl" sz="16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                                                                                         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9564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Darwin (1809-1882): 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el biologicismo al cambio social: las especies </a:t>
            </a: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El insti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9564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Marx (1818 – 1883): 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lo material y la conscienci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95640" indent="0" algn="just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Las circunstancias hacen a los hombres tanto como los hombres a las circunstancias” </a:t>
            </a: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Interac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95640" indent="0" algn="just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la Conciencia proletaria necesita para su efectividad que exista consciencia subjetiva de la consciencia colectiva. </a:t>
            </a: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Subjetiv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95640" indent="0" algn="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(Ideología Alemana 1845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9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9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9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9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9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9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9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9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9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9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9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9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221304"/>
                </a:solidFill>
                <a:latin typeface="Arial"/>
              </a:rPr>
              <a:t>Antecedente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71280" y="1628640"/>
            <a:ext cx="8172360" cy="47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lvl="1" indent="0">
              <a:lnSpc>
                <a:spcPts val="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2) La psicología de la Conducta Colec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Psicología de los Pueblos (Wolkerphychologie)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– Lazarus, Stheinthal (1823-1999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Psicologia de las Masas: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Le Bon (1841-1931): Hipnósis, Sugestión, Criminal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Durkheim: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Representaciones Colectiv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indent="0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3) La Psicología de las relaciones interindividuales - rea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Tarde (1843 – 1904):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la imitación y sugestión humanas en la interacció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indent="0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4) Psicología Social de los Instin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Mc. Dougall (1871 – 1938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indent="0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5) Psicología Social de las Actitudes - rea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Allport: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l conductismo Social, la facilitación Social – Lo Experimen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Actitud: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hurstone, Lickert, Sondeos Sociales (Gallu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9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9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9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762012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221304"/>
                </a:solidFill>
                <a:latin typeface="Arial"/>
              </a:rPr>
              <a:t>Desarrollo Histórico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817236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indent="0">
              <a:lnSpc>
                <a:spcPts val="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6) Psicología del Comportamiento en Gru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Elton Mayo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: Experimentos de Hawthorne 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Homans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(fatiga labora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Moreno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(Sociograma, Sociodrama, Psicodram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Lewin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: Grupo como todo dinámico – Lideraz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Sherif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(Norma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7) La posguerra hasta los seten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Escuela de Frankfurt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(Adorno y la Pd. Autoritaria - Actitud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Persuasión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 Hovland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fectos de la propaganda y modificación de actitud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Influencia Social: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herif, Asch y Milgr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Heider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y el psicólogo ingenu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Festinger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y la Disonancia Cognitiv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857160" indent="0" algn="ctr">
              <a:lnSpc>
                <a:spcPct val="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Lo individual, lo conductista y la irrelevancia Social </a:t>
            </a: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Crisis de la Psicología Soci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indent="0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0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0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0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0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762012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221304"/>
                </a:solidFill>
                <a:latin typeface="Arial"/>
              </a:rPr>
              <a:t>Desarrollo Histórico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817236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indent="0">
              <a:lnSpc>
                <a:spcPts val="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8) La Psicología Social hasta Nuestros dí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l resurgimiento (80 hasta ahora)  con el Sociocognitivism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Tajfel – lo grup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oscovici – influencia y representaciones) Europa.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La m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ocioconstruccionismo y nuevas tendenci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(Gergen, Ibañez).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La realidad se construye en la interacción 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significa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indent="0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0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03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221304"/>
                </a:solidFill>
                <a:latin typeface="Arial"/>
              </a:rPr>
              <a:t>Psicología Social – Lo fundacional 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71720" y="1571760"/>
            <a:ext cx="761976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Psicología Social Moderna: Triplett </a:t>
            </a: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(1898), 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Allport </a:t>
            </a: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(1924)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 Facilitación Social, Inhibición Social- Zajonc </a:t>
            </a: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(1965):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la presencia de otros facilitaría la ejecución si se domina la acción y la dificultaría si no se domina</a:t>
            </a:r>
            <a:r>
              <a:rPr b="0" lang="es-ES" sz="2200" spc="-1" strike="noStrike">
                <a:solidFill>
                  <a:srgbClr val="000000"/>
                </a:solidFill>
                <a:latin typeface="Times New Roman"/>
              </a:rPr>
              <a:t> .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Intera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LO SOCIAL – EXTERIORIDAD A TEJIDO SIN COSTUR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Una gran tensión: Sociologísmo y Psicologis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1752480" y="472428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4932360" y="3071880"/>
            <a:ext cx="3816360" cy="26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Ross (1908) P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s-ES_tradnl" sz="2200" spc="-1" strike="noStrike">
                <a:solidFill>
                  <a:srgbClr val="000000"/>
                </a:solidFill>
                <a:latin typeface="Arial"/>
              </a:rPr>
              <a:t>niveles y corrientes que existen entre los seres humanos producto de su asociación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200" spc="-1" strike="noStrike">
                <a:solidFill>
                  <a:srgbClr val="000000"/>
                </a:solidFill>
                <a:latin typeface="Arial"/>
              </a:rPr>
              <a:t>Grupos:</a:t>
            </a:r>
            <a:r>
              <a:rPr b="0" i="1" lang="es-ES_tradnl" sz="2200" spc="-1" strike="noStrike">
                <a:solidFill>
                  <a:srgbClr val="000000"/>
                </a:solidFill>
                <a:latin typeface="Arial"/>
              </a:rPr>
              <a:t> Yo ind al grup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ES_tradnl" sz="2200" spc="-1" strike="noStrike">
                <a:solidFill>
                  <a:srgbClr val="000000"/>
                </a:solidFill>
                <a:latin typeface="Arial"/>
              </a:rPr>
              <a:t>y las relaciones entre ell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6"/>
          <p:cNvSpPr/>
          <p:nvPr/>
        </p:nvSpPr>
        <p:spPr>
          <a:xfrm>
            <a:off x="1187280" y="3143160"/>
            <a:ext cx="3745080" cy="29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Mc Dougall (1908) PS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es-ES_tradnl" sz="2200" spc="-1" strike="noStrike">
                <a:solidFill>
                  <a:srgbClr val="000000"/>
                </a:solidFill>
                <a:latin typeface="Arial"/>
              </a:rPr>
              <a:t>Instintos</a:t>
            </a:r>
            <a:r>
              <a:rPr b="0" i="1" lang="es-ES_tradnl" sz="2200" spc="-1" strike="noStrike">
                <a:solidFill>
                  <a:srgbClr val="000000"/>
                </a:solidFill>
                <a:latin typeface="Arial"/>
              </a:rPr>
              <a:t> y capacidades innatas de la mente humana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200" spc="-1" strike="noStrike">
                <a:solidFill>
                  <a:srgbClr val="000000"/>
                </a:solidFill>
                <a:latin typeface="Arial"/>
              </a:rPr>
              <a:t>Disposiciones</a:t>
            </a:r>
            <a:r>
              <a:rPr b="0" i="1" lang="es-ES_tradnl" sz="2200" spc="-1" strike="noStrike">
                <a:solidFill>
                  <a:srgbClr val="000000"/>
                </a:solidFill>
                <a:latin typeface="Arial"/>
              </a:rPr>
              <a:t>: imitación, sugestión y simpatí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s-ES_tradnl" sz="2800" spc="-1" strike="noStrike">
                <a:solidFill>
                  <a:srgbClr val="221304"/>
                </a:solidFill>
                <a:latin typeface="Comic Sans MS"/>
                <a:ea typeface="Times New Roman"/>
              </a:rPr>
              <a:t> </a:t>
            </a:r>
            <a:r>
              <a:rPr b="0" lang="es-ES_tradnl" sz="3600" spc="-1" strike="noStrike">
                <a:solidFill>
                  <a:srgbClr val="221304"/>
                </a:solidFill>
                <a:latin typeface="Arial"/>
              </a:rPr>
              <a:t>Psicología Social – Antecedentes </a:t>
            </a:r>
            <a:br>
              <a:rPr sz="2800"/>
            </a:br>
            <a:r>
              <a:rPr b="0" lang="es-ES_tradnl" sz="2800" spc="-1" strike="noStrike">
                <a:solidFill>
                  <a:srgbClr val="221304"/>
                </a:solidFill>
                <a:latin typeface="Comic Sans MS"/>
                <a:ea typeface="Times New Roman"/>
              </a:rPr>
              <a:t> </a:t>
            </a:r>
            <a:r>
              <a:rPr b="0" lang="es-ES_tradnl" sz="2400" spc="-1" strike="noStrike">
                <a:solidFill>
                  <a:srgbClr val="221304"/>
                </a:solidFill>
                <a:latin typeface="Arial"/>
                <a:ea typeface="Arial"/>
              </a:rPr>
              <a:t>Reduccionismos: Sociológico y Psicológismo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584360"/>
            <a:ext cx="7391520" cy="50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  <a:ea typeface="Arial"/>
              </a:rPr>
              <a:t>Sociologis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33480" indent="-53352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l comportamiento de cada individuo particular se desenvuelve bajo la determinación de una estructura social que lo super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33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33480" indent="-53352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or ello éste responde a las condiciones y procesos históricos, culturales, institucionales, políticos y económicos en los que vive.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33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33480" indent="-53352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eterminismo social: ¿Porqué no somos y actuamos de igual manera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10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10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10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10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s-ES_tradnl" sz="2800" spc="-1" strike="noStrike">
                <a:solidFill>
                  <a:srgbClr val="221304"/>
                </a:solidFill>
                <a:latin typeface="Comic Sans MS"/>
                <a:ea typeface="Times New Roman"/>
              </a:rPr>
              <a:t> </a:t>
            </a:r>
            <a:r>
              <a:rPr b="0" lang="es-ES_tradnl" sz="3600" spc="-1" strike="noStrike">
                <a:solidFill>
                  <a:srgbClr val="221304"/>
                </a:solidFill>
                <a:latin typeface="Arial"/>
              </a:rPr>
              <a:t>Psicología Social – Antecedentes </a:t>
            </a:r>
            <a:br>
              <a:rPr sz="2800"/>
            </a:br>
            <a:r>
              <a:rPr b="0" lang="es-ES_tradnl" sz="2800" spc="-1" strike="noStrike">
                <a:solidFill>
                  <a:srgbClr val="221304"/>
                </a:solidFill>
                <a:latin typeface="Comic Sans MS"/>
                <a:ea typeface="Times New Roman"/>
              </a:rPr>
              <a:t> </a:t>
            </a:r>
            <a:br>
              <a:rPr sz="2800"/>
            </a:b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71640" y="1052640"/>
            <a:ext cx="770400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Black"/>
                <a:ea typeface="Arial"/>
              </a:rPr>
              <a:t>Psicologismo (M. Bar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  <a:ea typeface="Arial"/>
              </a:rPr>
              <a:t>ó</a:t>
            </a:r>
            <a:r>
              <a:rPr b="0" lang="es-ES_tradnl" sz="2400" spc="-1" strike="noStrike">
                <a:solidFill>
                  <a:srgbClr val="000000"/>
                </a:solidFill>
                <a:latin typeface="Arial Black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os fenómenos psicosociales explicados solo psicológica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bstracción de  las condiciones sociales, descontextualizando los fenómenos, de las condiciones históricas y mat.en las que ocurre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 explicación del fenómeno: causalidad individual, desresponsabilizando al resto de la sociedad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djudica todo problema a causas individuales, manteniendo sin cuestionamientos el orden social en el que se desarrol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j Violencia delincu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7T13:24:53Z</dcterms:created>
  <dc:creator>Pablo Valdivieso</dc:creator>
  <dc:description/>
  <dc:language>en-US</dc:language>
  <cp:lastModifiedBy>Pablo Valdivieso T.</cp:lastModifiedBy>
  <dcterms:modified xsi:type="dcterms:W3CDTF">2011-03-18T21:36:39Z</dcterms:modified>
  <cp:revision>329</cp:revision>
  <dc:subject/>
  <dc:title>El Sociocognitivismo: Antecedentes:    </dc:title>
</cp:coreProperties>
</file>