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8E8-2CD7-44C0-AE53-041E7611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AF6-634D-4A1B-A702-E5866D1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54-CAAB-4A60-98B6-3F1ABD2A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1D3-FE76-4956-8999-0F40D7C8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A321-C59B-4A4E-B5B0-F3D40687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565A-ADAC-4278-AD8B-36ED65F4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D6C-9D13-49BE-BB58-7F0C14EB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98DA-5751-4FEF-AEBE-5ED9C242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CAC-301D-4E2E-9291-86FCDA31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E85-7AD2-4C44-AC38-C3EFDB1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829-BB2E-4454-87AF-0C7FE25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778-02A6-4B77-9217-6243356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FB25-9694-4A2E-8662-7692F95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0614-89A4-4D06-9602-2C6F3D3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151-2CE4-46DC-A94F-2B89410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875E-4400-40B2-BE5D-89285202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D68-8FF9-4EA1-902A-BE0E765E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92B-B23F-4CA1-B6E1-9E99DA7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632-5973-4E10-BA82-F3D65FB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82E-F464-4365-97FD-A87F405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FDA-AB6C-4559-B2EB-CA2A4F2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014-6A42-4202-8D76-5CA5D209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1EB-C11C-4956-9583-F363B57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4C7-A4D1-435B-9E35-B458CE0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626C-4728-4C5C-8C49-F5B674FAB4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FC0-12C7-4ADA-9198-E8689D4445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 modo de introducción 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l Hombre es por naturaleza un Animal Social, y el insocial por naturaleza y no por azar o es un mal hombre o más que un hombre... La sociedad es por natutaleza anterior al individuo... El que no puede vivir en sociedad, o no necesita nada por su propia suficiencia, o no es miembro de la ciudad, sino una bestia o un D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lítica 328 A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089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ra Fu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rítica al modelo  de hombre y sociedad separados y plantea la construcción de la subjetividad: particularidades del recorrido vital. Construcción particular producto de la interpenetración entre los ind, lo social y lo gru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jetos activos y acti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 del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 favorecer la correspondencia entre proyecto invididual y so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leva lo grupal como mediad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br>
              <a:rPr sz="28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1439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 como los pensamientos, sentimientos y comportamientos de las personas s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i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r la presencia real, imaginaria o implícita de otro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llport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Ciencia de la mente y de la sociedad en cuanto determinación mutua. Interacción (Turner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391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oscovici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.Soc ciencia puente entre ambas disciplinas, que establece la continuidad entre los fenómenos individuales y colectivos.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sión psicosocial: no es individuo y sociedad como dos entes aislados e independientes sino dos constructos interdependientes que se conforman mutuam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 individual existe en lo social y lo social no es una abstracción, esta compuesto por las individualidad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ociedad no está afuera (también lo esta) de nosotros, nos conforma, nos da identidad, al mismo tiempo nosotros conformamos la socieda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relación contradictoria entre la sociedad que llevamos adentro y la realidad soci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28640"/>
            <a:ext cx="7608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 Triádica: Yo, yo social y sociedad lo que determina los resultados de la intera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Psi Soc: es la ciencia del conflicto  entre Individuo  y Sociedad (tens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(Representaciones y Actitudes: Estereotipos y Creencias – Lo Cognitivo y la construcción del mundo para actuar y comunic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unicación Socia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Intercambios lingüisticos y no lingüisticos) Influencia Social. Medios para transmitir información e influir en los de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iveles: relaciones entre Inds, Entre ind – grupo y entre 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sociedad no es la variable independiente y el individuo la 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l estilo determinista de la realidad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ona es social y lo social es conformado por el hombre en un movimiento constante, dialéctico, contradi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sujeto activo y constructor, transformador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En palabras de Moscovici, ante la pregunta clásica es ¿quíen socializa al individuo?, el agrega ¿quién socializa a la sociedad?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052640"/>
            <a:ext cx="7391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403280" y="1413000"/>
            <a:ext cx="6840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 individual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ociedad internalizada de manera particular; es la particularización o individualización de lo social (subjetividad). Sign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socie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construcción de los individuos sociales. 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je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Latinoamerican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2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QUE ESTUDIA LA PSICOLOGIA SOCIAL?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Martín Bar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-26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námica de grupo: (pequeño y e intragrupal -aislado) y desde el poder (influencia de las mayo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udiar la realidad cotidiana que refleje los conflictos claves de las mayorí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mecanismos de dominación (ideologí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vivienda social y sus consecuenci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ndicalismo, las negociaciones laborales, huelgas y procesos de  toma de dec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jet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humana, individual o grupal, en cuanto referida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en cuanto ideológ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flujo interpersonal: sujeto, los otros, una acción concreta y u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stema o red de significaciones propio de una sociedad o de un grupo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encia bisagra: mostrar la conexión entre la estructura personal y la estructura soc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histó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¿cuando comienza la Psicología Social? ¿Cuales son sus antecedentes? Lo ideológico los cambios sociales y los énf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ideológ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ómo las corrientes psicólogicas se han aproximado a lo psicosocial en la medida en que son enfoques que intentan comprender (leer) al ser humano y su relación con lo socia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) Antecedentes en la Filosofía (Relación Ind-Socie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1) Los Griegos: (siglos 5° y 4°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sofist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ersuasión, la palabra y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tifo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993600" indent="0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rotág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 “El hombre es la medida de las cosas”. ¿Objetiv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tón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at. de necesidades - utilitarismo y animismo (alma –moral: edu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ristótele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nimal Social por naturaleza, realización en la soc., edu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Flecha curvada hacia la derecha"/>
          <p:cNvSpPr/>
          <p:nvPr/>
        </p:nvSpPr>
        <p:spPr>
          <a:xfrm>
            <a:off x="1187280" y="1844640"/>
            <a:ext cx="360360" cy="1871640"/>
          </a:xfrm>
          <a:custGeom>
            <a:avLst/>
            <a:gdLst>
              <a:gd name="textAreaLeft" fmla="*/ 48240 w 360360"/>
              <a:gd name="textAreaRight" fmla="*/ 312120 w 360360"/>
              <a:gd name="textAreaTop" fmla="*/ 434160 h 1871640"/>
              <a:gd name="textAreaBottom" fmla="*/ 13924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21" stAng="-5400000" swAng="-5400000"/>
                <a:lnTo>
                  <a:pt x="0" y="11060"/>
                </a:lnTo>
                <a:arcTo wR="21600" hR="10021" stAng="10800000" swAng="-3654136"/>
                <a:lnTo>
                  <a:pt x="16200" y="21282"/>
                </a:lnTo>
                <a:lnTo>
                  <a:pt x="21600" y="20562"/>
                </a:lnTo>
                <a:lnTo>
                  <a:pt x="16200" y="19205"/>
                </a:lnTo>
                <a:lnTo>
                  <a:pt x="16200" y="19724"/>
                </a:lnTo>
                <a:arcTo wR="21600" hR="10021" stAng="7145864" swAng="3571360"/>
                <a:lnTo>
                  <a:pt x="29" y="10541"/>
                </a:lnTo>
                <a:arcTo wR="21600" hR="10021" stAng="-10717224" swAng="5317224"/>
                <a:close/>
              </a:path>
              <a:path fill="darkenLess" w="21600" h="21600">
                <a:moveTo>
                  <a:pt x="21600" y="0"/>
                </a:moveTo>
                <a:arcTo wR="21600" hR="10021" stAng="-5400000" swAng="-5400000"/>
                <a:lnTo>
                  <a:pt x="0" y="10021"/>
                </a:lnTo>
                <a:arcTo wR="21600" hR="10021" stAng="10800000" swAng="-82776"/>
                <a:lnTo>
                  <a:pt x="29" y="10541"/>
                </a:lnTo>
                <a:arcTo wR="21600" hR="10021" stAng="-10717224" swAng="5317224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76500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2) El renacimiento y la Ilustr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cambios , su significado y la búsqueda de la ver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quiavello (1469- 152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poder como fin, el dominio como medio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aquiave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aco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561- 182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imitaciones en la observación humana (sesgos)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ercepc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obbes (1588- 1679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Nat humana tiende al conflicto y la guer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Estado. El Empi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os ideólog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cke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632- 1704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La tábula rasa y el igualitarismo, el antiinnatism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 Tracy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754- 183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individuo y el bien común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Los grupos un nuev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3) Siglos XIX y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te (1789- 185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 moral (psicología) El encuentro de lo bio y sociológico. El monismo metodológico y el positivismo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lthey (1883-1911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hombre es una realidad histórica –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Weber (1864- 1920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significado de los otros y la acción Social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urkheim (1858- 191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s rep.colectivas – Determinismo social  -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p 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c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arwin (1809-1882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biologicismo al cambio social: las especie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inst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rx (1818 – 1883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material y la consci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circunstancias hacen a los hombres tanto como los hombres a las circunstancias”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Conciencia proletaria necesita para su efectividad que exista consciencia subjetiva de la consciencia colectiva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ubjeti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Ideología Alemana 18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172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) La psicología de la Conducta Co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ía de los Pueblos (Wolkerphychologie)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– Lazarus, Stheinthal (1823-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ia de las Mas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 Bon (1841-1931): Hipnósis, Sugestión, Crimi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urkheim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presentaciones Col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) La Psicología de las relaciones interindividual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rde (1843 – 1904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mitación y sugestión humanas en la inte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) Psicología Social de los 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c. Dougall (1871 – 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) Psicología Social de las Actitud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lport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conductismo Social, la facilitación Social – Lo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urstone, Lickert, Sondeos Sociales (Gall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) Psicología del Comportamiento en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ton May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Experimentos de Hawthorn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man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fatiga labo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re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Sociograma, Sociodrama, Psicod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w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Grupo como todo dinámico – Lideraz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heri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Nor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) La posguerra hasta los set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uela de Frankfur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dorno y la Pd. Autoritaria - Actitu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suas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Hovland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 de la propaganda y modificación de actitu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luencia Social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herif, Asch y Mil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eid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el psicólogo inge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sting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la Disonancia Cogni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 indent="0"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individual, lo conductista y la irrelevancia Social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risis de la Psicologí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) La Psicología Social hasta Nuestros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esurgimiento (80 hasta ahora)  con el Sociocognitiv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jfel – lo grup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scovici – influencia y representaciones) Europa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ioconstruccionismo y nuevas tend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Gergen, Ibañez)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realidad se construye en la interacció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– Lo fundacional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9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sicología Social Moderna: Triplet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898)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lpor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24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Facilitación Social, Inhibición Social- Zajonc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65)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esencia de otros facilitaría la ejecución si se domina la acción y la dificultaría si no se domina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SOCIAL – EXTERIORIDAD A TEJIDO SIN COS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gran tensión: Sociologísmo y Psic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52480" y="47242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932360" y="3071880"/>
            <a:ext cx="381636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oss (1908) P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niveles y corrientes que existen entre los seres humanos producto de su asociació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Grupos: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o ind al gru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y las relacione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87280" y="3143160"/>
            <a:ext cx="3745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c Dougall (1908)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Instinto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 capacidades innatas de la mente human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isposicione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: imitación, sugestión y si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221304"/>
                </a:solidFill>
                <a:latin typeface="Arial"/>
                <a:ea typeface="Arial"/>
              </a:rPr>
              <a:t>Reduccionismos: Sociológico y Psicológismo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584360"/>
            <a:ext cx="7391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oci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mportamiento de cada individuo particular se desenvuelve bajo la determinación de una estructura social que lo su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llo éste responde a las condiciones y procesos históricos, culturales, institucionales, políticos y económicos en los que viv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ismo social: ¿Porqué no somos y actuamos de igual mane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70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sicologismo (M. B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enómenos psicosociales explicados solo psicológica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stracción de  las condiciones sociales, descontextualizando los fenómenos, de las condiciones históricas y mat.en las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xplicación del fenómeno: causalidad individual, desresponsabilizando al resto de la socieda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judica todo problema a causas individuales, manteniendo sin cuestionamientos el orden social en el que se desarr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 Violencia delin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3:24:53Z</dcterms:created>
  <dc:creator>Pablo Valdivieso</dc:creator>
  <dc:description/>
  <dc:language>en-US</dc:language>
  <cp:lastModifiedBy>Pablo Valdivieso T.</cp:lastModifiedBy>
  <dcterms:modified xsi:type="dcterms:W3CDTF">2011-03-18T21:36:39Z</dcterms:modified>
  <cp:revision>329</cp:revision>
  <dc:subject/>
  <dc:title>El Sociocognitivismo: Antecedentes:    </dc:title>
</cp:coreProperties>
</file>