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A84-9533-45F7-81AD-B952E25B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0309-DC26-45DB-A2C3-C5EBE327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CF8-5242-4E83-8A21-50F98204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2BFA-F3D7-4D47-8AE4-4CFFC86F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C294-101C-4FCC-9404-E215E6D8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751D-F3EC-4D73-ACBC-AC266C97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0957-7A64-49DF-8D68-66B480B1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3083-FB7E-43C3-AF0A-73313F0C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0C55-F208-4D9A-AE0D-8E6B9C74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C198-D9F2-445C-B1C7-355986CF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7CCD-47DA-4839-9E7E-1D5288BE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999-5EB3-4E13-B76A-AF50943D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00F6-C63F-4904-A8A7-FE0D9A86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E5BD-DCCE-43E1-81D0-B99D1A30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3895-815F-4016-ABF0-8F18A051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4E90-BFFB-449B-A56B-D948ACBA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1548-958B-4954-92EE-74794E51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659-1688-41C6-87DE-CACB96C6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96A-C840-4096-812F-D1DAC263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76F-B247-48CA-8BF1-25123F13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CC7-60FE-4B21-9504-0299BC99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A8B-9A87-4A61-A798-E922117A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FCE-06E6-46EB-8CA9-3F04E3BC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392-437F-4AD1-8EEF-B4838367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9A8B-00DD-4E06-8B02-B7121D56950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596D-2F1B-4F76-A1B4-C37FD4EB9BA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valdivieso@uchile.cl" TargetMode="External"/><Relationship Id="rId2" Type="http://schemas.openxmlformats.org/officeDocument/2006/relationships/hyperlink" Target="mailto:hcavieres@hotmail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Psicología Social 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el 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Objetiv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jetivo General: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 los estudiantes comprend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los conceptos centrales de la disciplina y se familiaricen con las principales áreas de contenido en el marco de los diferentes paradigmas en la discipl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bjetivos Epecific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Que los estudi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sitúen epistemológicamente en los diferentes paradigmas en Psicología Social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Describan, diferencien  y relacionen los diversos conceptos psicosociales tratados en el cur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pliquen los conocimientos en la descripción y comprensión de eventos psicosociales contemporáne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 algn="just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Relacionen los conocimientos teóricos y metodológicos adquiridos en esta asignatura con los que correspondan a otras materias afi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ontenidos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troducción a la psicología social como discipl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 I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ercepción y Cogni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II;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tudes y Representacion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25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UNIDAD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IV: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Influencia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etodología de la asign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metodología del curso consiste en clases teórico-prácticas en las cuales los alumnos realizaran diferentes ejercicios cuya finalidad será introducir las diferentes unidades abord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Modalidad de Evalu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urso constará de tres evalu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sayo de cierre de primera Unidad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ueba Unidades 2,3 y 4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ividad de Aplicación de Contenidos (2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Calendario de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233360"/>
          <a:ext cx="8229600" cy="4876920"/>
        </p:xfrm>
        <a:graphic>
          <a:graphicData uri="http://schemas.openxmlformats.org/drawingml/2006/table">
            <a:tbl>
              <a:tblPr/>
              <a:tblGrid>
                <a:gridCol w="2185920"/>
                <a:gridCol w="604368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zo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ción a la Psicologí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 de Cierre primera Un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ril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cepción y Cogni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84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4</a:t>
                      </a: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tudes y Represen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luencia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nio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nda Prue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Profes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blo Valdivie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pvaldivieso@uchile.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éctor Cavi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s-ES" sz="26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cavieres@hotmai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yu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00:42:40Z</dcterms:created>
  <dc:creator>Juan Barrios Rudloff</dc:creator>
  <dc:description/>
  <dc:language>en-US</dc:language>
  <cp:lastModifiedBy>gigi lubbert</cp:lastModifiedBy>
  <dcterms:modified xsi:type="dcterms:W3CDTF">2011-03-06T12:16:46Z</dcterms:modified>
  <cp:revision>24</cp:revision>
  <dc:subject/>
  <dc:title>Psicología Social II</dc:title>
</cp:coreProperties>
</file>