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4C2-46BF-4E7A-AB6C-25EDE5A9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38D-55F0-4780-A139-23EFB827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D62-393B-4E9F-8BC0-89D25282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1C3-E5D7-48CD-B161-95022FDD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558-5CF6-4216-A6FF-A6154864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0866-299D-4406-9E90-00EF5C25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24BD-0C0A-47B2-8AB4-0ACEC53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BAB7-975D-4CDD-B5DE-C588436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6D33-7D2A-4B01-9DDC-86A6B2B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2BF4-EB08-41F7-8E46-9CCA51C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5D3F-5B82-4919-9CF3-84C2EDE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ABD-C5DF-425B-94B6-6F4C9FB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4FE0-426E-435A-BD01-E5C9BAF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0D5-B349-40D6-B1B4-F3B9C1E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99A-BABD-4FC5-8F04-B9BC7505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492-65EC-4474-8169-1B9206D9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1453-07BC-4730-8846-AED34BBF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729-E900-48E9-B6C2-6878A66E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9CC-2F5D-4E89-9EC9-C7EDAF5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7BB-13D0-4EC3-90A1-989CF47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240-ED02-424F-9065-E391508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3FC-BA6C-4DE1-9BD0-C9AF5F8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487-FCA0-444F-87B5-CC438A74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678-F06C-487D-92E5-2B18B88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753-D5AF-479C-A87E-355207F2032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186-A117-4DA0-92A5-BE991379F82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valdivieso@uchile.cl" TargetMode="External"/><Relationship Id="rId2" Type="http://schemas.openxmlformats.org/officeDocument/2006/relationships/hyperlink" Target="mailto:hcavieres@hotmai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Psicología Social 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jetivo Genera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estudiantes comprend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conceptos centrales de la disciplina y se familiaricen con las principales áreas de contenido en el marco de los diferentes paradigmas en l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 Epecific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Que los estudi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sitúen epistemológicamente en los diferentes paradigmas en Psicología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criban, diferencien  y relacionen los diversos conceptos psicosociales tratados en el 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liquen los conocimientos en la descripción y comprensión de eventos psicosociales contemporáne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lacionen los conocimientos teóricos y metodológicos adquiridos en esta asignatura con los que correspondan a otras materias afi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tenid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 a la psicología social como 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rcepción y Cogni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II;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tudes y Representacion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V: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flue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etodología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etodología del curso consiste en clases teórico-prácticas en las cuales los alumnos realizaran diferentes ejercicios cuya finalidad será introducir las diferentes unidades abord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dalidad de Evalu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urso constará de tres evalu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o de cierre de primera Unidad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 Unidades 2,3 y 4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 de Aplicación de Contenido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4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fes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blo Valdivi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valdivieso@uchile.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éctor Cavi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cavieres@hot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42:40Z</dcterms:created>
  <dc:creator>Juan Barrios Rudloff</dc:creator>
  <dc:description/>
  <dc:language>en-US</dc:language>
  <cp:lastModifiedBy>gigi lubbert</cp:lastModifiedBy>
  <dcterms:modified xsi:type="dcterms:W3CDTF">2011-03-06T12:16:46Z</dcterms:modified>
  <cp:revision>24</cp:revision>
  <dc:subject/>
  <dc:title>Psicología Social II</dc:title>
</cp:coreProperties>
</file>