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76B6-0678-4BB8-8A6A-090AAF79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6D9-920A-4439-A03E-07033DE5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13C-E67D-4261-8AF4-E016C344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E93-6281-4BB3-9D6A-2F85E9C5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944B-F54F-484E-8544-A5BA636E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12C0-ADB0-4942-89DF-7ECC7C72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C3ED-D0EE-4D61-8C49-257287B5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1827-55CE-43D4-A697-C485E7DC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18B7-53B6-45E2-8315-3D207155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3A0B-94A6-494F-A5BE-346D9389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6DA3-2553-446B-965F-B1F118E1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0C7-2AD4-4C84-92D4-CD82652C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9F8D-1B79-4753-B9C5-D619DB40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EDCE-C478-4BF9-A139-0F100027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B5B1-FB79-49E6-BC83-05B1A792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D132-A811-4D03-8E4A-998A2769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1111-9C14-4D70-957A-7E90F20D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E39-747E-4551-8C73-B9E6A529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55E0-CB42-4A44-9182-012A569C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A16-6C55-48F8-AD5B-B6CEB263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EEF6-17A5-4C37-829B-60913CB9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A00E-AEE4-4B67-B6B4-16C71C79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1CB5-7750-4429-B33E-9F0C40BF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BD13-3CAB-433A-BDD8-0BA307BF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F665-4660-4EE6-8387-2D64288A136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3CCC-C580-494D-A7EB-D173B654563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pvaldivieso@uchile.cl" TargetMode="External"/><Relationship Id="rId2" Type="http://schemas.openxmlformats.org/officeDocument/2006/relationships/hyperlink" Target="mailto:hcavieres@hotmail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Psicología Social I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Objetivos de la asigna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bjetivo General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 los estudiantes comprenda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os conceptos centrales de la disciplina y se familiaricen con las principales áreas de contenido en el marco de los diferentes paradigmas en la discipl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bjetivos Epecifico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Que los estudian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just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 sitúen epistemológicamente en los diferentes paradigmas en Psicología Social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just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escriban, diferencien  y relacionen los diversos conceptos psicosociales tratados en el curs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just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pliquen los conocimientos en la descripción y comprensión de eventos psicosociales contemporáne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just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Relacionen los conocimientos teóricos y metodológicos adquiridos en esta asignatura con los que correspondan a otras materias afin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ontenidos de la asigna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DAD I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roducción a la psicología social como discipl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DAD I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Percepción y Cogni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DAD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III;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titudes y Representacione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DAD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IV: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Influencia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Metodología de la asigna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metodología del curso consiste en clases teórico-prácticas en las cuales los alumnos realizaran diferentes ejercicios cuya finalidad será introducir las diferentes unidades abord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Modalidad de Evalu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urso constará de tres evalu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sayo de cierre de primera Unidad (4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ueba Unidades 2,3 y 4 (4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tividad de Aplicación de Contenidos (2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alendario de Cl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1233360"/>
          <a:ext cx="8229600" cy="4876920"/>
        </p:xfrm>
        <a:graphic>
          <a:graphicData uri="http://schemas.openxmlformats.org/drawingml/2006/table">
            <a:tbl>
              <a:tblPr/>
              <a:tblGrid>
                <a:gridCol w="2185920"/>
                <a:gridCol w="604368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 de Cierre primera Un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pción y Cogni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pción y Cogni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844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2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nda Prue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alendario de Cl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233360"/>
          <a:ext cx="8229600" cy="4876920"/>
        </p:xfrm>
        <a:graphic>
          <a:graphicData uri="http://schemas.openxmlformats.org/drawingml/2006/table">
            <a:tbl>
              <a:tblPr/>
              <a:tblGrid>
                <a:gridCol w="2185920"/>
                <a:gridCol w="604368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 de Cierre primera Un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pción y Cogni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 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pción y Cogni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844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4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nda Prue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Profeso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blo Valdivi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pvaldivieso@uchile.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éctor Cavie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s-ES" sz="2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cavieres@hotmail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yuda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00:42:40Z</dcterms:created>
  <dc:creator>Juan Barrios Rudloff</dc:creator>
  <dc:description/>
  <dc:language>en-US</dc:language>
  <cp:lastModifiedBy>gigi lubbert</cp:lastModifiedBy>
  <dcterms:modified xsi:type="dcterms:W3CDTF">2011-03-06T12:16:46Z</dcterms:modified>
  <cp:revision>24</cp:revision>
  <dc:subject/>
  <dc:title>Psicología Social II</dc:title>
</cp:coreProperties>
</file>