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AA2-0276-4413-A3F6-460FF39D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ABD-CDD7-4726-B00B-B97F5CBE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365-9906-410D-A526-D58CB301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F0B-38F2-45F8-B47F-89F8761D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1CF-492B-466D-BBAF-059A3192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7A09-101E-48B5-B8FD-BFC7B30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5FBE-4BCA-42F1-B6B0-0B559237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3780-FDC1-4A68-9DA3-A3D15B0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C2C3-2968-4CD6-9CCB-C1BF522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2EE7-4721-4DC3-89F6-604B61F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9BA1-4092-4E30-A09A-CBF957E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A47-2AF4-4B11-B4B7-E888DBA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540-C6A0-4D42-81C1-0B3667E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B61-65E3-4F4B-95F9-C63EAD2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0DA-6DE8-460B-A883-5496A35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BB45-298D-4C03-A725-2493AB00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A10F-C97D-4693-8FA6-2F7F0B2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7A8-F713-4E7B-9482-BD5B7B5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5FF-32B5-4C46-BF0A-73C78475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F05-D70B-4EF8-8A86-0F6CB6E5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D93-C158-4D35-9B34-A3385FB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667-C4B6-48EA-B3BB-CBF1B8C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264-3214-4726-8EA0-5DDC1DB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1E3-630A-4089-AA38-4EE8AC1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2DF-3B69-4D4D-A8F9-23D16F8161B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BA26-2C5A-4D92-9CAA-B3EC5F3C841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valdivieso@uchile.cl" TargetMode="External"/><Relationship Id="rId2" Type="http://schemas.openxmlformats.org/officeDocument/2006/relationships/hyperlink" Target="mailto:hcavieres@hotmai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Psicología Social 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jetivo Genera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estudiantes comprend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conceptos centrales de la disciplina y se familiaricen con las principales áreas de contenido en el marco de los diferentes paradigmas en l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 Epecific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Que los estudi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sitúen epistemológicamente en los diferentes paradigmas en Psicología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criban, diferencien  y relacionen los diversos conceptos psicosociales tratados en el 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liquen los conocimientos en la descripción y comprensión de eventos psicosociales contemporáne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lacionen los conocimientos teóricos y metodológicos adquiridos en esta asignatura con los que correspondan a otras materias afi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tenid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 a la psicología social como 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rcepción y Cogni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II;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tudes y Representacion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V: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flue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etodología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etodología del curso consiste en clases teórico-prácticas en las cuales los alumnos realizaran diferentes ejercicios cuya finalidad será introducir las diferentes unidades abord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dalidad de Evalu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urso constará de tres evalu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o de cierre de primera Unidad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 Unidades 2,3 y 4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 de Aplicación de Contenido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4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fes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blo Valdivi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valdivieso@uchile.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éctor Cavi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cavieres@hot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42:40Z</dcterms:created>
  <dc:creator>Juan Barrios Rudloff</dc:creator>
  <dc:description/>
  <dc:language>en-US</dc:language>
  <cp:lastModifiedBy>gigi lubbert</cp:lastModifiedBy>
  <dcterms:modified xsi:type="dcterms:W3CDTF">2011-03-06T12:16:46Z</dcterms:modified>
  <cp:revision>24</cp:revision>
  <dc:subject/>
  <dc:title>Psicología Social II</dc:title>
</cp:coreProperties>
</file>