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46A-E355-41A3-ADB9-010443E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09B-70D3-42C3-BB67-FCF424B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53F-DBBB-4A5A-8EAF-E8157397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921-2E99-4BB5-9D18-448EA723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946-ACF1-4D2E-BE82-6C606E2D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6524-B3C0-43DA-B7E1-1384819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5062-7B8A-4568-9702-067A520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706D-D15C-4CEF-A9AE-51A29F5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585-F6D2-443D-AD82-5323AB61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F98-51D0-48F0-B354-E79407F3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893-6287-4761-A5EE-24427B2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E0C-A0B4-4795-9E5E-63B60804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16B5-65D2-401B-ACE4-979DB6E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C2BD-8117-4CB9-A104-08E4E47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7E8E-EE3B-415A-89E8-B736066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C633-4762-4B6B-A2A5-182BB4FA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FBD9-4B8F-4845-9A8E-AB236DCB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FC2-F3BE-4065-8E21-E11CBAF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020-5E3A-4D2D-9CFD-E85BFBD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C14-B32D-453F-9AB5-4A46804A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E81-026C-4DD5-97EA-B32B63B6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399-83C6-47BA-9940-F583741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1D5-1FC1-42F3-A1D6-DA2D8138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CE8-7949-4A55-9E2A-6B4A4D30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90D-3A76-475C-890D-2AF21718EE8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48D-A2D0-47E8-A2D9-2DC08FEC50A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valdivieso@uchile.cl" TargetMode="External"/><Relationship Id="rId2" Type="http://schemas.openxmlformats.org/officeDocument/2006/relationships/hyperlink" Target="mailto:hcavieres@hotmail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Psicología Social 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jetivo Genera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estudiantes comprend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conceptos centrales de la disciplina y se familiaricen con las principales áreas de contenido en el marco de los diferentes paradigmas en la discip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 Epecific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Que los estudi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sitúen epistemológicamente en los diferentes paradigmas en Psicología Soci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criban, diferencien  y relacionen los diversos conceptos psicosociales tratados en el 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liquen los conocimientos en la descripción y comprensión de eventos psicosociales contemporáne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lacionen los conocimientos teóricos y metodológicos adquiridos en esta asignatura con los que correspondan a otras materias afi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tenid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ción a la psicología social como 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ercepción y Cogni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II;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tudes y Representacion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V: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fluen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etodología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etodología del curso consiste en clases teórico-prácticas en las cuales los alumnos realizaran diferentes ejercicios cuya finalidad será introducir las diferentes unidades abord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dalidad de Evalu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urso constará de tres evalu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o de cierre de primera Unidad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 Unidades 2,3 y 4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 de Aplicación de Contenido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4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fes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blo Valdivi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valdivieso@uchile.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éctor Cavi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cavieres@hotmai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yu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0:42:40Z</dcterms:created>
  <dc:creator>Juan Barrios Rudloff</dc:creator>
  <dc:description/>
  <dc:language>en-US</dc:language>
  <cp:lastModifiedBy>gigi lubbert</cp:lastModifiedBy>
  <dcterms:modified xsi:type="dcterms:W3CDTF">2011-03-06T12:16:46Z</dcterms:modified>
  <cp:revision>24</cp:revision>
  <dc:subject/>
  <dc:title>Psicología Social II</dc:title>
</cp:coreProperties>
</file>