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764C-E3EB-41EA-AC98-749F49654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9047-F242-4F27-A22F-9810FB47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1407-1240-4DCD-B656-0B7413E5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B237-7491-4DBC-BE90-35E9EEDDA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2739-031B-4A15-B4DB-B1667605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2C1-A18B-445E-94EA-C9479F9A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DEE7-53DD-47E0-98D2-FE06302F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BC02-F27B-4E87-B2FC-E17FC136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296A-B676-46BA-A90F-E9DFFAB6C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0AD-7AC3-4E21-9CA7-2B4362AB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18E2-A98D-451B-B3EA-2C5D2EB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A106-2F39-437D-8B81-0C1C5E03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B3B14E-916B-41FE-9C47-E9255AFA71AF}" type="datetime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B69170-6121-4C52-8BB6-A85B00668F09}" type="slidenum">
              <a:rPr b="0" lang="es-ES_trad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íntes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trategias y Técnicas de Investigación Cualitativ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pósitos de los Anális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371240"/>
            <a:ext cx="80769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de Contenid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Permite el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e interpretación de los sentidos latentes y manifiestos expresados en un texto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, en referencia a su contexto de producción y al mismo tiempo posibilita la realización de inferencias aplicables a dicho contexto. (Duarte, 2009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Marcador de contenido 2"/>
          <p:cNvSpPr/>
          <p:nvPr/>
        </p:nvSpPr>
        <p:spPr>
          <a:xfrm>
            <a:off x="609480" y="3429000"/>
            <a:ext cx="7848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Análisis Estructural de Discurs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Pretende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dar cuenta de la estructura que organiza los sentidos del text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Marcador de contenido 2"/>
          <p:cNvSpPr/>
          <p:nvPr/>
        </p:nvSpPr>
        <p:spPr>
          <a:xfrm>
            <a:off x="609480" y="5029200"/>
            <a:ext cx="78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Teoría Fundamentad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Busc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alibri"/>
              </a:rPr>
              <a:t>generación de teoría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basada en los datos</a:t>
            </a:r>
            <a:r>
              <a:rPr b="0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álisis de Contenid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066320"/>
            <a:ext cx="4114800" cy="25909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Preparación del Análisi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ranscripciones de calidad (en caso de discurso en audio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imera lectura y notas de análisis. (intuiciones, preguntas, posibles códigos e interpretaciones.)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Elaboración de Pauta de Análisis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Calibri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onsiderar enfoques teóricos, notas de análisis, pauta de conversación (cuando corresponda) y notas de campo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Marcador de contenido 2"/>
          <p:cNvSpPr/>
          <p:nvPr/>
        </p:nvSpPr>
        <p:spPr>
          <a:xfrm>
            <a:off x="457200" y="3657600"/>
            <a:ext cx="4114800" cy="28954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Codificación de Categorías y Propiedade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ransformación de los datos en unidades que permiten descripción precisa del conteni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Durante codificación, to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r notas de análi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Separación de fragmentos según códig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Considerar información sobrante, sin forza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Marcador de contenido 2"/>
          <p:cNvSpPr/>
          <p:nvPr/>
        </p:nvSpPr>
        <p:spPr>
          <a:xfrm>
            <a:off x="4572000" y="3657600"/>
            <a:ext cx="4114800" cy="28954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Calibri"/>
              </a:rPr>
              <a:t>Conceptualización de la informa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Generar sistemas conceptual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Escribir el texto de análisis de la inform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Análisis de diálogo de autor(a) con sus informantes, posterior síntesis y conclusion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Interpretación y generalización de conclusion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Análisis en detalle de contenid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Marcador de contenido 2"/>
          <p:cNvSpPr/>
          <p:nvPr/>
        </p:nvSpPr>
        <p:spPr>
          <a:xfrm>
            <a:off x="4572000" y="1066680"/>
            <a:ext cx="4114800" cy="25909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Tematización de la información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 Construir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deas fuerza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 torno a áreas comunes (categorías: C) y dentro de ellas sub temas (propiedades: P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omparar fragmentos 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tre Propiedades y luego entre Categorí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Interpretar en contexto de produc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Considerar tipos de hablantes: tendencias medias, únicas, negativas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Análisis Estructural de Discurso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066320"/>
            <a:ext cx="8229600" cy="53341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ruc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códigos base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categorías o unidades mínimas de sentido que permiten clasificar los contenidos enunciados en el discurso. Son resultado de una relación de disyunción y conjunción que les da sentido. (Martinic, 2006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onstrucción de 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pares de oposición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: establecimiento de la relación de disyunción, implícita o explícita, del código en un </a:t>
            </a: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Eje Semántico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determinad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mbinación de códigos: asociación, en una sola categoría, de códigos que evocan un mismo signific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ódigos de Calificación: responden a una dimensión ético-normativa, de una valoración. Dan cuenta de la posición del sujeto frente al objeto en cuest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alibri"/>
              </a:rPr>
              <a:t>Condensación</a:t>
            </a: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:  construcción de una gran categoría o concepto general, a partir de los ejes semánt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lanteamiento de hipóte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jes cruzados: Relación entre ejes semánticos con el fin de generar productos axiales, esto es, perfiles de sujetos según su dis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Identificación de las realidades discursivas: clasificación de discursos analizados a partir de las tipologías generadas en los productos axiale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eoría Fundamentada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066320"/>
            <a:ext cx="4114800" cy="22100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Actitud del Analista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Interacción con los dat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rte (creatividad y asertividad) y Ciencia (rigor, apego a los datos). 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Pensamiento Divergente: ver desde distintos ángul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eguntas guías: ¿Qué? ¿Cómo? ¿Con qué? ¿Cuándo? ¿Por qué? ¿Quién? ¿Donde? ¿Con qué consecuencias?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Marcador de contenido 2"/>
          <p:cNvSpPr/>
          <p:nvPr/>
        </p:nvSpPr>
        <p:spPr>
          <a:xfrm>
            <a:off x="457200" y="3124080"/>
            <a:ext cx="4114800" cy="34290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 u="sng">
                <a:solidFill>
                  <a:srgbClr val="000000"/>
                </a:solidFill>
                <a:uFillTx/>
                <a:latin typeface="Calibri"/>
              </a:rPr>
              <a:t>Codificación Abierta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Microanálisi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: Lectura “palabra por palabra”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Examinar indicadore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de un mismo suceso,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identificando significado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Asignar un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concepto 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y un código a indicadores con mismo significado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Agrupar concepto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con significado similar o relacionado en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categoría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identificando propiedades</a:t>
            </a:r>
            <a:r>
              <a:rPr b="0" lang="es-ES_tradnl" sz="1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s-ES_tradnl" sz="1500" spc="-1" strike="noStrike">
                <a:solidFill>
                  <a:srgbClr val="000000"/>
                </a:solidFill>
                <a:latin typeface="Calibri"/>
              </a:rPr>
              <a:t>y dimension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" sz="1500" spc="-1" strike="noStrike">
                <a:solidFill>
                  <a:srgbClr val="000000"/>
                </a:solidFill>
                <a:latin typeface="Calibri"/>
              </a:rPr>
              <a:t>Memorandos</a:t>
            </a:r>
            <a:r>
              <a:rPr b="0" lang="es-ES" sz="1500" spc="-1" strike="noStrike">
                <a:solidFill>
                  <a:srgbClr val="000000"/>
                </a:solidFill>
                <a:latin typeface="Calibri"/>
              </a:rPr>
              <a:t>: primeras intuiciones, posibles cursos de la investigación, relaciones con otras situaciones contenidas en los datos e hipótesis provisionales surgidas de esto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Marcador de contenido 2"/>
          <p:cNvSpPr/>
          <p:nvPr/>
        </p:nvSpPr>
        <p:spPr>
          <a:xfrm>
            <a:off x="4572000" y="4343400"/>
            <a:ext cx="4114800" cy="22096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Codificación Selectiv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s-ES" sz="1800" spc="-1" strike="noStrike">
                <a:solidFill>
                  <a:srgbClr val="000000"/>
                </a:solidFill>
                <a:latin typeface="Calibri"/>
              </a:rPr>
              <a:t>Integración de conceptos en torno a la categoría central</a:t>
            </a: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, revisa y actualiza categorías para que queden más definidas y desarroll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Marcador de contenido 2"/>
          <p:cNvSpPr/>
          <p:nvPr/>
        </p:nvSpPr>
        <p:spPr>
          <a:xfrm>
            <a:off x="4572000" y="1066680"/>
            <a:ext cx="4114800" cy="3276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Codificación Axial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nálisis intensivo sobre una categoría, relacionándol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con sus propiedades y dimensiones, con sus subcategorías y con otras categoría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Extraer propiedades a través de dimension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Buscar condiciones, interacciones y consecuenc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Establecer relaciones entre categorías y subcategorí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Diagramas: Memorandos en forma de esquemas que representan relaciones entre los concep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 olvid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oceso de investigación con curso dinámico y “espiral”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 Constante Reflex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libri"/>
              </a:rPr>
              <a:t>Pregunta y objetivos de investigación son los que “determinan” muestra, estrategia de producción de información y estrategia de análisi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n 8" descr="j0186176.pict"/>
          <p:cNvPicPr/>
          <p:nvPr/>
        </p:nvPicPr>
        <p:blipFill>
          <a:blip r:embed="rId1"/>
          <a:stretch/>
        </p:blipFill>
        <p:spPr>
          <a:xfrm>
            <a:off x="5867280" y="503280"/>
            <a:ext cx="1676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eño de Investigació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MX" sz="2900" spc="-1" strike="noStrike">
                <a:solidFill>
                  <a:srgbClr val="000000"/>
                </a:solidFill>
                <a:latin typeface="Calibri"/>
              </a:rPr>
              <a:t>Intereses cualitativos: sentidos mentados de la acción, subjetividades</a:t>
            </a:r>
            <a:r>
              <a:rPr b="0" lang="es-ES_tradnl" sz="2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Calibri"/>
              </a:rPr>
              <a:t>Estrategias de Problematización de la realidad social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tabLst>
                <a:tab algn="l" pos="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2559600" indent="-25596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" name="Agrupar 12"/>
          <p:cNvGrpSpPr/>
          <p:nvPr/>
        </p:nvGrpSpPr>
        <p:grpSpPr>
          <a:xfrm>
            <a:off x="4572000" y="2762280"/>
            <a:ext cx="3962520" cy="3612960"/>
            <a:chOff x="4572000" y="2762280"/>
            <a:chExt cx="3962520" cy="3612960"/>
          </a:xfrm>
        </p:grpSpPr>
        <p:sp>
          <p:nvSpPr>
            <p:cNvPr id="46" name="Marcador de contenido 2"/>
            <p:cNvSpPr/>
            <p:nvPr/>
          </p:nvSpPr>
          <p:spPr>
            <a:xfrm>
              <a:off x="4572000" y="2762280"/>
              <a:ext cx="3962520" cy="346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alibri"/>
                </a:rPr>
                <a:t>Deductiva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Flecha abajo 6"/>
            <p:cNvSpPr/>
            <p:nvPr/>
          </p:nvSpPr>
          <p:spPr>
            <a:xfrm>
              <a:off x="5904720" y="4496040"/>
              <a:ext cx="1147320" cy="1879200"/>
            </a:xfrm>
            <a:prstGeom prst="downArrow">
              <a:avLst>
                <a:gd name="adj1" fmla="val 50000"/>
                <a:gd name="adj2" fmla="val 50001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Imagen 8" descr="j0241639.pict"/>
            <p:cNvPicPr/>
            <p:nvPr/>
          </p:nvPicPr>
          <p:blipFill>
            <a:blip r:embed="rId1"/>
            <a:stretch/>
          </p:blipFill>
          <p:spPr>
            <a:xfrm>
              <a:off x="5904720" y="3200400"/>
              <a:ext cx="114732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Agrupar 11"/>
          <p:cNvGrpSpPr/>
          <p:nvPr/>
        </p:nvGrpSpPr>
        <p:grpSpPr>
          <a:xfrm>
            <a:off x="609480" y="2743200"/>
            <a:ext cx="3962520" cy="3809880"/>
            <a:chOff x="609480" y="2743200"/>
            <a:chExt cx="3962520" cy="3809880"/>
          </a:xfrm>
        </p:grpSpPr>
        <p:sp>
          <p:nvSpPr>
            <p:cNvPr id="50" name="Marcador de contenido 2"/>
            <p:cNvSpPr/>
            <p:nvPr/>
          </p:nvSpPr>
          <p:spPr>
            <a:xfrm>
              <a:off x="609480" y="2743200"/>
              <a:ext cx="3962520" cy="346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26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900" spc="-1" strike="noStrike">
                  <a:solidFill>
                    <a:srgbClr val="000000"/>
                  </a:solidFill>
                  <a:latin typeface="Calibri"/>
                </a:rPr>
                <a:t>Inductiva</a:t>
              </a:r>
              <a:endParaRPr b="0" lang="en-US" sz="29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 algn="ctr">
                <a:spcBef>
                  <a:spcPts val="7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lecha arriba 5"/>
            <p:cNvSpPr/>
            <p:nvPr/>
          </p:nvSpPr>
          <p:spPr>
            <a:xfrm>
              <a:off x="2088000" y="3200400"/>
              <a:ext cx="1171080" cy="1726560"/>
            </a:xfrm>
            <a:prstGeom prst="upArrow">
              <a:avLst>
                <a:gd name="adj1" fmla="val 50000"/>
                <a:gd name="adj2" fmla="val 49998"/>
              </a:avLst>
            </a:prstGeom>
            <a:gradFill rotWithShape="0">
              <a:gsLst>
                <a:gs pos="0">
                  <a:srgbClr val="9bc1ff"/>
                </a:gs>
                <a:gs pos="100000">
                  <a:srgbClr val="3f80cd"/>
                </a:gs>
              </a:gsLst>
              <a:lin ang="5400000"/>
            </a:gra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Imagen 9" descr="j0232110.pict"/>
            <p:cNvPicPr/>
            <p:nvPr/>
          </p:nvPicPr>
          <p:blipFill>
            <a:blip r:embed="rId2"/>
            <a:stretch/>
          </p:blipFill>
          <p:spPr>
            <a:xfrm>
              <a:off x="1999440" y="4896360"/>
              <a:ext cx="1259640" cy="165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0956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servación Participante como Estrategia Inductiva de Problematizació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Investigación que involucra la </a:t>
            </a: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interacción social entre el investigador y los informantes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en el milieu [escenario] de los últimos” (Taylor y Bogdan, 1986:31).Experiencia directa del mundo socia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Producir información de modo sistemático y no intrusiv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Lo social es susceptible de ser observado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Consideraciones Éticas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nsentimiento informado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n personas con las que se establecerá una relación prolongad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alibri"/>
              </a:rPr>
              <a:t>Comprometerse</a:t>
            </a:r>
            <a:r>
              <a:rPr b="0" lang="es-ES_tradnl" sz="2200" spc="-1" strike="noStrike">
                <a:solidFill>
                  <a:srgbClr val="000000"/>
                </a:solidFill>
                <a:latin typeface="Calibri"/>
              </a:rPr>
              <a:t> con comunidad que se desea estudiar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Observación Participante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761760"/>
            <a:ext cx="4114800" cy="28191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lexibilidad y aper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conocimiento de Ideas Prev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terrogantes previas (ámbitos y temas sociológicos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juste al entrar en el campo, giros y preci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mpo único y luego decidi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uta de observación: guía de aspectos globales a atend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Marcador de contenido 2"/>
          <p:cNvSpPr/>
          <p:nvPr/>
        </p:nvSpPr>
        <p:spPr>
          <a:xfrm>
            <a:off x="4572000" y="3581280"/>
            <a:ext cx="4114800" cy="312444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Cuaderno de Camp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“Diario de vida” del proceso de observac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Profundización de las N. de C. e interpretaciones incipientes de los C.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Ejercicio de reconstrucción de la realidad observ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Explicitación de vinculaciones teór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Intuiciones, pregunta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Agregar datos de context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Marcador de contenido 2"/>
          <p:cNvSpPr/>
          <p:nvPr/>
        </p:nvSpPr>
        <p:spPr>
          <a:xfrm>
            <a:off x="457200" y="3581280"/>
            <a:ext cx="4114800" cy="312444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Vínculos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lección del escena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dentificación de posibles Porter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Bola de Nieve y Muestreo Teóric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Desarrollar estrategias de interacción con inform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Calibri"/>
              </a:rPr>
              <a:t>Rapport: 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mpatizar con los informantes y Construir confian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espeto y acercamiento a la cotidian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Ayudar en la actividad cotidi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Valorar lo propio de la gen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Marcador de contenido 2"/>
          <p:cNvSpPr/>
          <p:nvPr/>
        </p:nvSpPr>
        <p:spPr>
          <a:xfrm>
            <a:off x="4572000" y="762120"/>
            <a:ext cx="4114800" cy="2819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Notas de Camp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ompletas, precisas y detalladas. En principio, todo puede ser important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Actores, acciones, procesos y escenario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roquis: distribución espacial como dat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Comentarios del Observador(a): Las primeras interrogantes e interpretaciones del escenari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l investigador como mediador/productor de la información: autoobservació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ntrevista en Profund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Reiterados encuentros cara a cara  entre el investigador y los informantes” (T&amp;B, 1986:101). Conversación intencionada entre igual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Comprender “las perspectivas que tienen los informantes respecto de sus vidas, experiencias o situaciones, tal como las expresan con sus propias palabras.”(T&amp;B, 1986:101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Profundidad permitirá conocer y no tergiversar el lenguaje de los informantes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-Consentimiento informado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Calibri"/>
              </a:rPr>
              <a:t>-Vínculo entre iguales y motivación mutua (sensibilidad, adaptación, sinceridad)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Entrevista en Profundidad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066680"/>
            <a:ext cx="4114800" cy="23623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38183" dir="13500000" blurRad="0" rotWithShape="0">
              <a:srgbClr val="000000">
                <a:alpha val="43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Selección de los Informante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Muestreo teórico y Bola de niev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Lo que importa es el potencial de cada caso, la posición estructural que represent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Marcador de contenido 2"/>
          <p:cNvSpPr/>
          <p:nvPr/>
        </p:nvSpPr>
        <p:spPr>
          <a:xfrm>
            <a:off x="457200" y="3429000"/>
            <a:ext cx="4114800" cy="312408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38183" dir="81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Víncul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Aproximación lenta y no intimida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Espacio de encuentro de común acuerdo y adecuado (privacidad, seguridad, tranquilidad, posibilidad de registro de calidad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Marcador de contenido 2"/>
          <p:cNvSpPr/>
          <p:nvPr/>
        </p:nvSpPr>
        <p:spPr>
          <a:xfrm>
            <a:off x="4572000" y="3429000"/>
            <a:ext cx="4114800" cy="312408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bación consenti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as de Campo y Comentarios del Observador después de la entrevist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Marcador de contenido 2"/>
          <p:cNvSpPr/>
          <p:nvPr/>
        </p:nvSpPr>
        <p:spPr>
          <a:xfrm>
            <a:off x="4572000" y="1066680"/>
            <a:ext cx="4114800" cy="23623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38183" dir="18900000" blurRad="0" rotWithShape="0">
              <a:srgbClr val="808080">
                <a:alpha val="4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Calibri"/>
              </a:rPr>
              <a:t>Diseño de las entrevista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reguntas descriptivas, relatos o documentos como posibles gatillador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Pauta de entrevista: contenidos más que estructur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versación social=/=interrogato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Confesionario=/=tribunal (juicio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4114800" cy="88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Grupo Focal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bla individual en un grupo a partir de la cual se estudia las racionalidades o lógicas de acción en un colectivo y respecto a un campo práctico específic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ermite la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omprensión de la acción pues la interpreta desde la perspectiva del actor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que la realiza. Acceso a la dimensión práctica de los mundos social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iscurso reproduce realidad social.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ítulo 1"/>
          <p:cNvSpPr/>
          <p:nvPr/>
        </p:nvSpPr>
        <p:spPr>
          <a:xfrm>
            <a:off x="4572000" y="304920"/>
            <a:ext cx="45720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Grupo de Discusión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Marcador de contenido 2"/>
          <p:cNvSpPr/>
          <p:nvPr/>
        </p:nvSpPr>
        <p:spPr>
          <a:xfrm>
            <a:off x="4724280" y="1523880"/>
            <a:ext cx="41148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Conversación grupal a partir de la cual se estudia las racionalizacio-nes con las cuales un grupo se representa a si mism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Permite “investigar el sentido de ‘las palabras’ y en ellas encontrar la conciencia del sujeto y su relación con la ideología de su grupo”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alibri"/>
              </a:rPr>
              <a:t>La conversación de un conjunto de participantes, con igual derecho al habla, y previamente desconocidos entre si, produce un discurso y un grupo que lo produce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Grupo Foca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761760"/>
            <a:ext cx="4114800" cy="144756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Selección de participantes: Muestra estructural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-Pauta de conversación: descomposición del objeto de estudio en múltiples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Marcador de contenido 2"/>
          <p:cNvSpPr/>
          <p:nvPr/>
        </p:nvSpPr>
        <p:spPr>
          <a:xfrm>
            <a:off x="457200" y="2209680"/>
            <a:ext cx="4114800" cy="25146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de la Convers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Interesa el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relato-narración de todos los participant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en todas sus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Hablas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individuales</a:t>
            </a: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 con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escucha grup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Existe un </a:t>
            </a:r>
            <a:r>
              <a:rPr b="1" lang="es-ES" sz="1600" spc="-1" strike="noStrike">
                <a:solidFill>
                  <a:srgbClr val="000000"/>
                </a:solidFill>
                <a:latin typeface="Calibri"/>
              </a:rPr>
              <a:t>orden exterior de temas y turnos que los da quien anima el grup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alibri"/>
              </a:rPr>
              <a:t>Se habla de lo vivido, permite reconstruir perspectivas, comprensiones o interpretaciones.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Marcador de contenido 2"/>
          <p:cNvSpPr/>
          <p:nvPr/>
        </p:nvSpPr>
        <p:spPr>
          <a:xfrm>
            <a:off x="457200" y="4724280"/>
            <a:ext cx="4114800" cy="201780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ción: Notas de campo; lenguaje corporal, elementos resaltados por los hablant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bación consentida en audio o vide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ítulo 1"/>
          <p:cNvSpPr/>
          <p:nvPr/>
        </p:nvSpPr>
        <p:spPr>
          <a:xfrm>
            <a:off x="4572000" y="228600"/>
            <a:ext cx="411480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Grupo de Discusión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Marcador de contenido 2"/>
          <p:cNvSpPr/>
          <p:nvPr/>
        </p:nvSpPr>
        <p:spPr>
          <a:xfrm>
            <a:off x="4572000" y="762120"/>
            <a:ext cx="4114800" cy="18288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iseñ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Selección de participantes (no deben conocerse) Homogeneidad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tens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Heterogeneidad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extensió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-Pauta de conversación debe referir a una realidad común a los participantes. dimension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Marcador de contenido 2"/>
          <p:cNvSpPr/>
          <p:nvPr/>
        </p:nvSpPr>
        <p:spPr>
          <a:xfrm>
            <a:off x="4572000" y="2590920"/>
            <a:ext cx="4114800" cy="2286000"/>
          </a:xfrm>
          <a:prstGeom prst="rect">
            <a:avLst/>
          </a:prstGeom>
          <a:gradFill rotWithShape="0">
            <a:gsLst>
              <a:gs pos="0">
                <a:srgbClr val="ffe5e5"/>
              </a:gs>
              <a:gs pos="100000">
                <a:srgbClr val="ffa2a1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alibri"/>
              </a:rPr>
              <a:t>Desarrollo de la Conversació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Investigador propone tema a discuti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Rotación de turnos de habla y escucha. </a:t>
            </a:r>
            <a:r>
              <a:rPr b="1" lang="es-ES_tradnl" sz="1600" spc="-1" strike="noStrike">
                <a:solidFill>
                  <a:srgbClr val="000000"/>
                </a:solidFill>
                <a:latin typeface="Calibri"/>
              </a:rPr>
              <a:t>Circularida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e tiende a la homogeneidad discursiva, mas el disenso es parte del habla grupal y lo constituye como t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Grupo se produce cuando hay redundancia. Consenso</a:t>
            </a:r>
            <a:r>
              <a:rPr b="0" lang="es-ES_tradnl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600" spc="-1" strike="noStrike">
                <a:solidFill>
                  <a:srgbClr val="000000"/>
                </a:solidFill>
                <a:latin typeface="Calibri"/>
              </a:rPr>
              <a:t>salida del tem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Marcador de contenido 2"/>
          <p:cNvSpPr/>
          <p:nvPr/>
        </p:nvSpPr>
        <p:spPr>
          <a:xfrm>
            <a:off x="4572000" y="4876920"/>
            <a:ext cx="4114800" cy="186516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alibri"/>
              </a:rPr>
              <a:t>Registr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Observación: Notas de campo; lenguaje corporal, consensos, nudos conversaciona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rabación consentida en audio o video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isión de transcripciones contribuirá al proceso de muestreo teórico e identificación de saturación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1034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Estrategias de Análisis de Información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n 3" descr="j0186106.pict"/>
          <p:cNvPicPr/>
          <p:nvPr/>
        </p:nvPicPr>
        <p:blipFill>
          <a:blip r:embed="rId1"/>
          <a:stretch/>
        </p:blipFill>
        <p:spPr>
          <a:xfrm>
            <a:off x="3522600" y="3718080"/>
            <a:ext cx="2116080" cy="22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2T10:15:43Z</dcterms:created>
  <dc:creator>Daniela  Moraga Farías</dc:creator>
  <dc:description/>
  <dc:language>en-US</dc:language>
  <cp:lastModifiedBy>Daniela  Moraga Farías</cp:lastModifiedBy>
  <dcterms:modified xsi:type="dcterms:W3CDTF">2009-06-22T13:20:55Z</dcterms:modified>
  <cp:revision>4</cp:revision>
  <dc:subject/>
  <dc:title>Síntesis  Estrategias y Técnicas de Investigación Cualitativa</dc:title>
</cp:coreProperties>
</file>