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wmf" ContentType="image/x-wmf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3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0D80-0218-4298-9CDB-587CC66E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2E7-2B00-4DEF-B981-F2443EC0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4D7-0098-4124-ACA3-E648B193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C4C5-0D84-48E4-8183-9350754D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2799-1899-49B0-BB7A-139F81DB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CD68-A412-4ABA-AC69-48DAF0ED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1D49-A2C2-4CB0-9839-19ADAC16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6E19-9C66-4E96-9BE3-5995C508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9C9A-5F64-4285-9FFD-0EC21285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D29D-B517-4941-9A26-2D83EB25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3D35-6B4D-4149-A244-DB80BD3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026-5274-45EE-9FF4-127E2EF0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5551-4A87-431A-A331-FD22BB5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31C-E9BC-4E31-858F-6506C321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A6CB-AE56-4370-89E9-8592D21B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8784-F2CB-4B4B-B7F9-891DE501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62E4-C92F-4C24-B895-9FD3D95A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DBF-AD0B-45AC-AD6B-C8A2F23B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0C8-3FD3-474B-A0E0-B2C3A779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F14-1B89-4B60-8CDA-242E35B8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85C-F6F3-4ED7-A8AC-369B903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B1A-B167-472F-9F13-C3D0A63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3E3D-1985-4621-9414-FA7EB140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FE9-1797-4BC7-BA62-9DFB9809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526-0E1C-4BA6-AEA8-FD8B4FEDB02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72CD-1FD6-4E7D-BAB0-978C2C1B1BC2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60195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CONFLICTO ORGANIZACIONAL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8840" y="54100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2247840"/>
            <a:ext cx="24498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ODELO DE ESTILOS PREFERENTES DE MANEJO DE CONFLICTO</a:t>
            </a:r>
            <a:r>
              <a:rPr b="0" lang="es-CL" sz="1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i="1" lang="es-CL" sz="1800" spc="-1" strike="noStrike">
                <a:solidFill>
                  <a:srgbClr val="006633"/>
                </a:solidFill>
                <a:latin typeface="Garamond"/>
              </a:rPr>
              <a:t>(KW. Thomas y R Killman)</a:t>
            </a:r>
            <a:r>
              <a:rPr b="0" lang="es-CL" sz="17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320" y="1978200"/>
            <a:ext cx="8858160" cy="4879800"/>
            <a:chOff x="76320" y="1978200"/>
            <a:chExt cx="8858160" cy="4879800"/>
          </a:xfrm>
        </p:grpSpPr>
        <p:pic>
          <p:nvPicPr>
            <p:cNvPr id="139" name="" descr=""/>
            <p:cNvPicPr/>
            <p:nvPr/>
          </p:nvPicPr>
          <p:blipFill>
            <a:blip r:embed="rId1">
              <a:lum bright="6000"/>
            </a:blip>
            <a:stretch/>
          </p:blipFill>
          <p:spPr>
            <a:xfrm>
              <a:off x="76320" y="1978200"/>
              <a:ext cx="8858160" cy="48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26120" y="2927520"/>
              <a:ext cx="2087640" cy="9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94920" y="2543040"/>
              <a:ext cx="15310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laboració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ganar-gana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7400" y="3657600"/>
              <a:ext cx="15732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mpromi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(ceder-cede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TÉCNICAS DE MANEJO DE CONFLIC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7413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onsiderar intereses de amb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112920"/>
            <a:ext cx="19810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plicación co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112920"/>
            <a:ext cx="19051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plicación si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713120"/>
            <a:ext cx="914400" cy="3222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Luch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4713120"/>
            <a:ext cx="1066680" cy="3222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Coer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713120"/>
            <a:ext cx="1066680" cy="7786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Renuncia de una  pa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713120"/>
            <a:ext cx="1218960" cy="550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Decisión de mayorí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13120"/>
            <a:ext cx="1295280" cy="114948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Persuas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Apel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Medi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Arbitra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4713120"/>
            <a:ext cx="1447920" cy="5979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Negociació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Pac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2"/>
            <a:endCxn id="147" idx="0"/>
          </p:cNvCxnSpPr>
          <p:nvPr/>
        </p:nvCxnSpPr>
        <p:spPr>
          <a:xfrm flipH="1">
            <a:off x="456840" y="3763440"/>
            <a:ext cx="99144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4" name=""/>
          <p:cNvCxnSpPr>
            <a:stCxn id="145" idx="2"/>
            <a:endCxn id="148" idx="0"/>
          </p:cNvCxnSpPr>
          <p:nvPr/>
        </p:nvCxnSpPr>
        <p:spPr>
          <a:xfrm>
            <a:off x="1447560" y="3763440"/>
            <a:ext cx="7668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5" name=""/>
          <p:cNvCxnSpPr>
            <a:stCxn id="146" idx="2"/>
            <a:endCxn id="149" idx="0"/>
          </p:cNvCxnSpPr>
          <p:nvPr/>
        </p:nvCxnSpPr>
        <p:spPr>
          <a:xfrm flipH="1">
            <a:off x="2666160" y="3763440"/>
            <a:ext cx="125820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6" name=""/>
          <p:cNvCxnSpPr>
            <a:stCxn id="146" idx="2"/>
            <a:endCxn id="150" idx="0"/>
          </p:cNvCxnSpPr>
          <p:nvPr/>
        </p:nvCxnSpPr>
        <p:spPr>
          <a:xfrm flipH="1">
            <a:off x="3885840" y="3763440"/>
            <a:ext cx="3888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7" name=""/>
          <p:cNvCxnSpPr>
            <a:stCxn id="146" idx="2"/>
            <a:endCxn id="151" idx="0"/>
          </p:cNvCxnSpPr>
          <p:nvPr/>
        </p:nvCxnSpPr>
        <p:spPr>
          <a:xfrm>
            <a:off x="3924360" y="3763440"/>
            <a:ext cx="1296000" cy="9500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8" name=""/>
          <p:cNvCxnSpPr>
            <a:stCxn id="144" idx="2"/>
            <a:endCxn id="151" idx="0"/>
          </p:cNvCxnSpPr>
          <p:nvPr/>
        </p:nvCxnSpPr>
        <p:spPr>
          <a:xfrm flipH="1">
            <a:off x="5219280" y="2391840"/>
            <a:ext cx="148680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59" name=""/>
          <p:cNvCxnSpPr>
            <a:stCxn id="144" idx="2"/>
            <a:endCxn id="152" idx="0"/>
          </p:cNvCxnSpPr>
          <p:nvPr/>
        </p:nvCxnSpPr>
        <p:spPr>
          <a:xfrm flipH="1">
            <a:off x="6667200" y="2391840"/>
            <a:ext cx="3888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60" name=""/>
          <p:cNvCxnSpPr>
            <a:stCxn id="144" idx="2"/>
            <a:endCxn id="161" idx="0"/>
          </p:cNvCxnSpPr>
          <p:nvPr/>
        </p:nvCxnSpPr>
        <p:spPr>
          <a:xfrm>
            <a:off x="6705360" y="2391840"/>
            <a:ext cx="1600920" cy="232164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7467480" y="4713120"/>
            <a:ext cx="1676520" cy="160596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Compromis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Entrenamiento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Metas subordinada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99"/>
                </a:solidFill>
                <a:latin typeface="Arial"/>
              </a:rPr>
              <a:t>Expansión de recurs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endCxn id="145" idx="0"/>
          </p:cNvCxnSpPr>
          <p:nvPr/>
        </p:nvCxnSpPr>
        <p:spPr>
          <a:xfrm flipH="1">
            <a:off x="1447200" y="2351160"/>
            <a:ext cx="1067400" cy="76248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cxnSp>
        <p:nvCxnSpPr>
          <p:cNvPr id="163" name=""/>
          <p:cNvCxnSpPr>
            <a:endCxn id="146" idx="0"/>
          </p:cNvCxnSpPr>
          <p:nvPr/>
        </p:nvCxnSpPr>
        <p:spPr>
          <a:xfrm>
            <a:off x="2514600" y="2351160"/>
            <a:ext cx="1410480" cy="762480"/>
          </a:xfrm>
          <a:prstGeom prst="straightConnector1">
            <a:avLst/>
          </a:prstGeom>
          <a:ln w="38160">
            <a:solidFill>
              <a:srgbClr val="afbf39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1295280" y="1676520"/>
            <a:ext cx="274320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Imponer intereses de una de las pa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460440"/>
            <a:ext cx="6705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¿QUÉ ES NEGOCIAR?</a:t>
            </a:r>
            <a:r>
              <a:rPr b="0" lang="es-CL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álogo que llevan a cabo dos personas o grupos para llegar a un acuerdo respecto de un conflicto donde pueden haber diferencias de intereses y/o comportamientos entre los participantes que requieran de alguna sol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9149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684036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te método, denominado negociación según principios o negociación con base en los méritos, puede resumirse en cuatro puntos básic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pare a las Personas del Problema a negoci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éntrese en los intereses de ambas partes,  no en la posiciones o petito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enere una variedad de posibilidades antes de decidirse a act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Insista</a:t>
            </a: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n que el resultado se base en algún criterio objetivo.</a:t>
            </a:r>
            <a:br>
              <a:rPr sz="2200"/>
            </a:b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42508" t="0" r="6168" b="0"/>
          <a:stretch/>
        </p:blipFill>
        <p:spPr>
          <a:xfrm>
            <a:off x="7086600" y="2438280"/>
            <a:ext cx="1779480" cy="2303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EMENTOS BÁSICOS DE NEGOCI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7080" y="1523520"/>
            <a:ext cx="8082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o hay ningún método que pueda garantizar el éxito si la otra parte tiene todas las ventajas o po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l MAAN es la mejor alternativa que se tiene para un acuerdo negociado y es el único criterio que puede protegerlo de aceptar términos demasiado desfavorables y de rechazar términos que sería conveniente aceptar. Para ello se debe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istar varias alternativas de acción para el caso de no llegar  a acuerdo con la otra pa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Mejorar las ideas más prometed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13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egir la mejor de estas altern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n vez de rechazar cualquier solución que no se ajusta a su mínimo, usted puede comparar una propuesta con su MAAN y ver si satisface mejor sus inter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ENCUENTRE SU MAAN: mejor alternativa a un acuerdo negoci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MÉTODO DE NEGOCIACIÓN DE HARVAR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3487680" y="4738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Comun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86240" y="4013280"/>
            <a:ext cx="230508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Re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87680" y="1066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Intere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87680" y="185724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Op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87680" y="329868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Legitim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87680" y="257796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Alternati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87680" y="5452920"/>
            <a:ext cx="2303640" cy="4899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3b812f"/>
                </a:solidFill>
                <a:latin typeface="Arial Narrow"/>
              </a:rPr>
              <a:t>Compromi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>
            <a:stCxn id="176" idx="2"/>
            <a:endCxn id="177" idx="0"/>
          </p:cNvCxnSpPr>
          <p:nvPr/>
        </p:nvCxnSpPr>
        <p:spPr>
          <a:xfrm>
            <a:off x="4640040" y="1564920"/>
            <a:ext cx="10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7" idx="2"/>
            <a:endCxn id="179" idx="0"/>
          </p:cNvCxnSpPr>
          <p:nvPr/>
        </p:nvCxnSpPr>
        <p:spPr>
          <a:xfrm>
            <a:off x="4640040" y="2355480"/>
            <a:ext cx="108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2"/>
            <a:endCxn id="178" idx="0"/>
          </p:cNvCxnSpPr>
          <p:nvPr/>
        </p:nvCxnSpPr>
        <p:spPr>
          <a:xfrm>
            <a:off x="4640040" y="3076200"/>
            <a:ext cx="108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2"/>
            <a:endCxn id="175" idx="0"/>
          </p:cNvCxnSpPr>
          <p:nvPr/>
        </p:nvCxnSpPr>
        <p:spPr>
          <a:xfrm flipH="1">
            <a:off x="4637880" y="379728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5" idx="2"/>
            <a:endCxn id="174" idx="0"/>
          </p:cNvCxnSpPr>
          <p:nvPr/>
        </p:nvCxnSpPr>
        <p:spPr>
          <a:xfrm>
            <a:off x="4638240" y="4511160"/>
            <a:ext cx="252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74" idx="2"/>
            <a:endCxn id="180" idx="0"/>
          </p:cNvCxnSpPr>
          <p:nvPr/>
        </p:nvCxnSpPr>
        <p:spPr>
          <a:xfrm>
            <a:off x="4640040" y="523692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0" idx="1"/>
            <a:endCxn id="177" idx="1"/>
          </p:cNvCxnSpPr>
          <p:nvPr/>
        </p:nvCxnSpPr>
        <p:spPr>
          <a:xfrm flipH="1" rot="10800000">
            <a:off x="3486600" y="2106000"/>
            <a:ext cx="2520" cy="3596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685800" y="28195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fbf39"/>
                </a:solidFill>
                <a:latin typeface="Arial"/>
              </a:rPr>
              <a:t>Equipos Nego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64360" y="2759040"/>
            <a:ext cx="234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afbf39"/>
                </a:solidFill>
                <a:latin typeface="Arial"/>
              </a:rPr>
              <a:t>Equipos Negoci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APLICANDO EL MÉTODO DE HARVARD EN FORMA RÁPI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356840"/>
            <a:ext cx="2946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Antes de reunirse con la otra pa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larifique sus intere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nticipe los intereses de la otra pa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Genere varias opciones y elija las más integrativ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fina su MA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Genere criterios de legitim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1316160"/>
            <a:ext cx="327672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En la reunión de Negoci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Compartan sus intereses respec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Acuerden criterios de legitimidad para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pongan las opciones de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aluar las opciones con los criterios de legitim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Llegar al mejor acuerdo para amb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1371600"/>
            <a:ext cx="3276720" cy="4648320"/>
          </a:xfrm>
          <a:prstGeom prst="rect">
            <a:avLst/>
          </a:prstGeom>
          <a:noFill/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97760" y="1295280"/>
            <a:ext cx="29462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s-CL" sz="2100" spc="-1" strike="noStrike">
                <a:solidFill>
                  <a:srgbClr val="800000"/>
                </a:solidFill>
                <a:latin typeface="Arial"/>
              </a:rPr>
              <a:t>Después de la reun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Redactar y clarificar los compromisos establec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SALIDA si no hay acuerdo, aplicar el MA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6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6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9240" y="990720"/>
            <a:ext cx="3959280" cy="510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6553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LIDAD DE VIDA EN EL TRABAJ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400800" y="5029200"/>
            <a:ext cx="236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EFINICIONES O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lud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Estado completo de bienestar físico, psíquico y social y no solamente en la ausencia de enfermedad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idad de vida (CV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Percepción de un individuo de su posición respecto de la vida en el contexto de la cultura y de un sistema de valores en el cual vive, con relación a sus metas, expectativas, normas y preocupacione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59080" cy="4419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ALUD OCUPACION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5334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usca promover el más alto grado de bienestar físico, psíquico y social para los trabajadores de todas las profesiones, prevenir los daños a la salud causados por condiciones de trabajo adversas, colocar y mantener en un puesto acorde a sus aptitudes fisiológicas y psicológicas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61722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</a:rPr>
              <a:t>¿QUÉ ES EL CONFLICTO?</a:t>
            </a:r>
            <a:r>
              <a:rPr b="0" lang="es-CL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una situación de tensión en la que dos o más personas o grupos, que dependen el uno del otro, o que se necesitan mutuamente, divergen en opiniones, intereses, intenciones, planos de acción, etc., que son importantes para la cooperación o convivencia y sobre los cuales se debe tomar una deci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cia de Intereses de las par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Diferencias en los Comportamientos Esperados v/s Observ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86400" y="449280"/>
            <a:ext cx="2360520" cy="16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EL TRABAJO COMO ELEMENTO ESENCIAL DE LA CV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uesto debe ser acorde con las competenc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remuneración acorde con el tr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ma laboral pos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bilidad de aumentar la competencia profes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laborales satisfacto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519732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El trabajo es el principal determinante en el proceso salud-enferme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OLARIDAD LABOR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olo positiv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sarrollo, crecimiento, integración, motivación, compensación, salud: satisfacción, bienest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682720" cy="3429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3260880"/>
            <a:ext cx="541008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olo negativ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riesgos físicos, químicos, biológicos, carga mental, inseguridad, carga física: accidentes y enferme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OLARIDAD LABORAL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Atención en el polo positiv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políticas de desarrollo de las personas, capacitación, promoción de la salud, prevención de riesgos laborales (mejorar el bienestar bio-psico-social con atención primaria en salu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 u="sng">
                <a:solidFill>
                  <a:srgbClr val="000000"/>
                </a:solidFill>
                <a:uFillTx/>
                <a:latin typeface="Arial"/>
              </a:rPr>
              <a:t>Atención en el polo positiv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: atención sobre accidentes y enfermedades (reducir accidentes y enfermedades), control de riesg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VENTAJAS DE CV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79352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sminuye el ausentismo y la tasa de L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duce accident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sminuye conflictos laborale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nera mayor compromis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ejora el desempeñ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ejora el clima laboral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CONSTRUIR ORGANIZACIONES SALUD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r planes de promoción de sal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dades sanitar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oridades de 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trategi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638680" y="289548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8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1. PRIORIDADES SANITAR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363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cardiovascula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iccio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identes del trabaj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profesiona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fermedades graves y crón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2. PRIORIDADES DE A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médico específico y periódico de acuerdo al riesgo del proceso produc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aluación y control de riesgo labo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mentación adecu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iminar el tabaquis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dad fís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867200" y="3124080"/>
            <a:ext cx="381960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1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6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1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3. ESTRATEG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6324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105520"/>
            <a:ext cx="7010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800000"/>
                </a:solidFill>
                <a:latin typeface="Arial"/>
              </a:rPr>
              <a:t>PRIORIZAR ACCIONES PREVENTIVAS EN TODOS LOS ÁMBITOS POSIB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81024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7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ALIDAD DE VIDA (CV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31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años a la vida: reducir mort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salud a la vida: reducir morbi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mar vida a los años: mejorar C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8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658800"/>
            <a:ext cx="762012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652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209680" y="1600200"/>
            <a:ext cx="4743720" cy="3610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181480" y="5562720"/>
            <a:ext cx="3962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f5f5f"/>
                </a:solidFill>
                <a:latin typeface="Garamond"/>
              </a:rPr>
              <a:t>Profesor Rogelio Dí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22096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71520" indent="-3715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RADICIONAL: Conflicto es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negativ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1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LOS TRES CONCEPTOS ACERCA DE CONFLICTO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8240" y="3276360"/>
            <a:ext cx="563868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DUCTUAL: Conflicto como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proceso natural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495680"/>
            <a:ext cx="815328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RACCIONAL: Alienta el conflicto, distingue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entre conflict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funcional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isfun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638680" y="1752480"/>
            <a:ext cx="3162600" cy="23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33840" y="2759040"/>
            <a:ext cx="4000680" cy="29559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4302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INÓNIM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ntimidación en el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ersecución Encubier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ostigamiento Lab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Violencia psicológ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ltrato psicológi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oso Lab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coso Mo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ingu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u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4120"/>
            <a:ext cx="7086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BBING – Konrad Lorenz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1840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18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El Nóbe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tólogo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Konrad Lorenz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escribió el mobbing como el ataque de una coalición de miembros débiles de una misma especie contra otro individuo más fuerte que ell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593720"/>
            <a:ext cx="304164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3040" y="384120"/>
            <a:ext cx="4286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474920" y="1333440"/>
            <a:ext cx="597672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– Konrad Lorenz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211640" y="1174680"/>
            <a:ext cx="4681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ara definir esta situación se utilizó el verbo inglés “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to mob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” que se define como atacar con violencia; se traduce como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ser atropellad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atacado 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or la multitud; que significa asaltar, acos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na publicación de 1976, relacionada con el mobbing en el mundo laboral, hacía referencia al </a:t>
            </a: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Trabajador hostigad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(Brodsky, 1976). En este libro, por primera vez, se estudiaron casos de Mobb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04920" y="1881360"/>
            <a:ext cx="3816360" cy="29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– Heinz Leyman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742840" y="1219320"/>
            <a:ext cx="6248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l profesor de alemán,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Heinz Leymann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, fue el primero en definir este término durante un </a:t>
            </a:r>
            <a:r>
              <a:rPr b="1" lang="es-CL" sz="2300" spc="-1" strike="noStrike">
                <a:solidFill>
                  <a:srgbClr val="000000"/>
                </a:solidFill>
                <a:latin typeface="Arial"/>
              </a:rPr>
              <a:t>Congreso sobre Higiene y Seguridad en el Trabajo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 en el año 1990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1157400"/>
            <a:ext cx="2286000" cy="1662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282096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Arial"/>
              </a:rPr>
              <a:t>"Situación en la que una persona ejerce una violencia psicológica extrema, de forma sistemática y recurrente y durante un tiempo prolongado sobre otra persona o personas en el lugar de trabajo con la finalidad de destruir las redes de comunicación de la víctima o víctimas, destruir su reputación, perturbar el ejercicio de sus labores y lograr que finalmente esa persona o personas acaben abandonando el lugar de trabajo"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(Heinz Leymann, 199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160" y="1794960"/>
            <a:ext cx="80643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" El concepto de mobbing queda definido por el encadenamiento sobre un período de tiempo bastante corto de intentos o acciones hostiles consumadas, expresadas o manifestadas, por una o varias personas, hacia una tercera: el objetivo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Heinz Leyman, 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533160" y="307440"/>
            <a:ext cx="7543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MOBBING - Heinz  Leymann </a:t>
            </a:r>
            <a:r>
              <a:rPr b="1" i="1" lang="es-E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19996800">
            <a:off x="2884320" y="1315800"/>
            <a:ext cx="1219320" cy="381132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66720 h 3811320"/>
              <a:gd name="textAreaBottom" fmla="*/ 2763360 h 38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44880" y="2916360"/>
            <a:ext cx="3672000" cy="576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. INCIDENTE CRI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44880" y="3708360"/>
            <a:ext cx="3672000" cy="576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2. PERSECUCION SISTEMA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44880" y="4498920"/>
            <a:ext cx="3672000" cy="5763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3. INTERVENCION DE LA EMP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44880" y="5291280"/>
            <a:ext cx="3672000" cy="5760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4. ABANDONO  DEL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1239840"/>
            <a:ext cx="4464000" cy="720720"/>
          </a:xfrm>
          <a:prstGeom prst="rect">
            <a:avLst/>
          </a:prstGeom>
          <a:gradFill rotWithShape="0">
            <a:gsLst>
              <a:gs pos="0">
                <a:srgbClr val="462f00"/>
              </a:gs>
              <a:gs pos="100000">
                <a:srgbClr val="99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VOLUCION DEL MOBBING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7480" y="2865600"/>
            <a:ext cx="2520720" cy="4316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7a5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CUATRO  FA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SPIRAL DEL MOBBING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1: INCIDENTE CRÍ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un momento determinado, se produce un cambio repentino en la relación personal o profes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ambio suele estar motivado por la envidia, los celos, la competitividad, el ansia de ascensos, o la inclusión de una nueva persona en el grupo a la que se le ve como competido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“víctima” comienza a ser criticada y perseguida por la forma de hacer su trabajo y se utilizan por parte del “acosador” todo tipo de incidentes, tretas, calumnias y vejaciones, tanto personales como profesional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2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7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24080" y="114300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Aparecen los primeros síntomas de malestar</a:t>
            </a:r>
            <a:r>
              <a:rPr b="1" i="1" lang="es-ES_tradnl" sz="1800" spc="-1" strike="noStrike">
                <a:solidFill>
                  <a:srgbClr val="afbf3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72080" y="1911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72080" y="2416320"/>
            <a:ext cx="3240000" cy="43308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aciones alimen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2919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deación recurrente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24080" y="354636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La persona se debate entre la neg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 </a:t>
            </a: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del problema y su incredulidad</a:t>
            </a:r>
            <a:r>
              <a:rPr b="1" i="1" lang="es-ES_tradnl" sz="1800" spc="-1" strike="noStrike">
                <a:solidFill>
                  <a:srgbClr val="afbf3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507060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Busca que el problema no se generalice a la opinión públ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131360" y="4501080"/>
            <a:ext cx="863640" cy="64944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72080" y="291780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Otras alteracione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191124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2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sori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2414520"/>
            <a:ext cx="3240000" cy="43344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Trastornos del Su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INICIA EL ACOSO PSICOLÓG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2: PERSECUCIÓN SISTEMÁ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“víctima” comienza a quedar excluida en lo personal  y apartada en lo social. En el plano profesional se la asignan tareas insignificantes o humillan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Se consolida el conflicto convirtiéndose en una campaña de hostigamient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l “acosador” busca el apoyo del grupo, bien por inclusión o por omisió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a labor de zapa no es fácilmente identificable, y no resulta fácil obtener prueb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En muchas ocasiones, la víctima no es consciente, al principio, de la campaña en su contr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76320"/>
            <a:ext cx="77202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ORMAS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165560" y="4808520"/>
            <a:ext cx="9720" cy="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5320" y="4808520"/>
            <a:ext cx="9720" cy="97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6600" y="1447920"/>
          <a:ext cx="7929360" cy="4254480"/>
        </p:xfrm>
        <a:graphic>
          <a:graphicData uri="http://schemas.openxmlformats.org/drawingml/2006/table">
            <a:tbl>
              <a:tblPr/>
              <a:tblGrid>
                <a:gridCol w="3054240"/>
                <a:gridCol w="2436840"/>
                <a:gridCol w="243828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e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rtamien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AGÓNICO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PATIB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O 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TIB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N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HA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484360" y="99072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afbf39"/>
                </a:solidFill>
                <a:latin typeface="Arial"/>
              </a:rPr>
              <a:t>Fuertemente propiciada por el acosador</a:t>
            </a:r>
            <a:r>
              <a:rPr b="1" i="1" lang="es-ES_tradnl" sz="1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31960" y="2550960"/>
            <a:ext cx="6192720" cy="107964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Gradación más incisiva del acoso psicológ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3645000"/>
            <a:ext cx="6193080" cy="107928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bjetivo de intimidar a la víctima para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no se defiend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31960" y="4711680"/>
            <a:ext cx="6192720" cy="1079640"/>
          </a:xfrm>
          <a:prstGeom prst="ellipse">
            <a:avLst/>
          </a:prstGeom>
          <a:gradFill rotWithShape="0">
            <a:gsLst>
              <a:gs pos="0">
                <a:srgbClr val="3b812f"/>
              </a:gs>
              <a:gs pos="100000">
                <a:srgbClr val="1d41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menazas dirigidas a la seguridad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 al estatus profe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4393080" y="1707480"/>
            <a:ext cx="863640" cy="649080"/>
          </a:xfrm>
          <a:custGeom>
            <a:avLst/>
            <a:gdLst>
              <a:gd name="textAreaLeft" fmla="*/ 135000 w 863640"/>
              <a:gd name="textAreaRight" fmla="*/ 756000 w 8636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SE ABRE 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9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0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57200" y="1549440"/>
            <a:ext cx="2305080" cy="15112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acosado p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y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86400" y="1440000"/>
            <a:ext cx="3097080" cy="18730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86280" y="150984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los superiores jerárquicos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86280" y="198108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los representantes del personal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86280" y="251460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A personas influyentes en 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Organizació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33560" y="1981080"/>
            <a:ext cx="2592360" cy="576360"/>
          </a:xfrm>
          <a:custGeom>
            <a:avLst/>
            <a:gdLst>
              <a:gd name="textAreaLeft" fmla="*/ 405000 w 2592360"/>
              <a:gd name="textAreaRight" fmla="*/ 2268360 w 2592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73200" y="415116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timiento de rechazo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73200" y="465444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islamiento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200" y="5159520"/>
            <a:ext cx="3240000" cy="43308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ntimientos de culpa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3200" y="5662440"/>
            <a:ext cx="3240000" cy="433440"/>
          </a:xfrm>
          <a:prstGeom prst="rect">
            <a:avLst/>
          </a:prstGeom>
          <a:gradFill rotWithShape="0">
            <a:gsLst>
              <a:gs pos="0">
                <a:srgbClr val="6d3929"/>
              </a:gs>
              <a:gs pos="50000">
                <a:srgbClr val="321a12"/>
              </a:gs>
              <a:gs pos="100000">
                <a:srgbClr val="6d392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imeros brotes depresivos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14640" y="4151160"/>
            <a:ext cx="360360" cy="1944720"/>
          </a:xfrm>
          <a:custGeom>
            <a:avLst/>
            <a:gdLst>
              <a:gd name="textAreaLeft" fmla="*/ 0 w 360360"/>
              <a:gd name="textAreaRight" fmla="*/ 129960 w 3603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346640" y="4836960"/>
            <a:ext cx="1366920" cy="576360"/>
          </a:xfrm>
          <a:custGeom>
            <a:avLst/>
            <a:gdLst>
              <a:gd name="textAreaLeft" fmla="*/ 213480 w 1366920"/>
              <a:gd name="textAreaRight" fmla="*/ 1196280 w 13669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3560400">
            <a:off x="3919320" y="2465640"/>
            <a:ext cx="1457280" cy="2286000"/>
          </a:xfrm>
          <a:prstGeom prst="downArrow">
            <a:avLst>
              <a:gd name="adj1" fmla="val 50000"/>
              <a:gd name="adj2" fmla="val 39217"/>
            </a:avLst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usencia de 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4459320"/>
            <a:ext cx="3058920" cy="1368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Entra directamente en 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“</a:t>
            </a:r>
            <a:r>
              <a:rPr b="1" i="1" lang="es-ES_tradnl" sz="1800" spc="-1" strike="noStrike">
                <a:solidFill>
                  <a:srgbClr val="ffe8d9"/>
                </a:solidFill>
                <a:latin typeface="Arial"/>
              </a:rPr>
              <a:t>ESPIRAL DEL MOBB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3: INTERVENCIÓN DE LOS SUPERIOR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404" dur="indefinite" restart="never" nodeType="tmRoot">
          <p:childTnLst>
            <p:seq>
              <p:cTn id="1405" dur="indefinite" nodeType="mainSeq">
                <p:childTnLst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rot="5400000">
            <a:off x="3847680" y="3771720"/>
            <a:ext cx="1219320" cy="31244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04080 h 3124440"/>
              <a:gd name="textAreaBottom" fmla="*/ 211140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1219320"/>
            <a:ext cx="2286000" cy="685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7575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RE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DEL A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3962520"/>
            <a:ext cx="2286000" cy="685800"/>
          </a:xfrm>
          <a:prstGeom prst="rect">
            <a:avLst/>
          </a:prstGeom>
          <a:gradFill rotWithShape="0">
            <a:gsLst>
              <a:gs pos="0">
                <a:srgbClr val="ff9981"/>
              </a:gs>
              <a:gs pos="100000">
                <a:srgbClr val="7546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INTO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ATOLÓG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71600" y="3962520"/>
            <a:ext cx="2286000" cy="6858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INEFICA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352680" y="2209680"/>
            <a:ext cx="2514600" cy="1752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SP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L MOBB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SPIRAL DEL MOBBING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0" name=""/>
          <p:cNvSpPr/>
          <p:nvPr/>
        </p:nvSpPr>
        <p:spPr>
          <a:xfrm rot="13072200">
            <a:off x="1599840" y="685800"/>
            <a:ext cx="1219320" cy="312408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604080 h 3124080"/>
              <a:gd name="textAreaBottom" fmla="*/ 21110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19539600">
            <a:off x="6705360" y="990360"/>
            <a:ext cx="1218960" cy="31240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04080 h 3124080"/>
              <a:gd name="textAreaBottom" fmla="*/ 211104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2340420"/>
                <a:lnTo>
                  <a:pt x="9309" y="20784"/>
                </a:lnTo>
                <a:lnTo>
                  <a:pt x="0" y="17743"/>
                </a:lnTo>
                <a:lnTo>
                  <a:pt x="9309" y="13069"/>
                </a:lnTo>
                <a:lnTo>
                  <a:pt x="9309" y="15896"/>
                </a:lnTo>
                <a:arcTo wR="21600" hR="8356" stAng="2340420" swAng="-2175277"/>
                <a:lnTo>
                  <a:pt x="21435" y="9387"/>
                </a:lnTo>
                <a:arcTo wR="21600" hR="8356" stAng="-165144" swAng="-5234856"/>
                <a:close/>
              </a:path>
              <a:path fill="darkenLess" w="21600" h="21600">
                <a:moveTo>
                  <a:pt x="0" y="0"/>
                </a:moveTo>
                <a:arcTo wR="21600" hR="8356" stAng="-5400000" swAng="5400000"/>
                <a:lnTo>
                  <a:pt x="21600" y="10417"/>
                </a:lnTo>
                <a:arcTo wR="21600" hR="8356" stAng="0" swAng="-165144"/>
                <a:lnTo>
                  <a:pt x="21435" y="9387"/>
                </a:lnTo>
                <a:arcTo wR="21600" hR="8356" stAng="-165144" swAng="-5234856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26920" y="1295280"/>
            <a:ext cx="2305080" cy="150984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acosado llega 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punto en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1371600"/>
            <a:ext cx="3313080" cy="219852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3280" y="14479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Pierde el interés por su t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06960" y="19051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Elabora síndromes psicopat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83280" y="2438280"/>
            <a:ext cx="25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Se deteriora su plano social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3640" y="1600200"/>
            <a:ext cx="2305080" cy="576360"/>
          </a:xfrm>
          <a:custGeom>
            <a:avLst/>
            <a:gdLst>
              <a:gd name="textAreaLeft" fmla="*/ 360000 w 2305080"/>
              <a:gd name="textAreaRight" fmla="*/ 2017080 w 230508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3280" y="304812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Necesita ayuda multidiscipli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</a:rPr>
              <a:t>urgent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296360" y="3273480"/>
            <a:ext cx="1439640" cy="64908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7085160" y="3580560"/>
            <a:ext cx="571680" cy="649080"/>
          </a:xfrm>
          <a:custGeom>
            <a:avLst/>
            <a:gdLst>
              <a:gd name="textAreaLeft" fmla="*/ 89280 w 571680"/>
              <a:gd name="textAreaRight" fmla="*/ 500400 w 571680"/>
              <a:gd name="textAreaTop" fmla="*/ 162360 h 649080"/>
              <a:gd name="textAreaBottom" fmla="*/ 487080 h 64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48520" y="4255920"/>
            <a:ext cx="2216160" cy="1916280"/>
          </a:xfrm>
          <a:prstGeom prst="noSmoking">
            <a:avLst>
              <a:gd name="adj" fmla="val 16046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y que evitar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si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tolesion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62520" y="4876920"/>
            <a:ext cx="2190600" cy="576000"/>
          </a:xfrm>
          <a:custGeom>
            <a:avLst/>
            <a:gdLst>
              <a:gd name="textAreaLeft" fmla="*/ 342000 w 2190600"/>
              <a:gd name="textAreaRight" fmla="*/ 1917000 w 21906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15552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3: INTERVENCIÓN DE LOS SUPERIORES </a:t>
            </a:r>
            <a:r>
              <a:rPr b="1" i="1" lang="es-ES_tradnl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97360" y="3749400"/>
            <a:ext cx="4286880" cy="2691720"/>
            <a:chOff x="297360" y="3749400"/>
            <a:chExt cx="4286880" cy="2691720"/>
          </a:xfrm>
        </p:grpSpPr>
        <p:sp>
          <p:nvSpPr>
            <p:cNvPr id="315" name=""/>
            <p:cNvSpPr/>
            <p:nvPr/>
          </p:nvSpPr>
          <p:spPr>
            <a:xfrm rot="295800">
              <a:off x="390240" y="3921120"/>
              <a:ext cx="4100400" cy="2347920"/>
            </a:xfrm>
            <a:prstGeom prst="irregularSeal2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5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6680" y="4668840"/>
              <a:ext cx="289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¡¡ Su salud puede ve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seriamente dañada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4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DE SOLICITUD DE AYUDA Y DIAGNÓS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820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“victima” queda totalment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ISLADA Y DERROTA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sufre inexorablemente un período de deterioro de su salud física y mental (problemas psicológicos, físicos, sociales, familia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 seguir en la empresa comienzan la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ICENCIAS MÉDIC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cada vez más largas (trastornos ansiosos, depresiones, crisis hipertensivas, gastritis, úlcera gastro-duodenal, lumbago, cefalea crónic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a “víctima” puede llegar incluso al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ICIDI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Por ello es primordial que el diagnóstico del proceso se realice de forma correcta y cuanto antes, pues los efectos son más perjudiciales cuanto más tiempo p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7" dur="indefinite" restart="never" nodeType="tmRoot">
          <p:childTnLst>
            <p:seq>
              <p:cTn id="1548" dur="indefinite" nodeType="mainSeq">
                <p:childTnLst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68160" y="914400"/>
            <a:ext cx="2448000" cy="1511280"/>
          </a:xfrm>
          <a:prstGeom prst="irregularSeal1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a víc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10960" y="3200400"/>
            <a:ext cx="3313440" cy="2521080"/>
            <a:chOff x="210960" y="3200400"/>
            <a:chExt cx="3313440" cy="2521080"/>
          </a:xfrm>
        </p:grpSpPr>
        <p:sp>
          <p:nvSpPr>
            <p:cNvPr id="321" name=""/>
            <p:cNvSpPr/>
            <p:nvPr/>
          </p:nvSpPr>
          <p:spPr>
            <a:xfrm>
              <a:off x="210960" y="3200400"/>
              <a:ext cx="3313440" cy="2521080"/>
            </a:xfrm>
            <a:prstGeom prst="rect">
              <a:avLst/>
            </a:prstGeom>
            <a:gradFill rotWithShape="0">
              <a:gsLst>
                <a:gs pos="0">
                  <a:srgbClr val="3b3b00"/>
                </a:gs>
                <a:gs pos="50000">
                  <a:srgbClr val="808000"/>
                </a:gs>
                <a:gs pos="100000">
                  <a:srgbClr val="3b3b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640" y="3346560"/>
              <a:ext cx="2521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Tiene verdadero pánico al 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laboral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1680" y="3921120"/>
              <a:ext cx="252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Busca soluciones fuera de s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040" y="4497480"/>
              <a:ext cx="25207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Se va de la empresa o s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prejubila</a:t>
              </a:r>
              <a:r>
                <a:rPr b="1" i="1" lang="es-ES_tradnl" sz="14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6040" y="5073480"/>
              <a:ext cx="2520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Se mantiene “vegetando” dentr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ffffff"/>
                  </a:solidFill>
                  <a:latin typeface="Arial"/>
                </a:rPr>
                <a:t>de la empresa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 rot="5400000">
            <a:off x="1511280" y="2357280"/>
            <a:ext cx="792000" cy="649440"/>
          </a:xfrm>
          <a:custGeom>
            <a:avLst/>
            <a:gdLst>
              <a:gd name="textAreaLeft" fmla="*/ 123480 w 792000"/>
              <a:gd name="textAreaRight" fmla="*/ 693000 w 792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11360" y="988920"/>
            <a:ext cx="703440" cy="5031000"/>
          </a:xfrm>
          <a:custGeom>
            <a:avLst/>
            <a:gdLst>
              <a:gd name="textAreaLeft" fmla="*/ 0 w 703440"/>
              <a:gd name="textAreaRight" fmla="*/ 253800 w 703440"/>
              <a:gd name="textAreaTop" fmla="*/ 131040 h 5031000"/>
              <a:gd name="textAreaBottom" fmla="*/ 4899960 h 503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803"/>
                </a:lnTo>
                <a:cubicBezTo>
                  <a:pt x="10800" y="11703"/>
                  <a:pt x="16200" y="12603"/>
                  <a:pt x="21600" y="12603"/>
                </a:cubicBezTo>
                <a:cubicBezTo>
                  <a:pt x="16200" y="12603"/>
                  <a:pt x="10800" y="13503"/>
                  <a:pt x="10800" y="1440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322884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243360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905360"/>
            <a:ext cx="1009800" cy="57636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067280"/>
            <a:ext cx="1009800" cy="576000"/>
          </a:xfrm>
          <a:custGeom>
            <a:avLst/>
            <a:gdLst>
              <a:gd name="textAreaLeft" fmla="*/ 157680 w 1009800"/>
              <a:gd name="textAreaRight" fmla="*/ 883800 w 100980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5e4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41960" y="1981080"/>
            <a:ext cx="3672000" cy="106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PARA LA PERSONA ACO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Salud deterio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Red social desmembra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Economía debilitada o r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241960" y="3198960"/>
            <a:ext cx="3672000" cy="137304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B. PARA LA  ORGANIZ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LABO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érdida económ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erdida potencial intelect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Pérdida profesiona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43400" y="4724280"/>
            <a:ext cx="3672000" cy="833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PARA LA SOCIE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Costo econó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- Freno al avance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861160" y="1168560"/>
            <a:ext cx="25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fbf39"/>
                </a:solidFill>
                <a:latin typeface="Arial"/>
              </a:rPr>
              <a:t>CONSECUENCIAS NEGA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afbf39"/>
                </a:solidFill>
                <a:latin typeface="Arial"/>
              </a:rPr>
              <a:t>DEL ACOSO PSICOLOGICO</a:t>
            </a:r>
            <a:r>
              <a:rPr b="1" i="1" lang="es-ES_tradnl" sz="16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2578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ASE 4: LA HUIDA</a:t>
            </a:r>
            <a:r>
              <a:rPr b="1" i="1" lang="es-ES_tradnl" sz="4200" spc="-1" strike="noStrike">
                <a:solidFill>
                  <a:srgbClr val="5f5f5f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RITERIOS CLÍNICOS DE DIAGNÓSTIC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demos hablar de acoso psicológico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hostigamiento se produce de forma continuada, al menos durante seis meses, una vez por se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n la “víctima” estados de ansiedad, estrés, depresión, daños en el aparato digestivo, alteración del sueño, pérdida de autoestima, irritación generalizada, etc., entre otros sínt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ando detectamos problemas en las condiciones psicosociales y en el puesto de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5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0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5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0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66688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MOBB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804960" y="914400"/>
            <a:ext cx="7151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EL CONFLICTO PUEDE SER FUNCIONAL O DISFUNCION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0840" y="1809720"/>
            <a:ext cx="7656480" cy="4288320"/>
            <a:chOff x="420840" y="1809720"/>
            <a:chExt cx="7656480" cy="4288320"/>
          </a:xfrm>
        </p:grpSpPr>
        <p:sp>
          <p:nvSpPr>
            <p:cNvPr id="103" name=""/>
            <p:cNvSpPr/>
            <p:nvPr/>
          </p:nvSpPr>
          <p:spPr>
            <a:xfrm>
              <a:off x="2359080" y="1901880"/>
              <a:ext cx="5616360" cy="3456000"/>
            </a:xfrm>
            <a:custGeom>
              <a:avLst/>
              <a:gdLst/>
              <a:ahLst/>
              <a:rect l="l" t="t" r="r" b="b"/>
              <a:pathLst>
                <a:path w="2857" h="2177">
                  <a:moveTo>
                    <a:pt x="0" y="0"/>
                  </a:moveTo>
                  <a:lnTo>
                    <a:pt x="0" y="2177"/>
                  </a:lnTo>
                  <a:lnTo>
                    <a:pt x="2857" y="2177"/>
                  </a:ln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23960" y="2743200"/>
              <a:ext cx="5400720" cy="2394000"/>
            </a:xfrm>
            <a:custGeom>
              <a:avLst/>
              <a:gdLst/>
              <a:ahLst/>
              <a:rect l="l" t="t" r="r" b="b"/>
              <a:pathLst>
                <a:path w="3402" h="1508">
                  <a:moveTo>
                    <a:pt x="0" y="1508"/>
                  </a:moveTo>
                  <a:cubicBezTo>
                    <a:pt x="84" y="1487"/>
                    <a:pt x="327" y="1452"/>
                    <a:pt x="503" y="1382"/>
                  </a:cubicBezTo>
                  <a:cubicBezTo>
                    <a:pt x="679" y="1312"/>
                    <a:pt x="875" y="1314"/>
                    <a:pt x="1056" y="1086"/>
                  </a:cubicBezTo>
                  <a:cubicBezTo>
                    <a:pt x="1237" y="858"/>
                    <a:pt x="1418" y="22"/>
                    <a:pt x="1588" y="11"/>
                  </a:cubicBezTo>
                  <a:cubicBezTo>
                    <a:pt x="1758" y="0"/>
                    <a:pt x="1886" y="793"/>
                    <a:pt x="2079" y="1018"/>
                  </a:cubicBezTo>
                  <a:cubicBezTo>
                    <a:pt x="2272" y="1243"/>
                    <a:pt x="2525" y="1277"/>
                    <a:pt x="2746" y="1359"/>
                  </a:cubicBezTo>
                  <a:cubicBezTo>
                    <a:pt x="2967" y="1441"/>
                    <a:pt x="3265" y="1477"/>
                    <a:pt x="3402" y="1508"/>
                  </a:cubicBezTo>
                </a:path>
              </a:pathLst>
            </a:custGeom>
            <a:noFill/>
            <a:ln w="1908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18360" y="5394240"/>
              <a:ext cx="175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768127"/>
                  </a:solidFill>
                  <a:latin typeface="Arial"/>
                </a:rPr>
                <a:t>Intensidad del confli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0840" y="1809720"/>
              <a:ext cx="1942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768127"/>
                  </a:solidFill>
                  <a:latin typeface="Arial"/>
                </a:rPr>
                <a:t>Funcionalidad del confli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120" y="1900080"/>
            <a:ext cx="8001000" cy="411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onflicto en las organizaciones puede visualizarse como alg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disfuncional y negativ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que debe evitarse ya 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desvían los esfuerzos del trabajo di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enera pérdidas de ti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umenta los costos organizac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enera problemas psicológicos en las perso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teriora el clima lab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FLICTO EN LAS ORGANIZACION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120" y="1744200"/>
            <a:ext cx="800100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conflicto puede visualizarse como algo </a:t>
            </a:r>
            <a:r>
              <a:rPr b="0" i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funcional y beneficioso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para los individuos y la organización porqu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 aumentar la motivación disponib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uede incrementar la capacidad de innov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s personas pueden  comprender mejor su posición, ya que tienen que discutirla y fundamentar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ula equilibrios de po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FLICTO EN LAS ORGANIZACIONES </a:t>
            </a:r>
            <a:r>
              <a:rPr b="1" i="1" lang="en-US" sz="3000" spc="-1" strike="noStrike">
                <a:solidFill>
                  <a:srgbClr val="006633"/>
                </a:solidFill>
                <a:latin typeface="Garamond"/>
              </a:rPr>
              <a:t>(continuación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TAPAS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022560"/>
            <a:ext cx="2298960" cy="12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diciones prev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Estruc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Variables pers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05240" y="3137040"/>
            <a:ext cx="1544760" cy="68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Confli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Times New Roman"/>
              </a:rPr>
              <a:t>Manifi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79800" y="4340160"/>
            <a:ext cx="2356200" cy="2136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Conductas de man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del confli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lab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Compromi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Ev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451"/>
              </a:spcBef>
              <a:buClr>
                <a:srgbClr val="081d5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Times New Roman"/>
              </a:rPr>
              <a:t>Adec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6320" y="2463840"/>
            <a:ext cx="1427400" cy="1055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 Confli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35160" y="3848040"/>
            <a:ext cx="1427400" cy="1055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Confli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sent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77120" y="3917880"/>
            <a:ext cx="1589040" cy="1150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Pe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sempeñ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65960" y="2492280"/>
            <a:ext cx="1589040" cy="1150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Me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semp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0015"/>
                </a:solidFill>
                <a:latin typeface="Times New Roman"/>
              </a:rPr>
              <a:t>del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6040" y="2936520"/>
            <a:ext cx="420840" cy="54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41600" y="3817800"/>
            <a:ext cx="372960" cy="3733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2480" y="2911320"/>
            <a:ext cx="419040" cy="4208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622760" y="3673080"/>
            <a:ext cx="420840" cy="5461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26320" y="2927520"/>
            <a:ext cx="420480" cy="5457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1520" y="3692520"/>
            <a:ext cx="373320" cy="37296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43600" y="3886200"/>
            <a:ext cx="0" cy="39384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4419720"/>
          <a:ext cx="2314440" cy="2233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920" y="4419720"/>
                    <a:ext cx="2314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09480" y="1192320"/>
          <a:ext cx="1523880" cy="109836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sición potenci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1981080" y="147636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152388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57840" y="1476360"/>
            <a:ext cx="428760" cy="200160"/>
          </a:xfrm>
          <a:prstGeom prst="rightArrow">
            <a:avLst>
              <a:gd name="adj1" fmla="val 50000"/>
              <a:gd name="adj2" fmla="val 107173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162920" y="1143000"/>
          <a:ext cx="1676160" cy="113040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V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724280" y="1143000"/>
          <a:ext cx="2057040" cy="1130400"/>
        </p:xfrm>
        <a:graphic>
          <a:graphicData uri="http://schemas.openxmlformats.org/drawingml/2006/table">
            <a:tbl>
              <a:tblPr/>
              <a:tblGrid>
                <a:gridCol w="20570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l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rtamien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90920" y="1143000"/>
          <a:ext cx="1523880" cy="11304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tapa l</a:t>
                      </a:r>
                      <a:r>
                        <a:rPr b="1" lang="es-ES_tradnl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icios y sentimien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ESCALADA DEL CONFLICT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38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gelio</cp:lastModifiedBy>
  <dcterms:modified xsi:type="dcterms:W3CDTF">2009-06-16T09:32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