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0B3D-21EC-4A29-8514-CC63B514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ABB3-A65F-45B8-B3E9-41FBC792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F970-C9AF-4DB4-8D80-9D508A59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070F-7FE1-4827-9756-0C2F1F5C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FEAE-B75E-4B6E-93B4-0D84572F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6851-3E8C-40E6-886A-33442FF7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21E8-3769-44DD-9178-27CC1D96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D071-B5C7-4538-9015-AFEF6776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1ED6-C1D6-4F6F-AC45-1B1D1214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DD66-4397-4FEB-AE92-3402C523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F19D-8DD2-42FE-A71A-C86FA551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890-E8D3-4B1D-8681-E7D8C8C3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BDB6-9E21-4075-9AED-CBAEF6C77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4760" y="549360"/>
            <a:ext cx="713304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s análisis de domin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25400" y="4952880"/>
            <a:ext cx="40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f. Cristián Prado Ball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80880" y="5638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2010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60680" y="764280"/>
            <a:ext cx="58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Funciones del bomb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322360"/>
            <a:ext cx="9144000" cy="25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ntener el comp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guiendo al tamborer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n funciones del bomb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rear el canto del alfé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11640" y="2133720"/>
            <a:ext cx="360360" cy="2555640"/>
          </a:xfrm>
          <a:custGeom>
            <a:avLst/>
            <a:gdLst>
              <a:gd name="textAreaLeft" fmla="*/ 0 w 360360"/>
              <a:gd name="textAreaRight" fmla="*/ 129960 w 360360"/>
              <a:gd name="textAreaTop" fmla="*/ 0 h 2555640"/>
              <a:gd name="textAreaBottom" fmla="*/ 2556000 h 25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99080" y="545400"/>
            <a:ext cx="69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Funciones del portaestand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1912680"/>
            <a:ext cx="903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levar el estanda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durante los salud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procesión y la despedi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n funciones del portaestand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rear el canto del alfé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aludar a la Virgen inclinan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estandarte 3 v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67280" y="1628640"/>
            <a:ext cx="301680" cy="3230640"/>
          </a:xfrm>
          <a:custGeom>
            <a:avLst/>
            <a:gdLst>
              <a:gd name="textAreaLeft" fmla="*/ 0 w 301680"/>
              <a:gd name="textAreaRight" fmla="*/ 108720 w 301680"/>
              <a:gd name="textAreaTop" fmla="*/ 0 h 3230640"/>
              <a:gd name="textAreaBottom" fmla="*/ 3231000 h 323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763"/>
                </a:lnTo>
                <a:cubicBezTo>
                  <a:pt x="10800" y="10763"/>
                  <a:pt x="16200" y="10763"/>
                  <a:pt x="21600" y="10763"/>
                </a:cubicBezTo>
                <a:cubicBezTo>
                  <a:pt x="16200" y="10763"/>
                  <a:pt x="10800" y="10763"/>
                  <a:pt x="10800" y="10763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96400" y="259560"/>
            <a:ext cx="55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Funciones del capit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560" y="1161720"/>
            <a:ext cx="9154080" cy="49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er de agua a los ch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yudar con los preparativos (reunir diner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s cuotas, contratar la movilización, en caso de viaj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cargado de los útiles de algunos chin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n funciones del capit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actividad opc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inea las filas de chinos durante el ba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rear el canto del alférez (actividad opcional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1052640"/>
            <a:ext cx="360360" cy="5040360"/>
          </a:xfrm>
          <a:custGeom>
            <a:avLst/>
            <a:gdLst>
              <a:gd name="textAreaLeft" fmla="*/ 0 w 360360"/>
              <a:gd name="textAreaRight" fmla="*/ 129960 w 360360"/>
              <a:gd name="textAreaTop" fmla="*/ 0 h 5040360"/>
              <a:gd name="textAreaBottom" fmla="*/ 5040720 h 50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040"/>
                </a:lnTo>
                <a:cubicBezTo>
                  <a:pt x="10800" y="11040"/>
                  <a:pt x="16200" y="11040"/>
                  <a:pt x="21600" y="11040"/>
                </a:cubicBezTo>
                <a:cubicBezTo>
                  <a:pt x="16200" y="11040"/>
                  <a:pt x="10800" y="11040"/>
                  <a:pt x="10800" y="1104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81080" y="333000"/>
            <a:ext cx="875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es de la vestimenta de los bailar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incluido el tambor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080" y="1273680"/>
            <a:ext cx="9143280" cy="49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apatillas (usualmente blan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ntalón (puede ser azul con u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anja blanca o amaril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 costado, o café comple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n partes de la vestimenta de los bail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misa o polera blan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polera con el nombre del ba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gorro y el ‘coscacho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83160" y="1341360"/>
            <a:ext cx="384120" cy="4896000"/>
          </a:xfrm>
          <a:custGeom>
            <a:avLst/>
            <a:gdLst>
              <a:gd name="textAreaLeft" fmla="*/ 0 w 384120"/>
              <a:gd name="textAreaRight" fmla="*/ 138600 w 384120"/>
              <a:gd name="textAreaTop" fmla="*/ 0 h 4896000"/>
              <a:gd name="textAreaBottom" fmla="*/ 489636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2917"/>
                </a:lnTo>
                <a:cubicBezTo>
                  <a:pt x="10800" y="12917"/>
                  <a:pt x="16200" y="12917"/>
                  <a:pt x="21600" y="12917"/>
                </a:cubicBezTo>
                <a:cubicBezTo>
                  <a:pt x="16200" y="12917"/>
                  <a:pt x="10800" y="12917"/>
                  <a:pt x="10800" y="12917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0560" y="120240"/>
            <a:ext cx="901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es de los adornos de la vestimenta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bailarines (incluido el tambor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6840" y="2030040"/>
            <a:ext cx="9216360" cy="27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rciado chileno (franjas con u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ínea blanca, otra azul y otra ro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jas (atadas a la cintura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son adornos de la vestimenta de los bail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mpones (para las medi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08360" y="2349360"/>
            <a:ext cx="358920" cy="2374920"/>
          </a:xfrm>
          <a:custGeom>
            <a:avLst/>
            <a:gdLst>
              <a:gd name="textAreaLeft" fmla="*/ 0 w 358920"/>
              <a:gd name="textAreaRight" fmla="*/ 129600 w 358920"/>
              <a:gd name="textAreaTop" fmla="*/ 0 h 2374920"/>
              <a:gd name="textAreaBottom" fmla="*/ 2374920 h 237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5290"/>
                </a:lnTo>
                <a:cubicBezTo>
                  <a:pt x="10800" y="15290"/>
                  <a:pt x="16200" y="15290"/>
                  <a:pt x="21600" y="15290"/>
                </a:cubicBezTo>
                <a:cubicBezTo>
                  <a:pt x="16200" y="15290"/>
                  <a:pt x="10800" y="15290"/>
                  <a:pt x="10800" y="1529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9320" y="259560"/>
            <a:ext cx="76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es de la vestimenta del alfé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160" y="1133280"/>
            <a:ext cx="9111240" cy="44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queta de ves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ntalón de ves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misa (no necesariamente blanca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n partes de la vestimenta del alfér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rro (redon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ndera del ba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67280" y="1197000"/>
            <a:ext cx="457200" cy="4464000"/>
          </a:xfrm>
          <a:custGeom>
            <a:avLst/>
            <a:gdLst>
              <a:gd name="textAreaLeft" fmla="*/ 0 w 457200"/>
              <a:gd name="textAreaRight" fmla="*/ 164880 w 457200"/>
              <a:gd name="textAreaTop" fmla="*/ 0 h 4464000"/>
              <a:gd name="textAreaBottom" fmla="*/ 446436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3273"/>
                </a:lnTo>
                <a:cubicBezTo>
                  <a:pt x="10800" y="13273"/>
                  <a:pt x="16200" y="13273"/>
                  <a:pt x="21600" y="13273"/>
                </a:cubicBezTo>
                <a:cubicBezTo>
                  <a:pt x="16200" y="13273"/>
                  <a:pt x="10800" y="13273"/>
                  <a:pt x="10800" y="13273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56000" y="2924280"/>
            <a:ext cx="493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1440" y="2780280"/>
            <a:ext cx="90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terciado chilen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adorno de la vestimenta del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alfé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08720" y="3068640"/>
            <a:ext cx="64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4280" y="277560"/>
            <a:ext cx="849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es de los adornos de la vestimen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l alfé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46120" y="188280"/>
            <a:ext cx="80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es de la vestimenta del bomb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0800" y="1610640"/>
            <a:ext cx="8928360" cy="37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apatos o zapati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queta de vestir (opc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ntalón de vesti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son partes de la vestimenta del bomb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misa (no necesariamente blan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cacho (conoid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00400" y="1700280"/>
            <a:ext cx="360360" cy="3600360"/>
          </a:xfrm>
          <a:custGeom>
            <a:avLst/>
            <a:gdLst>
              <a:gd name="textAreaLeft" fmla="*/ 0 w 360360"/>
              <a:gd name="textAreaRight" fmla="*/ 129960 w 36036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2324"/>
                </a:lnTo>
                <a:cubicBezTo>
                  <a:pt x="10800" y="12324"/>
                  <a:pt x="16200" y="12324"/>
                  <a:pt x="21600" y="12324"/>
                </a:cubicBezTo>
                <a:cubicBezTo>
                  <a:pt x="16200" y="12324"/>
                  <a:pt x="10800" y="12324"/>
                  <a:pt x="10800" y="12324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484360" y="263700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00760" y="2565360"/>
            <a:ext cx="115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4280" y="250560"/>
            <a:ext cx="849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es de los adornos de la vestimen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l bomb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0" y="2610360"/>
            <a:ext cx="90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terciado chile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adorno de la vestimenta de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bomber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56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29160" y="548640"/>
            <a:ext cx="91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es de la vestimenta del portaestand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280" y="1546200"/>
            <a:ext cx="896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ap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queta de ves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ntalón de ves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n partes de la vestimenta del portaestandarte Cami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no necesariamente blan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cacho (conoid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andart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1413000"/>
            <a:ext cx="487080" cy="3960720"/>
          </a:xfrm>
          <a:custGeom>
            <a:avLst/>
            <a:gdLst>
              <a:gd name="textAreaLeft" fmla="*/ 0 w 487080"/>
              <a:gd name="textAreaRight" fmla="*/ 175680 w 487080"/>
              <a:gd name="textAreaTop" fmla="*/ 0 h 3960720"/>
              <a:gd name="textAreaBottom" fmla="*/ 3960720 h 39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029"/>
                </a:lnTo>
                <a:cubicBezTo>
                  <a:pt x="10800" y="11029"/>
                  <a:pt x="16200" y="11029"/>
                  <a:pt x="21600" y="11029"/>
                </a:cubicBezTo>
                <a:cubicBezTo>
                  <a:pt x="16200" y="11029"/>
                  <a:pt x="10800" y="11029"/>
                  <a:pt x="10800" y="11029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9640" y="18000"/>
            <a:ext cx="39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Etapas del Ba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2320" y="545040"/>
            <a:ext cx="8684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Vestimenta de los chin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Espera de turno para saludar cantando a la Virg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Llegada al altar (bailando y tocando las flauta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Baile frente a la Virgen(con mudanza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Saludo a la Virgen(canta el alférez y los chinos corean)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son etapas    del bai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(Los chinos descansan y dejan de bailar)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ión (recorrido por el pueblo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Retorno al altar (bailando y tocando las flauta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Espera de turno para despedir cantando a la Virge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Despedida de la Virgen(canta el alférez y los chinos corea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Salida del altar (bailando y tocando flauta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2000" y="476280"/>
            <a:ext cx="288720" cy="6105600"/>
          </a:xfrm>
          <a:custGeom>
            <a:avLst/>
            <a:gdLst>
              <a:gd name="textAreaLeft" fmla="*/ 0 w 288720"/>
              <a:gd name="textAreaRight" fmla="*/ 104040 w 288720"/>
              <a:gd name="textAreaTop" fmla="*/ 0 h 6105600"/>
              <a:gd name="textAreaBottom" fmla="*/ 6105960 h 610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9491"/>
                </a:lnTo>
                <a:cubicBezTo>
                  <a:pt x="10800" y="9491"/>
                  <a:pt x="16200" y="9491"/>
                  <a:pt x="21600" y="9491"/>
                </a:cubicBezTo>
                <a:cubicBezTo>
                  <a:pt x="16200" y="9491"/>
                  <a:pt x="10800" y="9491"/>
                  <a:pt x="10800" y="9491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95640" y="32130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16720" y="3141720"/>
            <a:ext cx="73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4280" y="333000"/>
            <a:ext cx="849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es de los adornos de la vestimen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l portaestand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56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7080" y="3206160"/>
            <a:ext cx="91659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El terciado chileno es el adorno de la vestimenta del portaestandarte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490840" y="210240"/>
            <a:ext cx="41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Equipo anex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0600" y="2485800"/>
            <a:ext cx="872136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tand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nder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n tipos d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quipo anex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otellas con a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2732040"/>
            <a:ext cx="504720" cy="2209680"/>
          </a:xfrm>
          <a:custGeom>
            <a:avLst/>
            <a:gdLst>
              <a:gd name="textAreaLeft" fmla="*/ 0 w 504720"/>
              <a:gd name="textAreaRight" fmla="*/ 182160 w 50472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2445"/>
                </a:lnTo>
                <a:cubicBezTo>
                  <a:pt x="10800" y="12445"/>
                  <a:pt x="16200" y="12445"/>
                  <a:pt x="21600" y="12445"/>
                </a:cubicBezTo>
                <a:cubicBezTo>
                  <a:pt x="16200" y="12445"/>
                  <a:pt x="10800" y="12445"/>
                  <a:pt x="10800" y="1244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20280" y="403920"/>
            <a:ext cx="78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Tipos de funciones de los domin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680" y="3109680"/>
            <a:ext cx="917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unciones devo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n tipos d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unciones de los domin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unciones no devo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5280" y="3141720"/>
            <a:ext cx="312840" cy="1131840"/>
          </a:xfrm>
          <a:custGeom>
            <a:avLst/>
            <a:gdLst>
              <a:gd name="textAreaLeft" fmla="*/ 0 w 312840"/>
              <a:gd name="textAreaRight" fmla="*/ 113040 w 3128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3754"/>
                </a:lnTo>
                <a:cubicBezTo>
                  <a:pt x="10800" y="13754"/>
                  <a:pt x="16200" y="13754"/>
                  <a:pt x="21600" y="13754"/>
                </a:cubicBezTo>
                <a:cubicBezTo>
                  <a:pt x="16200" y="13754"/>
                  <a:pt x="10800" y="13754"/>
                  <a:pt x="10800" y="13754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03960" y="316800"/>
            <a:ext cx="74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Subetapas del Saludo a la Vir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9960" y="1552680"/>
            <a:ext cx="9181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tención del baile frente a la Vir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nto del alfér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ro de los chin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in del cant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n subetapas de el saludo a la Vir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alida de los chinos bailan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 tocando la fla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52960" y="1628640"/>
            <a:ext cx="419040" cy="4032360"/>
          </a:xfrm>
          <a:custGeom>
            <a:avLst/>
            <a:gdLst>
              <a:gd name="textAreaLeft" fmla="*/ 0 w 419040"/>
              <a:gd name="textAreaRight" fmla="*/ 151200 w 419040"/>
              <a:gd name="textAreaTop" fmla="*/ 0 h 4032360"/>
              <a:gd name="textAreaBottom" fmla="*/ 4032720 h 403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829"/>
                </a:lnTo>
                <a:cubicBezTo>
                  <a:pt x="10800" y="11829"/>
                  <a:pt x="16200" y="11829"/>
                  <a:pt x="21600" y="11829"/>
                </a:cubicBezTo>
                <a:cubicBezTo>
                  <a:pt x="16200" y="11829"/>
                  <a:pt x="10800" y="11829"/>
                  <a:pt x="10800" y="11829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76480" y="3326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Subetapas de la Proc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59920"/>
            <a:ext cx="914400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denamiento de los ba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mino hacia el Calv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n subetapas de la proc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legada y estadía en el Calv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mino hacia el al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1268280"/>
            <a:ext cx="387360" cy="3468960"/>
          </a:xfrm>
          <a:custGeom>
            <a:avLst/>
            <a:gdLst>
              <a:gd name="textAreaLeft" fmla="*/ 0 w 387360"/>
              <a:gd name="textAreaRight" fmla="*/ 139680 w 387360"/>
              <a:gd name="textAreaTop" fmla="*/ 0 h 3468960"/>
              <a:gd name="textAreaBottom" fmla="*/ 3469320 h 346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765"/>
                </a:lnTo>
                <a:cubicBezTo>
                  <a:pt x="10800" y="10765"/>
                  <a:pt x="16200" y="10765"/>
                  <a:pt x="21600" y="10765"/>
                </a:cubicBezTo>
                <a:cubicBezTo>
                  <a:pt x="16200" y="10765"/>
                  <a:pt x="10800" y="10765"/>
                  <a:pt x="10800" y="1076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9960" y="245520"/>
            <a:ext cx="85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Subetapas de la Despedida de la Vir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4680" y="945360"/>
            <a:ext cx="8974080" cy="57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rada de los Chinos al alt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tocando flautas y bailan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nción del ba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nto del alfér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n subetapas de la despedida de la Vir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ro de los chi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nto de la “Mansión Celesti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ro de los Chi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1125360"/>
            <a:ext cx="343080" cy="5588280"/>
          </a:xfrm>
          <a:custGeom>
            <a:avLst/>
            <a:gdLst>
              <a:gd name="textAreaLeft" fmla="*/ 0 w 343080"/>
              <a:gd name="textAreaRight" fmla="*/ 123840 w 343080"/>
              <a:gd name="textAreaTop" fmla="*/ 0 h 5588280"/>
              <a:gd name="textAreaBottom" fmla="*/ 5588640 h 558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892"/>
                </a:lnTo>
                <a:cubicBezTo>
                  <a:pt x="10800" y="11892"/>
                  <a:pt x="16200" y="11892"/>
                  <a:pt x="21600" y="11892"/>
                </a:cubicBezTo>
                <a:cubicBezTo>
                  <a:pt x="16200" y="11892"/>
                  <a:pt x="10800" y="11892"/>
                  <a:pt x="10800" y="11892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83800" y="259560"/>
            <a:ext cx="557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icipantes del ba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6680" y="757800"/>
            <a:ext cx="8611560" cy="57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fé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ailarín / Flaut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mbor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n tipos d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ntes del ba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mber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rtaestand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pit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836640"/>
            <a:ext cx="432000" cy="5688000"/>
          </a:xfrm>
          <a:custGeom>
            <a:avLst/>
            <a:gdLst>
              <a:gd name="textAreaLeft" fmla="*/ 0 w 432000"/>
              <a:gd name="textAreaRight" fmla="*/ 155880 w 432000"/>
              <a:gd name="textAreaTop" fmla="*/ 0 h 5688000"/>
              <a:gd name="textAreaBottom" fmla="*/ 5688360 h 568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044"/>
                </a:lnTo>
                <a:cubicBezTo>
                  <a:pt x="10800" y="11044"/>
                  <a:pt x="16200" y="11044"/>
                  <a:pt x="21600" y="11044"/>
                </a:cubicBezTo>
                <a:cubicBezTo>
                  <a:pt x="16200" y="11044"/>
                  <a:pt x="10800" y="11044"/>
                  <a:pt x="10800" y="11044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40680" y="210240"/>
            <a:ext cx="54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Funciones del alfé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" y="599760"/>
            <a:ext cx="910368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uiar el baile (dar instrucciones de término e inicio del ba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ntar (el saludo y la despedida a la Vir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tar la bandera del ba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inear las filas de chinos flauter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n funciones del alfé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tener la distancia entre los chinos flaute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ejar la velocidad de avance de los ch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lamar al orden a chinos que se sepa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autorizadamente del baile o que se van a ‘pilsear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00920" y="765000"/>
            <a:ext cx="342720" cy="5472360"/>
          </a:xfrm>
          <a:custGeom>
            <a:avLst/>
            <a:gdLst>
              <a:gd name="textAreaLeft" fmla="*/ 0 w 342720"/>
              <a:gd name="textAreaRight" fmla="*/ 123840 w 342720"/>
              <a:gd name="textAreaTop" fmla="*/ 0 h 5472360"/>
              <a:gd name="textAreaBottom" fmla="*/ 547236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9525"/>
                </a:lnTo>
                <a:cubicBezTo>
                  <a:pt x="10800" y="9525"/>
                  <a:pt x="16200" y="9525"/>
                  <a:pt x="21600" y="9525"/>
                </a:cubicBezTo>
                <a:cubicBezTo>
                  <a:pt x="16200" y="9525"/>
                  <a:pt x="10800" y="9525"/>
                  <a:pt x="10800" y="952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3240" y="281880"/>
            <a:ext cx="82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Funciones del chino bailarín / flau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10800" y="1833120"/>
            <a:ext cx="924228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85000"/>
              </a:lnSpc>
              <a:spcBef>
                <a:spcPts val="20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Bai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5000"/>
              </a:lnSpc>
              <a:spcBef>
                <a:spcPts val="20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Tocar la flauta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son funciones del chino bailarín / flauter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5000"/>
              </a:lnSpc>
              <a:spcBef>
                <a:spcPts val="20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Corear (el canto del alférez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64000" y="1989000"/>
            <a:ext cx="216000" cy="2421000"/>
          </a:xfrm>
          <a:custGeom>
            <a:avLst/>
            <a:gdLst>
              <a:gd name="textAreaLeft" fmla="*/ 0 w 216000"/>
              <a:gd name="textAreaRight" fmla="*/ 78120 w 216000"/>
              <a:gd name="textAreaTop" fmla="*/ 0 h 2421000"/>
              <a:gd name="textAreaBottom" fmla="*/ 2421360 h 242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408"/>
                </a:lnTo>
                <a:cubicBezTo>
                  <a:pt x="10800" y="11408"/>
                  <a:pt x="16200" y="11408"/>
                  <a:pt x="21600" y="11408"/>
                </a:cubicBezTo>
                <a:cubicBezTo>
                  <a:pt x="16200" y="11408"/>
                  <a:pt x="10800" y="11408"/>
                  <a:pt x="10800" y="11408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52480" y="-27720"/>
            <a:ext cx="56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Funciones del tambor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3800" y="411480"/>
            <a:ext cx="828072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irigir las mudanzas del ba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ocar el tambor chic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ai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rear el canto del alfére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on funciones del tambor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levar el compás del bai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dicar a los chinos flauter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deben tocar 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detene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lineamiento de las fil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 chinos flaute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antener la distancia ent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os chinos flaute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56000" y="476280"/>
            <a:ext cx="216000" cy="6192720"/>
          </a:xfrm>
          <a:custGeom>
            <a:avLst/>
            <a:gdLst>
              <a:gd name="textAreaLeft" fmla="*/ 0 w 216000"/>
              <a:gd name="textAreaRight" fmla="*/ 78120 w 216000"/>
              <a:gd name="textAreaTop" fmla="*/ 0 h 6192720"/>
              <a:gd name="textAreaBottom" fmla="*/ 6193080 h 619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9374"/>
                </a:lnTo>
                <a:cubicBezTo>
                  <a:pt x="10800" y="9374"/>
                  <a:pt x="16200" y="9374"/>
                  <a:pt x="21600" y="9374"/>
                </a:cubicBezTo>
                <a:cubicBezTo>
                  <a:pt x="16200" y="9374"/>
                  <a:pt x="10800" y="9374"/>
                  <a:pt x="10800" y="9374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22:54:06Z</dcterms:created>
  <dc:creator>Cristián</dc:creator>
  <dc:description/>
  <dc:language>en-US</dc:language>
  <cp:lastModifiedBy>Cristián</cp:lastModifiedBy>
  <dcterms:modified xsi:type="dcterms:W3CDTF">2010-04-15T01:00:49Z</dcterms:modified>
  <cp:revision>3</cp:revision>
  <dc:subject/>
  <dc:title>Diapositiva 1</dc:title>
</cp:coreProperties>
</file>