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461A-AA8E-49D0-BDB0-0657A2F7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D37-42B9-49FE-B450-E2883FB9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2BD-9D69-4271-8175-10DFAEB0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C49-B550-4D1F-8820-35D5E8EC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424-1592-4059-87AA-54D56BD3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66D-5949-4072-BE81-97954296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225-B330-4DEC-9C91-82A67F59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190-E6C7-4E69-947E-CC605499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62D-5E93-4219-B7C5-832417BB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EC5-B17E-4D3B-A7EF-1675FC62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F1C-8A21-4067-A400-D594E47D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798-2270-4A80-AD16-13CAA2E2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B4FB-D20D-49C6-95EC-390918D39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4760" y="549360"/>
            <a:ext cx="713304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 análisis de domi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5400" y="495288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f. Cristián Prado Ball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80880" y="5638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2010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60680" y="764280"/>
            <a:ext cx="58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bom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322360"/>
            <a:ext cx="9144000" cy="25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ntener el comp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guiendo al tamborer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bom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el canto del alfé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1640" y="2133720"/>
            <a:ext cx="360360" cy="2555640"/>
          </a:xfrm>
          <a:custGeom>
            <a:avLst/>
            <a:gdLst>
              <a:gd name="textAreaLeft" fmla="*/ 0 w 360360"/>
              <a:gd name="textAreaRight" fmla="*/ 129960 w 360360"/>
              <a:gd name="textAreaTop" fmla="*/ 0 h 2555640"/>
              <a:gd name="textAreaBottom" fmla="*/ 2556000 h 25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99080" y="545400"/>
            <a:ext cx="69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portaestand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1912680"/>
            <a:ext cx="90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levar el estanda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urante los salu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procesión y la desped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portaestand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el canto del alf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ludar a la Virgen inclina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estandarte 3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67280" y="1628640"/>
            <a:ext cx="301680" cy="3230640"/>
          </a:xfrm>
          <a:custGeom>
            <a:avLst/>
            <a:gdLst>
              <a:gd name="textAreaLeft" fmla="*/ 0 w 301680"/>
              <a:gd name="textAreaRight" fmla="*/ 108720 w 30168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763"/>
                </a:lnTo>
                <a:cubicBezTo>
                  <a:pt x="10800" y="10763"/>
                  <a:pt x="16200" y="10763"/>
                  <a:pt x="21600" y="10763"/>
                </a:cubicBezTo>
                <a:cubicBezTo>
                  <a:pt x="16200" y="10763"/>
                  <a:pt x="10800" y="10763"/>
                  <a:pt x="10800" y="10763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6400" y="259560"/>
            <a:ext cx="55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capit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560" y="1161720"/>
            <a:ext cx="9154080" cy="49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er de agua a los ch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yudar con los preparativos (reunir diner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s cuotas, contratar la movilización, en caso de viaj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cargado de los útiles de algunos chin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capi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ctividad opc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inea las filas de chinos durante el ba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el canto del alférez (actividad opcional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1052640"/>
            <a:ext cx="360360" cy="5040360"/>
          </a:xfrm>
          <a:custGeom>
            <a:avLst/>
            <a:gdLst>
              <a:gd name="textAreaLeft" fmla="*/ 0 w 360360"/>
              <a:gd name="textAreaRight" fmla="*/ 129960 w 360360"/>
              <a:gd name="textAreaTop" fmla="*/ 0 h 5040360"/>
              <a:gd name="textAreaBottom" fmla="*/ 5040720 h 50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040"/>
                </a:lnTo>
                <a:cubicBezTo>
                  <a:pt x="10800" y="11040"/>
                  <a:pt x="16200" y="11040"/>
                  <a:pt x="21600" y="11040"/>
                </a:cubicBezTo>
                <a:cubicBezTo>
                  <a:pt x="16200" y="11040"/>
                  <a:pt x="10800" y="11040"/>
                  <a:pt x="10800" y="1104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1080" y="333000"/>
            <a:ext cx="875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a vestimenta de los bailar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incluido el tambor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080" y="1273680"/>
            <a:ext cx="91432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patillas (usualmente blan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alón (puede ser azul con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anja blanca o amari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costado, o café compl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partes de la vestimenta de los bail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isa o polera blan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polera con el nombre del ba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gorro y el ‘coscach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83160" y="1341360"/>
            <a:ext cx="384120" cy="4896000"/>
          </a:xfrm>
          <a:custGeom>
            <a:avLst/>
            <a:gdLst>
              <a:gd name="textAreaLeft" fmla="*/ 0 w 384120"/>
              <a:gd name="textAreaRight" fmla="*/ 138600 w 384120"/>
              <a:gd name="textAreaTop" fmla="*/ 0 h 4896000"/>
              <a:gd name="textAreaBottom" fmla="*/ 489636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2917"/>
                </a:lnTo>
                <a:cubicBezTo>
                  <a:pt x="10800" y="12917"/>
                  <a:pt x="16200" y="12917"/>
                  <a:pt x="21600" y="12917"/>
                </a:cubicBezTo>
                <a:cubicBezTo>
                  <a:pt x="16200" y="12917"/>
                  <a:pt x="10800" y="12917"/>
                  <a:pt x="10800" y="12917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0560" y="120240"/>
            <a:ext cx="90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os adornos de la vestimenta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bailarines (incluido el tambor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6840" y="2030040"/>
            <a:ext cx="921636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rciado chileno (franjas con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ínea blanca, otra azul y otra ro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jas (atadas a la cintur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son adornos de la vestimenta de los bail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mpones (para las medi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08360" y="2349360"/>
            <a:ext cx="358920" cy="2374920"/>
          </a:xfrm>
          <a:custGeom>
            <a:avLst/>
            <a:gdLst>
              <a:gd name="textAreaLeft" fmla="*/ 0 w 358920"/>
              <a:gd name="textAreaRight" fmla="*/ 129600 w 358920"/>
              <a:gd name="textAreaTop" fmla="*/ 0 h 2374920"/>
              <a:gd name="textAreaBottom" fmla="*/ 2374920 h 23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5290"/>
                </a:lnTo>
                <a:cubicBezTo>
                  <a:pt x="10800" y="15290"/>
                  <a:pt x="16200" y="15290"/>
                  <a:pt x="21600" y="15290"/>
                </a:cubicBezTo>
                <a:cubicBezTo>
                  <a:pt x="16200" y="15290"/>
                  <a:pt x="10800" y="15290"/>
                  <a:pt x="10800" y="1529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9320" y="259560"/>
            <a:ext cx="76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a vestimenta del alfé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0" y="1133280"/>
            <a:ext cx="9111240" cy="44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queta de ve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alón de ve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isa (no necesariamente blanca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partes de la vestimenta del alfé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rro (redon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ndera del ba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1197000"/>
            <a:ext cx="457200" cy="4464000"/>
          </a:xfrm>
          <a:custGeom>
            <a:avLst/>
            <a:gdLst>
              <a:gd name="textAreaLeft" fmla="*/ 0 w 457200"/>
              <a:gd name="textAreaRight" fmla="*/ 164880 w 457200"/>
              <a:gd name="textAreaTop" fmla="*/ 0 h 4464000"/>
              <a:gd name="textAreaBottom" fmla="*/ 446436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3273"/>
                </a:lnTo>
                <a:cubicBezTo>
                  <a:pt x="10800" y="13273"/>
                  <a:pt x="16200" y="13273"/>
                  <a:pt x="21600" y="13273"/>
                </a:cubicBezTo>
                <a:cubicBezTo>
                  <a:pt x="16200" y="13273"/>
                  <a:pt x="10800" y="13273"/>
                  <a:pt x="10800" y="13273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56000" y="292428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440" y="2780280"/>
            <a:ext cx="90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terciado chilen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adorno de la vestimenta del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alf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08720" y="306864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4280" y="277560"/>
            <a:ext cx="84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os adornos de la vestim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 alfé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46120" y="188280"/>
            <a:ext cx="80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a vestimenta del bom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800" y="1610640"/>
            <a:ext cx="892836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patos o zapati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queta de vestir (op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alón de vesti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son partes de la vestimenta del bomb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isa (no necesariamente blan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cacho (conoid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00400" y="1700280"/>
            <a:ext cx="360360" cy="3600360"/>
          </a:xfrm>
          <a:custGeom>
            <a:avLst/>
            <a:gdLst>
              <a:gd name="textAreaLeft" fmla="*/ 0 w 360360"/>
              <a:gd name="textAreaRight" fmla="*/ 129960 w 36036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2324"/>
                </a:lnTo>
                <a:cubicBezTo>
                  <a:pt x="10800" y="12324"/>
                  <a:pt x="16200" y="12324"/>
                  <a:pt x="21600" y="12324"/>
                </a:cubicBezTo>
                <a:cubicBezTo>
                  <a:pt x="16200" y="12324"/>
                  <a:pt x="10800" y="12324"/>
                  <a:pt x="10800" y="1232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84360" y="26370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00760" y="256536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4280" y="250560"/>
            <a:ext cx="84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os adornos de la vestim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 bomb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0" y="2610360"/>
            <a:ext cx="90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terciado chil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adorno de la vestimenta de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bomber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29160" y="548640"/>
            <a:ext cx="91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a vestimenta del portaestand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280" y="1546200"/>
            <a:ext cx="896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p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queta de ve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ntalón de ve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partes de la vestimenta del portaestandarte Cami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no necesariamente blan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cacho (conoid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ndar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1413000"/>
            <a:ext cx="487080" cy="3960720"/>
          </a:xfrm>
          <a:custGeom>
            <a:avLst/>
            <a:gdLst>
              <a:gd name="textAreaLeft" fmla="*/ 0 w 487080"/>
              <a:gd name="textAreaRight" fmla="*/ 175680 w 487080"/>
              <a:gd name="textAreaTop" fmla="*/ 0 h 3960720"/>
              <a:gd name="textAreaBottom" fmla="*/ 396072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029"/>
                </a:lnTo>
                <a:cubicBezTo>
                  <a:pt x="10800" y="11029"/>
                  <a:pt x="16200" y="11029"/>
                  <a:pt x="21600" y="11029"/>
                </a:cubicBezTo>
                <a:cubicBezTo>
                  <a:pt x="16200" y="11029"/>
                  <a:pt x="10800" y="11029"/>
                  <a:pt x="10800" y="1102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9640" y="18000"/>
            <a:ext cx="39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Etapas del Ba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2320" y="545040"/>
            <a:ext cx="8684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Vestimenta de los chin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spera de turno para saludar cantando a la Vir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Llegada al altar (bailando y tocando las flaut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Baile frente a la Virgen(con mudanz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aludo a la Virgen(canta el alférez y los chinos corean)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on etapas    del bai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Los chinos descansan y dejan de bailar)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ión (recorrido por el pueblo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Retorno al altar (bailando y tocando las flaut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spera de turno para despedir cantando a la Virg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espedida de la Virgen(canta el alférez y los chinos corea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alida del altar (bailando y tocando flaut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476280"/>
            <a:ext cx="288720" cy="6105600"/>
          </a:xfrm>
          <a:custGeom>
            <a:avLst/>
            <a:gdLst>
              <a:gd name="textAreaLeft" fmla="*/ 0 w 288720"/>
              <a:gd name="textAreaRight" fmla="*/ 104040 w 288720"/>
              <a:gd name="textAreaTop" fmla="*/ 0 h 6105600"/>
              <a:gd name="textAreaBottom" fmla="*/ 6105960 h 610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9491"/>
                </a:lnTo>
                <a:cubicBezTo>
                  <a:pt x="10800" y="9491"/>
                  <a:pt x="16200" y="9491"/>
                  <a:pt x="21600" y="9491"/>
                </a:cubicBezTo>
                <a:cubicBezTo>
                  <a:pt x="16200" y="9491"/>
                  <a:pt x="10800" y="9491"/>
                  <a:pt x="10800" y="9491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95640" y="32130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141720"/>
            <a:ext cx="73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4280" y="333000"/>
            <a:ext cx="84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es de los adornos de la vestim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l portaestand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5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7080" y="3206160"/>
            <a:ext cx="9165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El terciado chileno es el adorno de la vestimenta del portaestandarte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90840" y="210240"/>
            <a:ext cx="41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Equipo ane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0600" y="2485800"/>
            <a:ext cx="872136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and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nd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n tipos d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quipo ane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otellas con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2732040"/>
            <a:ext cx="504720" cy="2209680"/>
          </a:xfrm>
          <a:custGeom>
            <a:avLst/>
            <a:gdLst>
              <a:gd name="textAreaLeft" fmla="*/ 0 w 504720"/>
              <a:gd name="textAreaRight" fmla="*/ 182160 w 50472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2445"/>
                </a:lnTo>
                <a:cubicBezTo>
                  <a:pt x="10800" y="12445"/>
                  <a:pt x="16200" y="12445"/>
                  <a:pt x="21600" y="12445"/>
                </a:cubicBezTo>
                <a:cubicBezTo>
                  <a:pt x="16200" y="12445"/>
                  <a:pt x="10800" y="12445"/>
                  <a:pt x="10800" y="1244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20280" y="403920"/>
            <a:ext cx="78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Tipos de funciones de los domi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80" y="3109680"/>
            <a:ext cx="917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 devo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tipos 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 de los domi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 no devo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3141720"/>
            <a:ext cx="312840" cy="1131840"/>
          </a:xfrm>
          <a:custGeom>
            <a:avLst/>
            <a:gdLst>
              <a:gd name="textAreaLeft" fmla="*/ 0 w 312840"/>
              <a:gd name="textAreaRight" fmla="*/ 113040 w 3128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3754"/>
                </a:lnTo>
                <a:cubicBezTo>
                  <a:pt x="10800" y="13754"/>
                  <a:pt x="16200" y="13754"/>
                  <a:pt x="21600" y="13754"/>
                </a:cubicBezTo>
                <a:cubicBezTo>
                  <a:pt x="16200" y="13754"/>
                  <a:pt x="10800" y="13754"/>
                  <a:pt x="10800" y="1375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3960" y="316800"/>
            <a:ext cx="74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Subetapas del Saludo a la Vir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9960" y="1552680"/>
            <a:ext cx="918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tención del baile frente a la Vir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to del alfé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o de los chi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n del cant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subetapas de el saludo a la Vir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lida de los chinos bail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 tocando la fla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52960" y="1628640"/>
            <a:ext cx="419040" cy="4032360"/>
          </a:xfrm>
          <a:custGeom>
            <a:avLst/>
            <a:gdLst>
              <a:gd name="textAreaLeft" fmla="*/ 0 w 419040"/>
              <a:gd name="textAreaRight" fmla="*/ 151200 w 419040"/>
              <a:gd name="textAreaTop" fmla="*/ 0 h 4032360"/>
              <a:gd name="textAreaBottom" fmla="*/ 403272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829"/>
                </a:lnTo>
                <a:cubicBezTo>
                  <a:pt x="10800" y="11829"/>
                  <a:pt x="16200" y="11829"/>
                  <a:pt x="21600" y="11829"/>
                </a:cubicBezTo>
                <a:cubicBezTo>
                  <a:pt x="16200" y="11829"/>
                  <a:pt x="10800" y="11829"/>
                  <a:pt x="10800" y="1182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76480" y="332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Subetapas de la Proc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59920"/>
            <a:ext cx="91440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denamiento de los ba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mino hacia el Calv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subetapas de la proc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legada y estadía en el Calv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mino hacia el al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1268280"/>
            <a:ext cx="387360" cy="3468960"/>
          </a:xfrm>
          <a:custGeom>
            <a:avLst/>
            <a:gdLst>
              <a:gd name="textAreaLeft" fmla="*/ 0 w 387360"/>
              <a:gd name="textAreaRight" fmla="*/ 139680 w 387360"/>
              <a:gd name="textAreaTop" fmla="*/ 0 h 3468960"/>
              <a:gd name="textAreaBottom" fmla="*/ 3469320 h 346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765"/>
                </a:lnTo>
                <a:cubicBezTo>
                  <a:pt x="10800" y="10765"/>
                  <a:pt x="16200" y="10765"/>
                  <a:pt x="21600" y="10765"/>
                </a:cubicBezTo>
                <a:cubicBezTo>
                  <a:pt x="16200" y="10765"/>
                  <a:pt x="10800" y="10765"/>
                  <a:pt x="10800" y="1076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9960" y="245520"/>
            <a:ext cx="85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Subetapas de la Despedida de la Vir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4680" y="945360"/>
            <a:ext cx="897408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rada de los Chinos al alt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tocando flautas y bailan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nción del ba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to del alfé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subetapas de la despedida de la Vir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o de los ch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to de la “Mansión Celesti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o de los Ch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1125360"/>
            <a:ext cx="343080" cy="5588280"/>
          </a:xfrm>
          <a:custGeom>
            <a:avLst/>
            <a:gdLst>
              <a:gd name="textAreaLeft" fmla="*/ 0 w 343080"/>
              <a:gd name="textAreaRight" fmla="*/ 123840 w 343080"/>
              <a:gd name="textAreaTop" fmla="*/ 0 h 5588280"/>
              <a:gd name="textAreaBottom" fmla="*/ 5588640 h 558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892"/>
                </a:lnTo>
                <a:cubicBezTo>
                  <a:pt x="10800" y="11892"/>
                  <a:pt x="16200" y="11892"/>
                  <a:pt x="21600" y="11892"/>
                </a:cubicBezTo>
                <a:cubicBezTo>
                  <a:pt x="16200" y="11892"/>
                  <a:pt x="10800" y="11892"/>
                  <a:pt x="10800" y="11892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83800" y="259560"/>
            <a:ext cx="557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Participantes del ba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6680" y="757800"/>
            <a:ext cx="8611560" cy="57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f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ilarín / Flau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bo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n tipos 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ntes del ba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mber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taestand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pi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836640"/>
            <a:ext cx="432000" cy="5688000"/>
          </a:xfrm>
          <a:custGeom>
            <a:avLst/>
            <a:gdLst>
              <a:gd name="textAreaLeft" fmla="*/ 0 w 432000"/>
              <a:gd name="textAreaRight" fmla="*/ 155880 w 432000"/>
              <a:gd name="textAreaTop" fmla="*/ 0 h 5688000"/>
              <a:gd name="textAreaBottom" fmla="*/ 5688360 h 56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044"/>
                </a:lnTo>
                <a:cubicBezTo>
                  <a:pt x="10800" y="11044"/>
                  <a:pt x="16200" y="11044"/>
                  <a:pt x="21600" y="11044"/>
                </a:cubicBezTo>
                <a:cubicBezTo>
                  <a:pt x="16200" y="11044"/>
                  <a:pt x="10800" y="11044"/>
                  <a:pt x="10800" y="1104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40680" y="210240"/>
            <a:ext cx="54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alfé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" y="599760"/>
            <a:ext cx="910368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uiar el baile (dar instrucciones de término e inicio del ba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tar (el saludo y la despedida a la Vir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ar la bandera del ba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inear las filas de chinos flaute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alf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tener la distancia entre los chinos flaute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ejar la velocidad de avance de los ch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lamar al orden a chinos que se sepa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spcBef>
                <a:spcPts val="1800"/>
              </a:spcBef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autorizadamente del baile o que se van a ‘pilsear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00920" y="765000"/>
            <a:ext cx="342720" cy="5472360"/>
          </a:xfrm>
          <a:custGeom>
            <a:avLst/>
            <a:gdLst>
              <a:gd name="textAreaLeft" fmla="*/ 0 w 342720"/>
              <a:gd name="textAreaRight" fmla="*/ 123840 w 342720"/>
              <a:gd name="textAreaTop" fmla="*/ 0 h 5472360"/>
              <a:gd name="textAreaBottom" fmla="*/ 547236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9525"/>
                </a:lnTo>
                <a:cubicBezTo>
                  <a:pt x="10800" y="9525"/>
                  <a:pt x="16200" y="9525"/>
                  <a:pt x="21600" y="9525"/>
                </a:cubicBezTo>
                <a:cubicBezTo>
                  <a:pt x="16200" y="9525"/>
                  <a:pt x="10800" y="9525"/>
                  <a:pt x="10800" y="952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3240" y="281880"/>
            <a:ext cx="82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chino bailarín / flau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10800" y="1833120"/>
            <a:ext cx="924228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85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Bail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5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Tocar la flauta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son funciones del chino bailarín / flauter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5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(el canto del alfére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1989000"/>
            <a:ext cx="216000" cy="2421000"/>
          </a:xfrm>
          <a:custGeom>
            <a:avLst/>
            <a:gdLst>
              <a:gd name="textAreaLeft" fmla="*/ 0 w 216000"/>
              <a:gd name="textAreaRight" fmla="*/ 78120 w 216000"/>
              <a:gd name="textAreaTop" fmla="*/ 0 h 2421000"/>
              <a:gd name="textAreaBottom" fmla="*/ 2421360 h 242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1408"/>
                </a:lnTo>
                <a:cubicBezTo>
                  <a:pt x="10800" y="11408"/>
                  <a:pt x="16200" y="11408"/>
                  <a:pt x="21600" y="11408"/>
                </a:cubicBezTo>
                <a:cubicBezTo>
                  <a:pt x="16200" y="11408"/>
                  <a:pt x="10800" y="11408"/>
                  <a:pt x="10800" y="11408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52480" y="-27720"/>
            <a:ext cx="56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minio: Funciones del tambor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3800" y="411480"/>
            <a:ext cx="8280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rigir las mudanzas del ba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car el tambor chic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a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rear el canto del alfér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n funciones del tambor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levar el compás del ba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dicar a los chinos flauter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deben tocar 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detene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lineamiento de las fil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 chinos flaut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ntener la distancia ent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os chinos flaut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476280"/>
            <a:ext cx="216000" cy="6192720"/>
          </a:xfrm>
          <a:custGeom>
            <a:avLst/>
            <a:gdLst>
              <a:gd name="textAreaLeft" fmla="*/ 0 w 216000"/>
              <a:gd name="textAreaRight" fmla="*/ 78120 w 216000"/>
              <a:gd name="textAreaTop" fmla="*/ 0 h 6192720"/>
              <a:gd name="textAreaBottom" fmla="*/ 6193080 h 61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9374"/>
                </a:lnTo>
                <a:cubicBezTo>
                  <a:pt x="10800" y="9374"/>
                  <a:pt x="16200" y="9374"/>
                  <a:pt x="21600" y="9374"/>
                </a:cubicBezTo>
                <a:cubicBezTo>
                  <a:pt x="16200" y="9374"/>
                  <a:pt x="10800" y="9374"/>
                  <a:pt x="10800" y="9374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22:54:06Z</dcterms:created>
  <dc:creator>Cristián</dc:creator>
  <dc:description/>
  <dc:language>en-US</dc:language>
  <cp:lastModifiedBy>Cristián</cp:lastModifiedBy>
  <dcterms:modified xsi:type="dcterms:W3CDTF">2010-04-15T01:00:49Z</dcterms:modified>
  <cp:revision>3</cp:revision>
  <dc:subject/>
  <dc:title>Diapositiva 1</dc:title>
</cp:coreProperties>
</file>