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F17-C1AA-4A11-A96F-DE3B5129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2DB-8391-49B6-868B-319121F4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5C0-CFA1-4852-B4C2-B1C4680D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FD6-4904-46B0-9E19-B979F68C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001-60F3-4D4C-9E90-99A8B247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AB0-0C02-4560-81C6-87A11E22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6EB-11C8-4ECC-97FF-CDE43D8D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F79-6DC6-4C83-8F7C-5AF6333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689-6233-456E-B1A7-6A45F1B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4C8-40AA-4161-B5C9-DA92E35D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A19-19BD-4954-8E4B-2D080B23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5AC-12F1-46FE-85E0-E0B7BB6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C9C-74B6-4DF1-A2D4-B1104BA12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4760" y="549360"/>
            <a:ext cx="71330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 análisis de domi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5400" y="495288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f. Cristián Prado Ball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80880" y="5638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2010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60680" y="76428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22360"/>
            <a:ext cx="914400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tener el comp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guiendo al tamborer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2133720"/>
            <a:ext cx="360360" cy="2555640"/>
          </a:xfrm>
          <a:custGeom>
            <a:avLst/>
            <a:gdLst>
              <a:gd name="textAreaLeft" fmla="*/ 0 w 360360"/>
              <a:gd name="textAreaRight" fmla="*/ 129960 w 360360"/>
              <a:gd name="textAreaTop" fmla="*/ 0 h 2555640"/>
              <a:gd name="textAreaBottom" fmla="*/ 2556000 h 25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99080" y="54540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1912680"/>
            <a:ext cx="90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estand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urante los salu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procesión y la desped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portaestand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ludar a la Virgen inclin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estandarte 3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1628640"/>
            <a:ext cx="301680" cy="3230640"/>
          </a:xfrm>
          <a:custGeom>
            <a:avLst/>
            <a:gdLst>
              <a:gd name="textAreaLeft" fmla="*/ 0 w 301680"/>
              <a:gd name="textAreaRight" fmla="*/ 108720 w 30168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63"/>
                </a:lnTo>
                <a:cubicBezTo>
                  <a:pt x="10800" y="10763"/>
                  <a:pt x="16200" y="10763"/>
                  <a:pt x="21600" y="10763"/>
                </a:cubicBezTo>
                <a:cubicBezTo>
                  <a:pt x="16200" y="10763"/>
                  <a:pt x="10800" y="10763"/>
                  <a:pt x="10800" y="1076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6400" y="2595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capi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0" y="1161720"/>
            <a:ext cx="91540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er de agua a los ch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yudar con los preparativos (reunir dine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otas, contratar la movilización, en caso de viaj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cargado de los útiles de algunos ch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capi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ctividad op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 las filas de chinos durante el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 (actividad opcional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1052640"/>
            <a:ext cx="360360" cy="5040360"/>
          </a:xfrm>
          <a:custGeom>
            <a:avLst/>
            <a:gdLst>
              <a:gd name="textAreaLeft" fmla="*/ 0 w 360360"/>
              <a:gd name="textAreaRight" fmla="*/ 129960 w 36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40"/>
                </a:lnTo>
                <a:cubicBezTo>
                  <a:pt x="10800" y="11040"/>
                  <a:pt x="16200" y="11040"/>
                  <a:pt x="21600" y="11040"/>
                </a:cubicBezTo>
                <a:cubicBezTo>
                  <a:pt x="16200" y="11040"/>
                  <a:pt x="10800" y="11040"/>
                  <a:pt x="10800" y="1104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1080" y="333000"/>
            <a:ext cx="875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 los bailar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incluido el tambo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080" y="1273680"/>
            <a:ext cx="91432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illas (usualmente blan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(puede ser azul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nja blanca o amari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costado, o café compl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 los bail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o polera bla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olera con el nombre del ba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gorro y el ‘coscach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3160" y="1341360"/>
            <a:ext cx="384120" cy="4896000"/>
          </a:xfrm>
          <a:custGeom>
            <a:avLst/>
            <a:gdLst>
              <a:gd name="textAreaLeft" fmla="*/ 0 w 384120"/>
              <a:gd name="textAreaRight" fmla="*/ 138600 w 384120"/>
              <a:gd name="textAreaTop" fmla="*/ 0 h 4896000"/>
              <a:gd name="textAreaBottom" fmla="*/ 48963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917"/>
                </a:lnTo>
                <a:cubicBezTo>
                  <a:pt x="10800" y="12917"/>
                  <a:pt x="16200" y="12917"/>
                  <a:pt x="21600" y="12917"/>
                </a:cubicBezTo>
                <a:cubicBezTo>
                  <a:pt x="16200" y="12917"/>
                  <a:pt x="10800" y="12917"/>
                  <a:pt x="10800" y="12917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0560" y="1202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ailarines (incluido el tambo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6840" y="2030040"/>
            <a:ext cx="921636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ciado chileno (franjas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ínea blanca, otra azul y otra ro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jas (atadas a la cintur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son adornos de la vestimenta de los bail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mpones (para las med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2349360"/>
            <a:ext cx="358920" cy="2374920"/>
          </a:xfrm>
          <a:custGeom>
            <a:avLst/>
            <a:gdLst>
              <a:gd name="textAreaLeft" fmla="*/ 0 w 358920"/>
              <a:gd name="textAreaRight" fmla="*/ 129600 w 358920"/>
              <a:gd name="textAreaTop" fmla="*/ 0 h 2374920"/>
              <a:gd name="textAreaBottom" fmla="*/ 237492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5290"/>
                </a:lnTo>
                <a:cubicBezTo>
                  <a:pt x="10800" y="15290"/>
                  <a:pt x="16200" y="15290"/>
                  <a:pt x="21600" y="15290"/>
                </a:cubicBezTo>
                <a:cubicBezTo>
                  <a:pt x="16200" y="15290"/>
                  <a:pt x="10800" y="15290"/>
                  <a:pt x="10800" y="1529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9320" y="259560"/>
            <a:ext cx="76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0" y="1133280"/>
            <a:ext cx="9111240" cy="44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(no necesariamente blanc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rro (redo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ndera del b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1197000"/>
            <a:ext cx="457200" cy="4464000"/>
          </a:xfrm>
          <a:custGeom>
            <a:avLst/>
            <a:gdLst>
              <a:gd name="textAreaLeft" fmla="*/ 0 w 457200"/>
              <a:gd name="textAreaRight" fmla="*/ 164880 w 457200"/>
              <a:gd name="textAreaTop" fmla="*/ 0 h 4464000"/>
              <a:gd name="textAreaBottom" fmla="*/ 44643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3273"/>
                </a:lnTo>
                <a:cubicBezTo>
                  <a:pt x="10800" y="13273"/>
                  <a:pt x="16200" y="13273"/>
                  <a:pt x="21600" y="13273"/>
                </a:cubicBezTo>
                <a:cubicBezTo>
                  <a:pt x="16200" y="13273"/>
                  <a:pt x="10800" y="13273"/>
                  <a:pt x="10800" y="1327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56000" y="29242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2780280"/>
            <a:ext cx="90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adorno de la vestimenta de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30686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4280" y="27756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6120" y="188280"/>
            <a:ext cx="80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800" y="1610640"/>
            <a:ext cx="892836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os o zapat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 (op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son partes de la vestimenta del bom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(no necesariamente bl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cacho (conoi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00400" y="1700280"/>
            <a:ext cx="360360" cy="3600360"/>
          </a:xfrm>
          <a:custGeom>
            <a:avLst/>
            <a:gdLst>
              <a:gd name="textAreaLeft" fmla="*/ 0 w 360360"/>
              <a:gd name="textAreaRight" fmla="*/ 129960 w 3603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324"/>
                </a:lnTo>
                <a:cubicBezTo>
                  <a:pt x="10800" y="12324"/>
                  <a:pt x="16200" y="12324"/>
                  <a:pt x="21600" y="12324"/>
                </a:cubicBezTo>
                <a:cubicBezTo>
                  <a:pt x="16200" y="12324"/>
                  <a:pt x="10800" y="12324"/>
                  <a:pt x="10800" y="1232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84360" y="2637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0760" y="25653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4280" y="25056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0" y="261036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adorno de la vestimenta de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bomber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9160" y="548640"/>
            <a:ext cx="91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154620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l portaestandarte Cam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no necesariamente bl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cacho (conoi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nd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413000"/>
            <a:ext cx="487080" cy="3960720"/>
          </a:xfrm>
          <a:custGeom>
            <a:avLst/>
            <a:gdLst>
              <a:gd name="textAreaLeft" fmla="*/ 0 w 487080"/>
              <a:gd name="textAreaRight" fmla="*/ 175680 w 48708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29"/>
                </a:lnTo>
                <a:cubicBezTo>
                  <a:pt x="10800" y="11029"/>
                  <a:pt x="16200" y="11029"/>
                  <a:pt x="21600" y="11029"/>
                </a:cubicBezTo>
                <a:cubicBezTo>
                  <a:pt x="16200" y="11029"/>
                  <a:pt x="10800" y="11029"/>
                  <a:pt x="10800" y="1102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9640" y="1800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Etapas del Ba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2320" y="54504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Vestimenta de los chin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pera de turno para saludar cantando a la Vir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Llegada al altar (bailando y tocando las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Baile frente a la Virgen(con mudanz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aludo a la Virgen(canta el alférez y los chinos corean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on etapas    del ba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Los chinos descansan y dejan de bailar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ión (recorrido por el pueblo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etorno al altar (bailando y tocando las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pera de turno para despedir cantando a la Virg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spedida de la Virgen(canta el alférez y los chinos corea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alida del altar (bailando y tocando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476280"/>
            <a:ext cx="288720" cy="6105600"/>
          </a:xfrm>
          <a:custGeom>
            <a:avLst/>
            <a:gdLst>
              <a:gd name="textAreaLeft" fmla="*/ 0 w 288720"/>
              <a:gd name="textAreaRight" fmla="*/ 104040 w 288720"/>
              <a:gd name="textAreaTop" fmla="*/ 0 h 6105600"/>
              <a:gd name="textAreaBottom" fmla="*/ 6105960 h 610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491"/>
                </a:lnTo>
                <a:cubicBezTo>
                  <a:pt x="10800" y="9491"/>
                  <a:pt x="16200" y="9491"/>
                  <a:pt x="21600" y="9491"/>
                </a:cubicBezTo>
                <a:cubicBezTo>
                  <a:pt x="16200" y="9491"/>
                  <a:pt x="10800" y="9491"/>
                  <a:pt x="10800" y="9491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95640" y="32130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14172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4280" y="33300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7080" y="3206160"/>
            <a:ext cx="916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 es el adorno de la vestimenta del portaestandarte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90840" y="21024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Equipo an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0600" y="2485800"/>
            <a:ext cx="87213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nd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 an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s con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732040"/>
            <a:ext cx="504720" cy="2209680"/>
          </a:xfrm>
          <a:custGeom>
            <a:avLst/>
            <a:gdLst>
              <a:gd name="textAreaLeft" fmla="*/ 0 w 504720"/>
              <a:gd name="textAreaRight" fmla="*/ 182160 w 50472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445"/>
                </a:lnTo>
                <a:cubicBezTo>
                  <a:pt x="10800" y="12445"/>
                  <a:pt x="16200" y="12445"/>
                  <a:pt x="21600" y="12445"/>
                </a:cubicBezTo>
                <a:cubicBezTo>
                  <a:pt x="16200" y="12445"/>
                  <a:pt x="10800" y="12445"/>
                  <a:pt x="10800" y="1244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0280" y="403920"/>
            <a:ext cx="78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Tipos de funciones de los domi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80" y="3109680"/>
            <a:ext cx="91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devo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de los domi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no devo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141720"/>
            <a:ext cx="312840" cy="1131840"/>
          </a:xfrm>
          <a:custGeom>
            <a:avLst/>
            <a:gdLst>
              <a:gd name="textAreaLeft" fmla="*/ 0 w 312840"/>
              <a:gd name="textAreaRight" fmla="*/ 113040 w 3128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3754"/>
                </a:lnTo>
                <a:cubicBezTo>
                  <a:pt x="10800" y="13754"/>
                  <a:pt x="16200" y="13754"/>
                  <a:pt x="21600" y="13754"/>
                </a:cubicBezTo>
                <a:cubicBezTo>
                  <a:pt x="16200" y="13754"/>
                  <a:pt x="10800" y="13754"/>
                  <a:pt x="10800" y="1375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3960" y="316800"/>
            <a:ext cx="74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l Saludo a la Vi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960" y="1552680"/>
            <a:ext cx="918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tención del baile frente a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 del can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el saludo a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lida de los chinos bail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tocando la fla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52960" y="1628640"/>
            <a:ext cx="419040" cy="4032360"/>
          </a:xfrm>
          <a:custGeom>
            <a:avLst/>
            <a:gdLst>
              <a:gd name="textAreaLeft" fmla="*/ 0 w 419040"/>
              <a:gd name="textAreaRight" fmla="*/ 151200 w 419040"/>
              <a:gd name="textAreaTop" fmla="*/ 0 h 4032360"/>
              <a:gd name="textAreaBottom" fmla="*/ 403272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829"/>
                </a:lnTo>
                <a:cubicBezTo>
                  <a:pt x="10800" y="11829"/>
                  <a:pt x="16200" y="11829"/>
                  <a:pt x="21600" y="11829"/>
                </a:cubicBezTo>
                <a:cubicBezTo>
                  <a:pt x="16200" y="11829"/>
                  <a:pt x="10800" y="11829"/>
                  <a:pt x="10800" y="1182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76480" y="33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 la Proc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59920"/>
            <a:ext cx="9144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denamiento de los ba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ino hacia el Calv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la pro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gada y estadía en el Calv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ino hacia el 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1268280"/>
            <a:ext cx="387360" cy="3468960"/>
          </a:xfrm>
          <a:custGeom>
            <a:avLst/>
            <a:gdLst>
              <a:gd name="textAreaLeft" fmla="*/ 0 w 387360"/>
              <a:gd name="textAreaRight" fmla="*/ 139680 w 38736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65"/>
                </a:lnTo>
                <a:cubicBezTo>
                  <a:pt x="10800" y="10765"/>
                  <a:pt x="16200" y="10765"/>
                  <a:pt x="21600" y="10765"/>
                </a:cubicBezTo>
                <a:cubicBezTo>
                  <a:pt x="16200" y="10765"/>
                  <a:pt x="10800" y="10765"/>
                  <a:pt x="10800" y="1076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9960" y="245520"/>
            <a:ext cx="85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 la Despedida de la Vi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4680" y="945360"/>
            <a:ext cx="897408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ada de los Chinos al al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tocando flautas y baila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nción del b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la despedida de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 la “Mansión Celest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1125360"/>
            <a:ext cx="343080" cy="5588280"/>
          </a:xfrm>
          <a:custGeom>
            <a:avLst/>
            <a:gdLst>
              <a:gd name="textAreaLeft" fmla="*/ 0 w 343080"/>
              <a:gd name="textAreaRight" fmla="*/ 123840 w 343080"/>
              <a:gd name="textAreaTop" fmla="*/ 0 h 5588280"/>
              <a:gd name="textAreaBottom" fmla="*/ 5588640 h 558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892"/>
                </a:lnTo>
                <a:cubicBezTo>
                  <a:pt x="10800" y="11892"/>
                  <a:pt x="16200" y="11892"/>
                  <a:pt x="21600" y="11892"/>
                </a:cubicBezTo>
                <a:cubicBezTo>
                  <a:pt x="16200" y="11892"/>
                  <a:pt x="10800" y="11892"/>
                  <a:pt x="10800" y="1189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83800" y="2595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icipantes del ba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6680" y="757800"/>
            <a:ext cx="86115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ín / Flau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o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es del ba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mber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aestand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836640"/>
            <a:ext cx="432000" cy="5688000"/>
          </a:xfrm>
          <a:custGeom>
            <a:avLst/>
            <a:gdLst>
              <a:gd name="textAreaLeft" fmla="*/ 0 w 432000"/>
              <a:gd name="textAreaRight" fmla="*/ 155880 w 43200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44"/>
                </a:lnTo>
                <a:cubicBezTo>
                  <a:pt x="10800" y="11044"/>
                  <a:pt x="16200" y="11044"/>
                  <a:pt x="21600" y="11044"/>
                </a:cubicBezTo>
                <a:cubicBezTo>
                  <a:pt x="16200" y="11044"/>
                  <a:pt x="10800" y="11044"/>
                  <a:pt x="10800" y="1104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40680" y="21024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" y="599760"/>
            <a:ext cx="910368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iar el baile (dar instrucciones de término e inicio del ba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tar (el saludo y la despedida a la Vir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ar la bandera del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r las filas de chinos flaute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alf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distancia entre los chinos flau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r la velocidad de avance de los ch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amar al orden a chinos que se sepa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autorizadamente del baile o que se van a ‘pilsea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00920" y="765000"/>
            <a:ext cx="342720" cy="5472360"/>
          </a:xfrm>
          <a:custGeom>
            <a:avLst/>
            <a:gdLst>
              <a:gd name="textAreaLeft" fmla="*/ 0 w 342720"/>
              <a:gd name="textAreaRight" fmla="*/ 123840 w 342720"/>
              <a:gd name="textAreaTop" fmla="*/ 0 h 5472360"/>
              <a:gd name="textAreaBottom" fmla="*/ 547236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525"/>
                </a:lnTo>
                <a:cubicBezTo>
                  <a:pt x="10800" y="9525"/>
                  <a:pt x="16200" y="9525"/>
                  <a:pt x="21600" y="9525"/>
                </a:cubicBezTo>
                <a:cubicBezTo>
                  <a:pt x="16200" y="9525"/>
                  <a:pt x="10800" y="9525"/>
                  <a:pt x="10800" y="952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28188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chino bailarín / flau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0800" y="1833120"/>
            <a:ext cx="92422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ocar la flauta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son funciones del chino bailarín / flaut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(el canto del alfére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1989000"/>
            <a:ext cx="216000" cy="2421000"/>
          </a:xfrm>
          <a:custGeom>
            <a:avLst/>
            <a:gdLst>
              <a:gd name="textAreaLeft" fmla="*/ 0 w 216000"/>
              <a:gd name="textAreaRight" fmla="*/ 78120 w 21600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08"/>
                </a:lnTo>
                <a:cubicBezTo>
                  <a:pt x="10800" y="11408"/>
                  <a:pt x="16200" y="11408"/>
                  <a:pt x="21600" y="11408"/>
                </a:cubicBezTo>
                <a:cubicBezTo>
                  <a:pt x="16200" y="11408"/>
                  <a:pt x="10800" y="11408"/>
                  <a:pt x="10800" y="1140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480" y="-27720"/>
            <a:ext cx="56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tambo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3800" y="411480"/>
            <a:ext cx="8280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rigir las mudanzas del ba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car el tambor chic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tambor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compás del ba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r a los chinos flaute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deben tocar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detene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miento de las fi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chinos flau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distancia ent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s chinos flau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76280"/>
            <a:ext cx="216000" cy="6192720"/>
          </a:xfrm>
          <a:custGeom>
            <a:avLst/>
            <a:gdLst>
              <a:gd name="textAreaLeft" fmla="*/ 0 w 216000"/>
              <a:gd name="textAreaRight" fmla="*/ 78120 w 216000"/>
              <a:gd name="textAreaTop" fmla="*/ 0 h 6192720"/>
              <a:gd name="textAreaBottom" fmla="*/ 619308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374"/>
                </a:lnTo>
                <a:cubicBezTo>
                  <a:pt x="10800" y="9374"/>
                  <a:pt x="16200" y="9374"/>
                  <a:pt x="21600" y="9374"/>
                </a:cubicBezTo>
                <a:cubicBezTo>
                  <a:pt x="16200" y="9374"/>
                  <a:pt x="10800" y="9374"/>
                  <a:pt x="10800" y="937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22:54:06Z</dcterms:created>
  <dc:creator>Cristián</dc:creator>
  <dc:description/>
  <dc:language>en-US</dc:language>
  <cp:lastModifiedBy>Cristián</cp:lastModifiedBy>
  <dcterms:modified xsi:type="dcterms:W3CDTF">2010-04-15T01:00:49Z</dcterms:modified>
  <cp:revision>3</cp:revision>
  <dc:subject/>
  <dc:title>Diapositiva 1</dc:title>
</cp:coreProperties>
</file>