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D9F-4E8A-426F-A364-138FBFF8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16A-155E-45AA-AA44-C857A216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3F4-2C61-48DD-8307-077FC032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14B-9406-415E-8660-4D592B07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C189-F615-4CCC-A0FA-C9318A2C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BC15-ECE6-4047-9ED7-E228FFE7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7AE1-088A-4AA2-AA36-A604DDCC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8A4B-2BE9-41E1-9650-EE0B972C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4EA8-B8C6-4978-93AD-353A7CC5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C6CF-ED0F-4A4F-9200-EDC7E352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22F8-5F34-4627-8C68-2DED0D1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A81-A7BC-40B8-B1CA-9F41B2BF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813F-3CA2-4035-B39B-8D945BD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F6A3-31FE-4A78-A41E-C39EE843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9D24-8B51-4003-87D4-64602439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8705-C9D6-415E-BAF5-931187A3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44C5-BC64-4B31-97C6-71A3D82E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701-6EE4-49D3-896C-7CBEFDB8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ADF-5A3B-4C56-B232-6FA23F2D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974-5820-42A5-B9F6-52B9720E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780-3D52-4C2B-B0C7-16E5C4DE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C7D-949E-492B-B1E5-B82E0B12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419-A9F6-4B7A-935C-B689F41A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A3C-DE48-42EC-BA1F-9FF42198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E128-5C15-413A-9D6F-214E434ADE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D892-56F8-41C9-98B0-DE3A24FA14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1689480" y="270000"/>
            <a:ext cx="574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</a:rPr>
              <a:t>Charles Sanders Peirce</a:t>
            </a:r>
            <a:endParaRPr b="0" lang="en-US" sz="4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560" y="570852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Prof. Cristián Prado Ballester</a:t>
            </a:r>
            <a:endParaRPr b="0" lang="en-US" sz="2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987360" y="62118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- 2010 -</a:t>
            </a:r>
            <a:endParaRPr b="0" lang="en-US" sz="24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pic>
        <p:nvPicPr>
          <p:cNvPr id="211" name="Picture 10" descr="Charles Sanders Peirce 02"/>
          <p:cNvPicPr/>
          <p:nvPr/>
        </p:nvPicPr>
        <p:blipFill>
          <a:blip r:embed="rId1"/>
          <a:stretch/>
        </p:blipFill>
        <p:spPr>
          <a:xfrm>
            <a:off x="2797200" y="981000"/>
            <a:ext cx="35035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587520" y="596880"/>
            <a:ext cx="8305560" cy="54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1. El signo en sí mismo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igno como cualidad, existente real o ley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1.1. El signo como una cualidad o cualisign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e refiere a una cualidad que es un sign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úa como signo cuando está formulad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08000" y="581040"/>
            <a:ext cx="9144000" cy="32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90000"/>
              </a:lnSpc>
              <a:spcBef>
                <a:spcPts val="2801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1.2. El signo como existente real o sinsigno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9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“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Que es una única vez”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9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mitido a una cosa que es un evento real que es un sign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66680" y="333360"/>
            <a:ext cx="87850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2.1.3. El signo como ley o legisign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Signo convencional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No es un objeto único sino un tipo general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La aplicación de un legisigno se denomina réplica. Las réplicas son sinsignos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0" y="3049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Relaciones entre las distintas realizaciones del signo en sí mismo: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grpSp>
        <p:nvGrpSpPr>
          <p:cNvPr id="265" name="Group 21"/>
          <p:cNvGrpSpPr/>
          <p:nvPr/>
        </p:nvGrpSpPr>
        <p:grpSpPr>
          <a:xfrm>
            <a:off x="755640" y="1349280"/>
            <a:ext cx="7619760" cy="4215960"/>
            <a:chOff x="755640" y="1349280"/>
            <a:chExt cx="7619760" cy="4215960"/>
          </a:xfrm>
        </p:grpSpPr>
        <p:sp>
          <p:nvSpPr>
            <p:cNvPr id="266" name="Text Box 4"/>
            <p:cNvSpPr/>
            <p:nvPr/>
          </p:nvSpPr>
          <p:spPr>
            <a:xfrm>
              <a:off x="3803400" y="1349280"/>
              <a:ext cx="1866960" cy="459720"/>
            </a:xfrm>
            <a:prstGeom prst="rect">
              <a:avLst/>
            </a:pr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80808"/>
                  </a:solidFill>
                  <a:latin typeface="Times New Roman"/>
                </a:rPr>
                <a:t>El Legisigno</a:t>
              </a:r>
              <a:endParaRPr b="0" lang="en-US" sz="24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sp>
          <p:nvSpPr>
            <p:cNvPr id="267" name="Text Box 5"/>
            <p:cNvSpPr/>
            <p:nvPr/>
          </p:nvSpPr>
          <p:spPr>
            <a:xfrm>
              <a:off x="755640" y="5105520"/>
              <a:ext cx="1676160" cy="459720"/>
            </a:xfrm>
            <a:prstGeom prst="rect">
              <a:avLst/>
            </a:pr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80808"/>
                  </a:solidFill>
                  <a:latin typeface="Times New Roman"/>
                </a:rPr>
                <a:t>Cualisigno</a:t>
              </a:r>
              <a:endParaRPr b="0" lang="en-US" sz="24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grpSp>
          <p:nvGrpSpPr>
            <p:cNvPr id="268" name="Group 20"/>
            <p:cNvGrpSpPr/>
            <p:nvPr/>
          </p:nvGrpSpPr>
          <p:grpSpPr>
            <a:xfrm>
              <a:off x="1212840" y="1905120"/>
              <a:ext cx="3352680" cy="3124080"/>
              <a:chOff x="1212840" y="1905120"/>
              <a:chExt cx="3352680" cy="3124080"/>
            </a:xfrm>
          </p:grpSpPr>
          <p:sp>
            <p:nvSpPr>
              <p:cNvPr id="269" name="Text Box 6"/>
              <p:cNvSpPr/>
              <p:nvPr/>
            </p:nvSpPr>
            <p:spPr>
              <a:xfrm>
                <a:off x="1212840" y="3200400"/>
                <a:ext cx="2666880" cy="4597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Sin relación con el 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70" name="Line 7"/>
              <p:cNvSpPr/>
              <p:nvPr/>
            </p:nvSpPr>
            <p:spPr>
              <a:xfrm flipH="1">
                <a:off x="3117600" y="1905120"/>
                <a:ext cx="1447920" cy="12952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71" name="Line 8"/>
              <p:cNvSpPr/>
              <p:nvPr/>
            </p:nvSpPr>
            <p:spPr>
              <a:xfrm flipH="1">
                <a:off x="1288440" y="3733920"/>
                <a:ext cx="1219320" cy="12952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272" name="Text Box 9"/>
            <p:cNvSpPr/>
            <p:nvPr/>
          </p:nvSpPr>
          <p:spPr>
            <a:xfrm>
              <a:off x="7080120" y="5105520"/>
              <a:ext cx="1295280" cy="459720"/>
            </a:xfrm>
            <a:prstGeom prst="rect">
              <a:avLst/>
            </a:pr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80808"/>
                  </a:solidFill>
                  <a:latin typeface="Times New Roman"/>
                </a:rPr>
                <a:t>Sinsigno</a:t>
              </a:r>
              <a:endParaRPr b="0" lang="en-US" sz="24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grpSp>
          <p:nvGrpSpPr>
            <p:cNvPr id="273" name="Group 19"/>
            <p:cNvGrpSpPr/>
            <p:nvPr/>
          </p:nvGrpSpPr>
          <p:grpSpPr>
            <a:xfrm>
              <a:off x="2508120" y="5095800"/>
              <a:ext cx="4495680" cy="459720"/>
              <a:chOff x="2508120" y="5095800"/>
              <a:chExt cx="4495680" cy="459720"/>
            </a:xfrm>
          </p:grpSpPr>
          <p:sp>
            <p:nvSpPr>
              <p:cNvPr id="274" name="Line 12"/>
              <p:cNvSpPr/>
              <p:nvPr/>
            </p:nvSpPr>
            <p:spPr>
              <a:xfrm>
                <a:off x="6165720" y="5334120"/>
                <a:ext cx="838080" cy="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grpSp>
            <p:nvGrpSpPr>
              <p:cNvPr id="275" name="Group 18"/>
              <p:cNvGrpSpPr/>
              <p:nvPr/>
            </p:nvGrpSpPr>
            <p:grpSpPr>
              <a:xfrm>
                <a:off x="2508120" y="5095800"/>
                <a:ext cx="3619440" cy="459720"/>
                <a:chOff x="2508120" y="5095800"/>
                <a:chExt cx="3619440" cy="459720"/>
              </a:xfrm>
            </p:grpSpPr>
            <p:sp>
              <p:nvSpPr>
                <p:cNvPr id="276" name="Line 11"/>
                <p:cNvSpPr/>
                <p:nvPr/>
              </p:nvSpPr>
              <p:spPr>
                <a:xfrm>
                  <a:off x="2508120" y="5334120"/>
                  <a:ext cx="914400" cy="0"/>
                </a:xfrm>
                <a:prstGeom prst="line">
                  <a:avLst/>
                </a:prstGeom>
                <a:ln w="34920">
                  <a:solidFill>
                    <a:srgbClr val="40458c"/>
                  </a:solidFill>
                  <a:miter/>
                  <a:head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77" name="Text Box 10"/>
                <p:cNvSpPr/>
                <p:nvPr/>
              </p:nvSpPr>
              <p:spPr>
                <a:xfrm>
                  <a:off x="3460680" y="5095800"/>
                  <a:ext cx="2666880" cy="459720"/>
                </a:xfrm>
                <a:prstGeom prst="rect">
                  <a:avLst/>
                </a:prstGeom>
                <a:noFill/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Sin relación con el </a:t>
                  </a:r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</p:grpSp>
        </p:grpSp>
        <p:grpSp>
          <p:nvGrpSpPr>
            <p:cNvPr id="278" name="Group 17"/>
            <p:cNvGrpSpPr/>
            <p:nvPr/>
          </p:nvGrpSpPr>
          <p:grpSpPr>
            <a:xfrm>
              <a:off x="5022720" y="1905120"/>
              <a:ext cx="3184920" cy="3200400"/>
              <a:chOff x="5022720" y="1905120"/>
              <a:chExt cx="3184920" cy="3200400"/>
            </a:xfrm>
          </p:grpSpPr>
          <p:sp>
            <p:nvSpPr>
              <p:cNvPr id="279" name="Text Box 13"/>
              <p:cNvSpPr/>
              <p:nvPr/>
            </p:nvSpPr>
            <p:spPr>
              <a:xfrm>
                <a:off x="5847480" y="3200400"/>
                <a:ext cx="2360160" cy="4597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Es una réplica del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80" name="Line 14"/>
              <p:cNvSpPr/>
              <p:nvPr/>
            </p:nvSpPr>
            <p:spPr>
              <a:xfrm flipH="1" flipV="1">
                <a:off x="6851520" y="3657600"/>
                <a:ext cx="1295280" cy="144792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81" name="Line 15"/>
              <p:cNvSpPr/>
              <p:nvPr/>
            </p:nvSpPr>
            <p:spPr>
              <a:xfrm flipH="1" flipV="1">
                <a:off x="5022720" y="1905120"/>
                <a:ext cx="1447920" cy="12952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666720" y="620640"/>
            <a:ext cx="808200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2. El signo en relación con su obje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just">
              <a:lnSpc>
                <a:spcPct val="180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anera en que el signo denota el obje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just">
              <a:lnSpc>
                <a:spcPct val="180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igno como </a:t>
            </a:r>
            <a:r>
              <a:rPr b="1" lang="en-US" sz="2800" spc="-1" strike="noStrike" u="sng">
                <a:solidFill>
                  <a:srgbClr val="080808"/>
                </a:solidFill>
                <a:uFillTx/>
                <a:latin typeface="Times New Roman"/>
                <a:ea typeface="Times New Roman"/>
              </a:rPr>
              <a:t>Ícono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 u="sng">
                <a:solidFill>
                  <a:srgbClr val="080808"/>
                </a:solidFill>
                <a:uFillTx/>
                <a:latin typeface="Times New Roman"/>
                <a:ea typeface="Times New Roman"/>
              </a:rPr>
              <a:t>Índice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o </a:t>
            </a:r>
            <a:r>
              <a:rPr b="1" lang="en-US" sz="2800" spc="-1" strike="noStrike" u="sng">
                <a:solidFill>
                  <a:srgbClr val="080808"/>
                </a:solidFill>
                <a:uFillTx/>
                <a:latin typeface="Times New Roman"/>
                <a:ea typeface="Times New Roman"/>
              </a:rPr>
              <a:t>Símbolo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79280" y="1357200"/>
            <a:ext cx="87138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lación de semejanza con la “realidad” del mundo exterior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fiere al objeto que denota en virtud de caracteres que le son propios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Cualquier cosa puede ser ícono de alguna otra cosa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535320" y="39528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2.1. El Ícono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237960" y="-15840"/>
            <a:ext cx="8713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A un representamen icónico se le denomina hipoícono, los hipoíconos se dividen en: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1" marL="1116000" indent="-49536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Imágenes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1" marL="1116000" indent="-49536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Diagramas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1" marL="1116000" indent="-49536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Metáforas.</a:t>
            </a:r>
            <a:r>
              <a:rPr b="0" lang="es-ES" sz="2800" spc="-1" strike="noStrike" u="sng">
                <a:solidFill>
                  <a:srgbClr val="40458c"/>
                </a:solidFill>
                <a:uFillTx/>
                <a:latin typeface="Times New Roman"/>
              </a:rPr>
              <a:t>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79280" y="1523880"/>
            <a:ext cx="87138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5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ferido a un objeto que denota en virtud de ser realmente afectado por ese obje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5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lación de contigüidad natural vinculada a un hecho de la experiencia que no es provocado por el hombre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87600" y="635040"/>
            <a:ext cx="23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2.2. El Índice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5"/>
          <p:cNvSpPr/>
          <p:nvPr/>
        </p:nvSpPr>
        <p:spPr>
          <a:xfrm>
            <a:off x="0" y="404640"/>
            <a:ext cx="9131400" cy="57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spAutoFit/>
          </a:bodyPr>
          <a:p>
            <a:pPr marL="495360" indent="-495360" algn="just">
              <a:lnSpc>
                <a:spcPct val="180000"/>
              </a:lnSpc>
              <a:spcBef>
                <a:spcPts val="2361"/>
              </a:spcBef>
              <a:buClr>
                <a:srgbClr val="080808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Posee una conexión dinámica con el objeto individual y con los sentidos o la memoria de la persona.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95360" indent="-495360" algn="just">
              <a:lnSpc>
                <a:spcPct val="180000"/>
              </a:lnSpc>
              <a:spcBef>
                <a:spcPts val="2361"/>
              </a:spcBef>
              <a:buClr>
                <a:srgbClr val="080808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Rasgos característicos de los índices: 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95360" indent="-495360">
              <a:lnSpc>
                <a:spcPct val="180000"/>
              </a:lnSpc>
              <a:spcBef>
                <a:spcPts val="2361"/>
              </a:spcBef>
              <a:buClr>
                <a:srgbClr val="080808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Carecen de todo parecido significativo con su objeto.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95360" indent="-495360">
              <a:lnSpc>
                <a:spcPct val="180000"/>
              </a:lnSpc>
              <a:spcBef>
                <a:spcPts val="2361"/>
              </a:spcBef>
              <a:buClr>
                <a:srgbClr val="080808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Se refieren a entes individuales.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95360" indent="-495360">
              <a:lnSpc>
                <a:spcPct val="180000"/>
              </a:lnSpc>
              <a:spcBef>
                <a:spcPts val="2361"/>
              </a:spcBef>
              <a:buClr>
                <a:srgbClr val="080808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Dirigen la atención a sus objetos por una compulsión ciega.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82440" y="357120"/>
            <a:ext cx="8964720" cy="54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Los índices puros no existen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Psicológicamente, la acción de los índices depende de asociaciones por contigüidad, no de parecido o de operaciones intelectuales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Ejemplo de índices: pronombres demostrativos 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</a:rPr>
              <a:t>ésta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</a:rPr>
              <a:t>ésa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80808"/>
                </a:solidFill>
                <a:latin typeface="Times New Roman"/>
              </a:rPr>
              <a:t>aquélla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, etc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31840" y="635040"/>
            <a:ext cx="43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80808"/>
                </a:solidFill>
                <a:latin typeface="Times New Roman"/>
              </a:rPr>
              <a:t>1. Signo (o representamen)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900000" y="1628640"/>
            <a:ext cx="7201080" cy="4753080"/>
            <a:chOff x="900000" y="1628640"/>
            <a:chExt cx="7201080" cy="4753080"/>
          </a:xfrm>
        </p:grpSpPr>
        <p:sp>
          <p:nvSpPr>
            <p:cNvPr id="214" name="AutoShape 5"/>
            <p:cNvSpPr/>
            <p:nvPr/>
          </p:nvSpPr>
          <p:spPr>
            <a:xfrm>
              <a:off x="3381480" y="2293920"/>
              <a:ext cx="3519360" cy="39560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sp>
          <p:nvSpPr>
            <p:cNvPr id="215" name="Text Box 6"/>
            <p:cNvSpPr/>
            <p:nvPr/>
          </p:nvSpPr>
          <p:spPr>
            <a:xfrm>
              <a:off x="900000" y="5862600"/>
              <a:ext cx="2351160" cy="447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80808"/>
                  </a:solidFill>
                  <a:latin typeface="Times New Roman"/>
                </a:rPr>
                <a:t>Representamen</a:t>
              </a:r>
              <a:endParaRPr b="0" lang="en-US" sz="28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sp>
          <p:nvSpPr>
            <p:cNvPr id="216" name="Text Box 7"/>
            <p:cNvSpPr/>
            <p:nvPr/>
          </p:nvSpPr>
          <p:spPr>
            <a:xfrm>
              <a:off x="3821040" y="1628640"/>
              <a:ext cx="2640240" cy="484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Times New Roman"/>
                </a:rPr>
                <a:t>Interpretante</a:t>
              </a:r>
              <a:endParaRPr b="0" lang="en-US" sz="28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6993000" y="5877000"/>
              <a:ext cx="1108080" cy="50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Times New Roman"/>
                </a:rPr>
                <a:t>Objeto</a:t>
              </a:r>
              <a:endParaRPr b="0" lang="en-US" sz="2800" spc="-1" strike="noStrike" u="sng">
                <a:solidFill>
                  <a:srgbClr val="40458c"/>
                </a:solidFill>
                <a:uFillTx/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144360" y="1866960"/>
            <a:ext cx="896472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e refiere al objeto que denota en función de una ley, es decir mediante una convención social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ímbolo es un legisigno, por ende actúa a través de una réplica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610920" y="863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2.3. El Símbolo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738360" y="42840"/>
            <a:ext cx="7642080" cy="66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80000"/>
              </a:lnSpc>
              <a:spcBef>
                <a:spcPts val="2687"/>
              </a:spcBef>
              <a:buClr>
                <a:srgbClr val="080808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Se pueden distinguir símbolos genuinos de símbolos degenerados: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1" marL="800280" indent="-354240" algn="just">
              <a:lnSpc>
                <a:spcPct val="180000"/>
              </a:lnSpc>
              <a:spcBef>
                <a:spcPts val="2687"/>
              </a:spcBef>
              <a:buClr>
                <a:srgbClr val="080808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Símbolos genuinos. Son aquellos que tienen un significado general.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1" marL="800280" indent="-354240" algn="just">
              <a:lnSpc>
                <a:spcPct val="180000"/>
              </a:lnSpc>
              <a:spcBef>
                <a:spcPts val="2687"/>
              </a:spcBef>
              <a:buClr>
                <a:srgbClr val="080808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Símbolos degenerados. Se pueden dividir en: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2" marL="1428840" indent="-514440" algn="just">
              <a:lnSpc>
                <a:spcPct val="180000"/>
              </a:lnSpc>
              <a:spcBef>
                <a:spcPts val="2687"/>
              </a:spcBef>
              <a:buClr>
                <a:srgbClr val="080808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Símbolo singular.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lvl="2" marL="1428840" indent="-514440" algn="just">
              <a:lnSpc>
                <a:spcPct val="180000"/>
              </a:lnSpc>
              <a:spcBef>
                <a:spcPts val="2687"/>
              </a:spcBef>
              <a:buClr>
                <a:srgbClr val="080808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</a:rPr>
              <a:t>Símbolo abstracto. 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11280" y="755640"/>
            <a:ext cx="8167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ma, decisigno o argument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just">
              <a:lnSpc>
                <a:spcPct val="18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3.1. El Rema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just">
              <a:lnSpc>
                <a:spcPct val="18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Signo que, para su interpretante es un signo de posibilidad cualitativa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410400" y="228600"/>
            <a:ext cx="70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3. El signo en relación con su interpretante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642960" y="1700280"/>
            <a:ext cx="8298000" cy="26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2.3.2. El Decisigno o Signo Dicente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just">
              <a:lnSpc>
                <a:spcPct val="18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Es un signo que, para su interpretante es un signo de existencia real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204840" y="1139760"/>
            <a:ext cx="8713800" cy="54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Para su interpretante, es un signo de ley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514440" indent="-51444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interpretante lo representa como una instancia de una clase general de argumentos que siempre tenderá a la verdad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514440" indent="-51444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argumento se divide en deducciones, inducciones y abducciones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98400" y="50004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3.3. El argumento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571680" y="692280"/>
            <a:ext cx="824832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3.3.1. Las deducciones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ctr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interpretante entiende un argumento asociado a una clase general de posibles argumentos análogos, caracterizados por que, a lo largo de la experiencia aquellos cuyas premisas son verdaderas tendrán conclusiones verdaderas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179280" y="333360"/>
            <a:ext cx="856944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ipos de deducciones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Necesarias a partir de premisas verdaderas, deben producir necesariamente conclusiones verdaderas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De probabilidad, relacionadas con tasas de frecuencia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595440" y="692280"/>
            <a:ext cx="8080200" cy="2753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3.3.2. Las inducciones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ctr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Método en el cual el interpretante representa que, si se persiste en este método, a la larga producirá la verdad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4"/>
          <p:cNvSpPr/>
          <p:nvPr/>
        </p:nvSpPr>
        <p:spPr>
          <a:xfrm>
            <a:off x="612720" y="620640"/>
            <a:ext cx="8136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2.3.3.3. Las abducciones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algn="ctr">
              <a:lnSpc>
                <a:spcPct val="1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Método para formar una predicción general sin ninguna verdadera seguridad de que tendrá éxito, teniendo como justificación que es la única esperanza posible de regular nuestra conducta racionalmente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0" y="1890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Tabla es un resumen del signo según las tricotomías establecidas</a:t>
            </a:r>
            <a:endParaRPr b="0" lang="en-US" sz="27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79280" y="981000"/>
          <a:ext cx="8763120" cy="5381640"/>
        </p:xfrm>
        <a:graphic>
          <a:graphicData uri="http://schemas.openxmlformats.org/drawingml/2006/table">
            <a:tbl>
              <a:tblPr/>
              <a:tblGrid>
                <a:gridCol w="914400"/>
                <a:gridCol w="1752840"/>
                <a:gridCol w="1509480"/>
                <a:gridCol w="2452680"/>
                <a:gridCol w="2133720"/>
              </a:tblGrid>
              <a:tr h="358560">
                <a:tc rowSpan="15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l Sign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0c0c0"/>
                    </a:solidFill>
                  </a:tcPr>
                </a:tc>
                <a:tc row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Signo en sí mism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ualisign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insign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egisign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Signo en relación con su objet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 row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Ícono e Hipoícono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mágene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iagrama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Metáfora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El Índice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Símbol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ímbolos genuino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ímbolos degenerado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ímbolo Singular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Símbolo Abstract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Signo en relación con su interpretante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Rema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Decisign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El Argumento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educcione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nduccione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bducciones</a:t>
                      </a:r>
                      <a:endParaRPr b="0" lang="en-US" sz="21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 u="sng">
                        <a:solidFill>
                          <a:srgbClr val="40458c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9"/>
          <p:cNvSpPr/>
          <p:nvPr/>
        </p:nvSpPr>
        <p:spPr>
          <a:xfrm>
            <a:off x="187200" y="1628640"/>
            <a:ext cx="878544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presenta o se refiere a algo en algún aspecto o carácter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 algn="just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epresentar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: estar en lugar de otr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 algn="just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o representado = representamen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 algn="just">
              <a:lnSpc>
                <a:spcPct val="185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o de representar = representación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24000" y="6922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Características del Signo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50920" y="1674720"/>
            <a:ext cx="86421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80808"/>
                </a:solidFill>
                <a:uFillTx/>
                <a:latin typeface="Times New Roman"/>
              </a:rPr>
              <a:t>Interpretante: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 creación de un signo equivalente en la mente de una persona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El signo representa al objeto en base a una idea del mismo denominado </a:t>
            </a:r>
            <a:r>
              <a:rPr b="1" lang="es-ES" sz="2800" spc="-1" strike="noStrike" u="sng">
                <a:solidFill>
                  <a:srgbClr val="080808"/>
                </a:solidFill>
                <a:uFillTx/>
                <a:latin typeface="Times New Roman"/>
              </a:rPr>
              <a:t>fundamento</a:t>
            </a:r>
            <a:r>
              <a:rPr b="0" lang="es-ES" sz="2800" spc="-1" strike="noStrike">
                <a:solidFill>
                  <a:srgbClr val="080808"/>
                </a:solidFill>
                <a:latin typeface="Times New Roman"/>
              </a:rPr>
              <a:t> del representamen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839880" y="463680"/>
            <a:ext cx="745164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El signo mantiene relaciones con tres instancias: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a) El fundamen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b) El obje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353880" indent="-353880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) El interpretante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3"/>
          <p:cNvGrpSpPr/>
          <p:nvPr/>
        </p:nvGrpSpPr>
        <p:grpSpPr>
          <a:xfrm>
            <a:off x="134280" y="1413000"/>
            <a:ext cx="8789040" cy="3990960"/>
            <a:chOff x="134280" y="1413000"/>
            <a:chExt cx="8789040" cy="3990960"/>
          </a:xfrm>
        </p:grpSpPr>
        <p:grpSp>
          <p:nvGrpSpPr>
            <p:cNvPr id="223" name="Group 42"/>
            <p:cNvGrpSpPr/>
            <p:nvPr/>
          </p:nvGrpSpPr>
          <p:grpSpPr>
            <a:xfrm>
              <a:off x="184320" y="4502160"/>
              <a:ext cx="5278320" cy="901800"/>
              <a:chOff x="184320" y="4502160"/>
              <a:chExt cx="5278320" cy="901800"/>
            </a:xfrm>
          </p:grpSpPr>
          <p:sp>
            <p:nvSpPr>
              <p:cNvPr id="224" name="Text Box 4"/>
              <p:cNvSpPr/>
              <p:nvPr/>
            </p:nvSpPr>
            <p:spPr>
              <a:xfrm>
                <a:off x="184320" y="4578480"/>
                <a:ext cx="3353760" cy="82548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Un </a:t>
                </a:r>
                <a:r>
                  <a:rPr b="1" lang="en-US" sz="2400" spc="-1" strike="noStrike">
                    <a:solidFill>
                      <a:srgbClr val="080808"/>
                    </a:solidFill>
                    <a:latin typeface="Times New Roman"/>
                  </a:rPr>
                  <a:t>Interpretante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(o signo del primer signo)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5" name="Text Box 6"/>
              <p:cNvSpPr/>
              <p:nvPr/>
            </p:nvSpPr>
            <p:spPr>
              <a:xfrm>
                <a:off x="4035240" y="4502160"/>
                <a:ext cx="142740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El </a:t>
                </a:r>
                <a:r>
                  <a:rPr b="1" lang="en-US" sz="2400" spc="-1" strike="noStrike">
                    <a:solidFill>
                      <a:srgbClr val="080808"/>
                    </a:solidFill>
                    <a:latin typeface="Times New Roman"/>
                  </a:rPr>
                  <a:t>Objeto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26" name="Group 34"/>
            <p:cNvGrpSpPr/>
            <p:nvPr/>
          </p:nvGrpSpPr>
          <p:grpSpPr>
            <a:xfrm>
              <a:off x="3769200" y="3368520"/>
              <a:ext cx="2139120" cy="1092240"/>
              <a:chOff x="3769200" y="3368520"/>
              <a:chExt cx="2139120" cy="1092240"/>
            </a:xfrm>
          </p:grpSpPr>
          <p:sp>
            <p:nvSpPr>
              <p:cNvPr id="227" name="Line 9"/>
              <p:cNvSpPr/>
              <p:nvPr/>
            </p:nvSpPr>
            <p:spPr>
              <a:xfrm>
                <a:off x="4824360" y="3851280"/>
                <a:ext cx="0" cy="6094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8" name="Text Box 10"/>
              <p:cNvSpPr/>
              <p:nvPr/>
            </p:nvSpPr>
            <p:spPr>
              <a:xfrm>
                <a:off x="3769200" y="3368520"/>
                <a:ext cx="213912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Está en lugar de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29" name="Group 33"/>
            <p:cNvGrpSpPr/>
            <p:nvPr/>
          </p:nvGrpSpPr>
          <p:grpSpPr>
            <a:xfrm>
              <a:off x="3531960" y="1413000"/>
              <a:ext cx="2495520" cy="1942920"/>
              <a:chOff x="3531960" y="1413000"/>
              <a:chExt cx="2495520" cy="1942920"/>
            </a:xfrm>
          </p:grpSpPr>
          <p:sp>
            <p:nvSpPr>
              <p:cNvPr id="230" name="Text Box 8"/>
              <p:cNvSpPr/>
              <p:nvPr/>
            </p:nvSpPr>
            <p:spPr>
              <a:xfrm>
                <a:off x="3531960" y="1413000"/>
                <a:ext cx="2495520" cy="82548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80808"/>
                    </a:solidFill>
                    <a:latin typeface="Times New Roman"/>
                  </a:rPr>
                  <a:t>El Signo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80808"/>
                    </a:solidFill>
                    <a:latin typeface="Times New Roman"/>
                  </a:rPr>
                  <a:t>(o Representamen)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1" name="Line 11"/>
              <p:cNvSpPr/>
              <p:nvPr/>
            </p:nvSpPr>
            <p:spPr>
              <a:xfrm>
                <a:off x="4819680" y="2289240"/>
                <a:ext cx="0" cy="10666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32" name="Group 41"/>
            <p:cNvGrpSpPr/>
            <p:nvPr/>
          </p:nvGrpSpPr>
          <p:grpSpPr>
            <a:xfrm>
              <a:off x="495360" y="1596960"/>
              <a:ext cx="3028680" cy="847800"/>
              <a:chOff x="495360" y="1596960"/>
              <a:chExt cx="3028680" cy="847800"/>
            </a:xfrm>
          </p:grpSpPr>
          <p:sp>
            <p:nvSpPr>
              <p:cNvPr id="233" name="Text Box 12"/>
              <p:cNvSpPr/>
              <p:nvPr/>
            </p:nvSpPr>
            <p:spPr>
              <a:xfrm>
                <a:off x="495360" y="1596960"/>
                <a:ext cx="150480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Se dirige a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4" name="Line 17"/>
              <p:cNvSpPr/>
              <p:nvPr/>
            </p:nvSpPr>
            <p:spPr>
              <a:xfrm flipH="1">
                <a:off x="2012760" y="1835280"/>
                <a:ext cx="1511280" cy="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5" name="Line 18"/>
              <p:cNvSpPr/>
              <p:nvPr/>
            </p:nvSpPr>
            <p:spPr>
              <a:xfrm>
                <a:off x="1036440" y="2063880"/>
                <a:ext cx="0" cy="3808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36" name="Group 36"/>
            <p:cNvGrpSpPr/>
            <p:nvPr/>
          </p:nvGrpSpPr>
          <p:grpSpPr>
            <a:xfrm>
              <a:off x="604440" y="2521080"/>
              <a:ext cx="1197360" cy="952200"/>
              <a:chOff x="604440" y="2521080"/>
              <a:chExt cx="1197360" cy="952200"/>
            </a:xfrm>
          </p:grpSpPr>
          <p:sp>
            <p:nvSpPr>
              <p:cNvPr id="237" name="Text Box 13"/>
              <p:cNvSpPr/>
              <p:nvPr/>
            </p:nvSpPr>
            <p:spPr>
              <a:xfrm>
                <a:off x="604440" y="2521080"/>
                <a:ext cx="119736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0808"/>
                    </a:solidFill>
                    <a:latin typeface="Times New Roman"/>
                  </a:rPr>
                  <a:t>Alguien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8" name="Line 19"/>
              <p:cNvSpPr/>
              <p:nvPr/>
            </p:nvSpPr>
            <p:spPr>
              <a:xfrm>
                <a:off x="1111320" y="3016080"/>
                <a:ext cx="0" cy="45720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39" name="Group 37"/>
            <p:cNvGrpSpPr/>
            <p:nvPr/>
          </p:nvGrpSpPr>
          <p:grpSpPr>
            <a:xfrm>
              <a:off x="134280" y="3473280"/>
              <a:ext cx="3131280" cy="1092240"/>
              <a:chOff x="134280" y="3473280"/>
              <a:chExt cx="3131280" cy="1092240"/>
            </a:xfrm>
          </p:grpSpPr>
          <p:sp>
            <p:nvSpPr>
              <p:cNvPr id="240" name="Text Box 14"/>
              <p:cNvSpPr/>
              <p:nvPr/>
            </p:nvSpPr>
            <p:spPr>
              <a:xfrm>
                <a:off x="134280" y="3473280"/>
                <a:ext cx="313128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Y crea en la mente de él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41" name="Line 20"/>
              <p:cNvSpPr/>
              <p:nvPr/>
            </p:nvSpPr>
            <p:spPr>
              <a:xfrm>
                <a:off x="1111320" y="3956040"/>
                <a:ext cx="0" cy="60948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42" name="Group 39"/>
            <p:cNvGrpSpPr/>
            <p:nvPr/>
          </p:nvGrpSpPr>
          <p:grpSpPr>
            <a:xfrm>
              <a:off x="5511600" y="4537080"/>
              <a:ext cx="3381840" cy="459720"/>
              <a:chOff x="5511600" y="4537080"/>
              <a:chExt cx="3381840" cy="459720"/>
            </a:xfrm>
          </p:grpSpPr>
          <p:sp>
            <p:nvSpPr>
              <p:cNvPr id="243" name="Text Box 21"/>
              <p:cNvSpPr/>
              <p:nvPr/>
            </p:nvSpPr>
            <p:spPr>
              <a:xfrm>
                <a:off x="6568560" y="4537080"/>
                <a:ext cx="232488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Es una idea sobre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44" name="Line 22"/>
              <p:cNvSpPr/>
              <p:nvPr/>
            </p:nvSpPr>
            <p:spPr>
              <a:xfrm flipH="1">
                <a:off x="5511600" y="4842000"/>
                <a:ext cx="1052640" cy="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45" name="Group 38"/>
            <p:cNvGrpSpPr/>
            <p:nvPr/>
          </p:nvGrpSpPr>
          <p:grpSpPr>
            <a:xfrm>
              <a:off x="6735600" y="2936880"/>
              <a:ext cx="2187720" cy="1581120"/>
              <a:chOff x="6735600" y="2936880"/>
              <a:chExt cx="2187720" cy="1581120"/>
            </a:xfrm>
          </p:grpSpPr>
          <p:sp>
            <p:nvSpPr>
              <p:cNvPr id="246" name="Text Box 5"/>
              <p:cNvSpPr/>
              <p:nvPr/>
            </p:nvSpPr>
            <p:spPr>
              <a:xfrm>
                <a:off x="6735600" y="3394080"/>
                <a:ext cx="2187720" cy="4597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El </a:t>
                </a:r>
                <a:r>
                  <a:rPr b="1" lang="en-US" sz="2400" spc="-1" strike="noStrike">
                    <a:solidFill>
                      <a:srgbClr val="080808"/>
                    </a:solidFill>
                    <a:latin typeface="Times New Roman"/>
                  </a:rPr>
                  <a:t>Fundamento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47" name="Line 24"/>
              <p:cNvSpPr/>
              <p:nvPr/>
            </p:nvSpPr>
            <p:spPr>
              <a:xfrm>
                <a:off x="7692840" y="3902040"/>
                <a:ext cx="0" cy="61596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sp>
            <p:nvSpPr>
              <p:cNvPr id="248" name="Line 26"/>
              <p:cNvSpPr/>
              <p:nvPr/>
            </p:nvSpPr>
            <p:spPr>
              <a:xfrm flipV="1">
                <a:off x="7767720" y="2936880"/>
                <a:ext cx="0" cy="457200"/>
              </a:xfrm>
              <a:prstGeom prst="line">
                <a:avLst/>
              </a:prstGeom>
              <a:ln w="34920">
                <a:solidFill>
                  <a:srgbClr val="40458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49" name="Group 40"/>
            <p:cNvGrpSpPr/>
            <p:nvPr/>
          </p:nvGrpSpPr>
          <p:grpSpPr>
            <a:xfrm>
              <a:off x="6037200" y="1717560"/>
              <a:ext cx="2859120" cy="1210680"/>
              <a:chOff x="6037200" y="1717560"/>
              <a:chExt cx="2859120" cy="1210680"/>
            </a:xfrm>
          </p:grpSpPr>
          <p:sp>
            <p:nvSpPr>
              <p:cNvPr id="250" name="Text Box 25"/>
              <p:cNvSpPr/>
              <p:nvPr/>
            </p:nvSpPr>
            <p:spPr>
              <a:xfrm>
                <a:off x="6413400" y="2174760"/>
                <a:ext cx="2482920" cy="75348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Está en la base de la representación de</a:t>
                </a:r>
                <a:endParaRPr b="0" lang="en-US" sz="2400" spc="-1" strike="noStrike" u="sng">
                  <a:solidFill>
                    <a:srgbClr val="40458c"/>
                  </a:solidFill>
                  <a:uFillTx/>
                  <a:latin typeface="Tahoma"/>
                </a:endParaRPr>
              </a:p>
            </p:txBody>
          </p:sp>
          <p:grpSp>
            <p:nvGrpSpPr>
              <p:cNvPr id="251" name="Group 32"/>
              <p:cNvGrpSpPr/>
              <p:nvPr/>
            </p:nvGrpSpPr>
            <p:grpSpPr>
              <a:xfrm>
                <a:off x="6037200" y="1717560"/>
                <a:ext cx="1581120" cy="457200"/>
                <a:chOff x="6037200" y="1717560"/>
                <a:chExt cx="1581120" cy="457200"/>
              </a:xfrm>
            </p:grpSpPr>
            <p:sp>
              <p:nvSpPr>
                <p:cNvPr id="252" name="Line 27"/>
                <p:cNvSpPr/>
                <p:nvPr/>
              </p:nvSpPr>
              <p:spPr>
                <a:xfrm flipV="1">
                  <a:off x="7618320" y="1717560"/>
                  <a:ext cx="0" cy="457200"/>
                </a:xfrm>
                <a:prstGeom prst="line">
                  <a:avLst/>
                </a:prstGeom>
                <a:ln w="3492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253" name="Line 28"/>
                <p:cNvSpPr/>
                <p:nvPr/>
              </p:nvSpPr>
              <p:spPr>
                <a:xfrm flipH="1">
                  <a:off x="6037200" y="1717560"/>
                  <a:ext cx="1581120" cy="0"/>
                </a:xfrm>
                <a:prstGeom prst="line">
                  <a:avLst/>
                </a:prstGeom>
                <a:ln w="34920">
                  <a:solidFill>
                    <a:srgbClr val="40458c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 u="sng">
                    <a:solidFill>
                      <a:srgbClr val="40458c"/>
                    </a:solidFill>
                    <a:uFillTx/>
                    <a:latin typeface="Tahoma"/>
                  </a:endParaRPr>
                </a:p>
              </p:txBody>
            </p:sp>
          </p:grpSp>
        </p:grpSp>
      </p:grpSp>
      <p:sp>
        <p:nvSpPr>
          <p:cNvPr id="254" name="Text Box 30"/>
          <p:cNvSpPr/>
          <p:nvPr/>
        </p:nvSpPr>
        <p:spPr>
          <a:xfrm>
            <a:off x="822240" y="2700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Esquema del signo y sus relaciones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6380280" y="6208560"/>
            <a:ext cx="26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Interpretación gráfica: Cristián Prado B.</a:t>
            </a:r>
            <a:endParaRPr b="0" lang="en-US" sz="12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79280" y="636480"/>
            <a:ext cx="856944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976"/>
              </a:spcBef>
              <a:tabLst>
                <a:tab algn="l" pos="0"/>
                <a:tab algn="l" pos="365040"/>
                <a:tab algn="l" pos="71604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n base a estas relaciones la ciencia de la semiótica posee tres ramas: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365040"/>
                <a:tab algn="l" pos="71604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a gramática pura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365040"/>
                <a:tab algn="l" pos="71604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a lógica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976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365040"/>
                <a:tab algn="l" pos="71604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a retórica pura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79280" y="1628640"/>
            <a:ext cx="8640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igno denota, representa objetos (perceptibles, inimaginables o inimaginables)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igno no entrega conocimiento o reconocimiento del obje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Un signo puede tener más de un objeto. 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610920" y="93996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.2. La relación del signo con el objet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79280" y="620640"/>
            <a:ext cx="878544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Los signos pueden subdividirse en tres tricotomías: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igno en sí mism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igno en relación a su objet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  <a:p>
            <a:pPr marL="457200" indent="-457200" algn="just">
              <a:lnSpc>
                <a:spcPct val="180000"/>
              </a:lnSpc>
              <a:spcBef>
                <a:spcPts val="2801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El signo en relación con su interpretante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080" y="18900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. Las tricotomías del signo.</a:t>
            </a:r>
            <a:endParaRPr b="0" lang="en-US" sz="2800" spc="-1" strike="noStrike" u="sng">
              <a:solidFill>
                <a:srgbClr val="40458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22:20:06Z</dcterms:created>
  <dc:creator>Cristian</dc:creator>
  <dc:description/>
  <dc:language>en-US</dc:language>
  <cp:lastModifiedBy>Cristián</cp:lastModifiedBy>
  <dcterms:modified xsi:type="dcterms:W3CDTF">2010-04-19T22:15:28Z</dcterms:modified>
  <cp:revision>85</cp:revision>
  <dc:subject/>
  <dc:title>Presentación de PowerPoint</dc:title>
</cp:coreProperties>
</file>