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FB16-71AA-4B97-BA95-68412A02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D806F-D0DA-4A53-ADB0-791E45EB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D3E4-DED3-4DC8-A8C4-9E28E70E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7263A-B711-4B7B-9004-F8FCEB2D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5B34-298E-427B-8F17-5B02634B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8070-DC6A-49C2-A370-E2A8B8C0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4F13-C1A3-419C-90EA-62ACE5ED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70EE-5803-47F2-BDDF-684AB950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6878-61E3-4433-889D-D3D3427C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8D50-70AC-48DD-A4B3-0BC8C4B7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E98F-61D1-4E52-81D4-9658AD60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ACA20-4E22-4130-A3B9-31C4BC38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CE39-5D6D-4D81-857A-C578A6BD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7811-E18C-40D7-8B91-43721D19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FFEA-B2AA-4FD8-B600-28DE729A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9C55-EA30-493C-834B-AC6B1B37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B04E-F5DC-4EFB-A848-13FA48BB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18257-E911-4653-93B6-8D0DCD3A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3F970-E74D-4B35-8266-2EFBC4AA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96C9-F2E5-456D-B320-1033B3BB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4834-24D4-45A4-A7E8-3807996C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C9471-5EA2-4EA8-A8DA-78B14C79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8A020-73C7-4011-B912-768D5C12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D259B-C375-4914-AF10-1BA0D6AB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0CA2-B887-4987-96F1-3FD6E4891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F6F0-EBD2-4F8C-BF7C-79BAE64313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72400" y="847800"/>
            <a:ext cx="43808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gno Triád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25400" y="5105520"/>
            <a:ext cx="40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f. Cristián Prado Ball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85560" y="580536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2010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71280" y="2060640"/>
            <a:ext cx="8963640" cy="2663640"/>
            <a:chOff x="71280" y="2060640"/>
            <a:chExt cx="8963640" cy="2663640"/>
          </a:xfrm>
        </p:grpSpPr>
        <p:grpSp>
          <p:nvGrpSpPr>
            <p:cNvPr id="190" name=""/>
            <p:cNvGrpSpPr/>
            <p:nvPr/>
          </p:nvGrpSpPr>
          <p:grpSpPr>
            <a:xfrm>
              <a:off x="568440" y="2708280"/>
              <a:ext cx="8466480" cy="1368360"/>
              <a:chOff x="568440" y="2708280"/>
              <a:chExt cx="8466480" cy="136836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568440" y="2708280"/>
                <a:ext cx="8466480" cy="1368360"/>
                <a:chOff x="568440" y="2708280"/>
                <a:chExt cx="8466480" cy="13683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68800" y="2797200"/>
                  <a:ext cx="1027080" cy="1263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071440" y="2741760"/>
                  <a:ext cx="1159920" cy="1334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845520" y="2741760"/>
                  <a:ext cx="1033560" cy="1263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487920" y="2708280"/>
                  <a:ext cx="1059120" cy="1335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177400" y="2781360"/>
                  <a:ext cx="857520" cy="1263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449240" y="2741760"/>
                  <a:ext cx="3742560" cy="130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34480" y="2741760"/>
                  <a:ext cx="2099520" cy="130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2059920" y="2741760"/>
                  <a:ext cx="2319840" cy="130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568440" y="2741760"/>
                  <a:ext cx="3811320" cy="130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3192840" y="2741760"/>
                <a:ext cx="1241640" cy="1263600"/>
              </a:xfrm>
              <a:custGeom>
                <a:avLst/>
                <a:gdLst/>
                <a:ahLst/>
                <a:rect l="l" t="t" r="r" b="b"/>
                <a:pathLst>
                  <a:path w="780" h="900">
                    <a:moveTo>
                      <a:pt x="420" y="900"/>
                    </a:moveTo>
                    <a:cubicBezTo>
                      <a:pt x="210" y="615"/>
                      <a:pt x="0" y="330"/>
                      <a:pt x="60" y="180"/>
                    </a:cubicBezTo>
                    <a:cubicBezTo>
                      <a:pt x="120" y="30"/>
                      <a:pt x="660" y="30"/>
                      <a:pt x="78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497400" y="4221000"/>
              <a:ext cx="121932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be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45880" y="2060640"/>
              <a:ext cx="12463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beza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24240" y="4221000"/>
              <a:ext cx="91368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93200" y="4149720"/>
              <a:ext cx="10051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is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62760" y="4203720"/>
              <a:ext cx="11214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ll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80" y="4149720"/>
              <a:ext cx="8287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766800" y="476280"/>
            <a:ext cx="7560720" cy="5831640"/>
            <a:chOff x="766800" y="476280"/>
            <a:chExt cx="7560720" cy="5831640"/>
          </a:xfrm>
        </p:grpSpPr>
        <p:grpSp>
          <p:nvGrpSpPr>
            <p:cNvPr id="209" name=""/>
            <p:cNvGrpSpPr/>
            <p:nvPr/>
          </p:nvGrpSpPr>
          <p:grpSpPr>
            <a:xfrm>
              <a:off x="766800" y="476280"/>
              <a:ext cx="6598080" cy="5171400"/>
              <a:chOff x="766800" y="476280"/>
              <a:chExt cx="6598080" cy="517140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1523520" y="4227480"/>
                <a:ext cx="1669320" cy="1419840"/>
                <a:chOff x="1523520" y="4227480"/>
                <a:chExt cx="1669320" cy="1419840"/>
              </a:xfrm>
            </p:grpSpPr>
            <p:sp>
              <p:nvSpPr>
                <p:cNvPr id="211" name=""/>
                <p:cNvSpPr/>
                <p:nvPr/>
              </p:nvSpPr>
              <p:spPr>
                <a:xfrm flipH="1">
                  <a:off x="1523520" y="4227480"/>
                  <a:ext cx="834480" cy="141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58000" y="4227480"/>
                  <a:ext cx="834840" cy="141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523520" y="5647320"/>
                  <a:ext cx="1669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611160" y="4227480"/>
                <a:ext cx="1667880" cy="1419840"/>
                <a:chOff x="3611160" y="4227480"/>
                <a:chExt cx="1667880" cy="1419840"/>
              </a:xfrm>
            </p:grpSpPr>
            <p:sp>
              <p:nvSpPr>
                <p:cNvPr id="215" name=""/>
                <p:cNvSpPr/>
                <p:nvPr/>
              </p:nvSpPr>
              <p:spPr>
                <a:xfrm flipH="1">
                  <a:off x="3611160" y="4227480"/>
                  <a:ext cx="833760" cy="141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444920" y="4227480"/>
                  <a:ext cx="834120" cy="141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611160" y="5647320"/>
                  <a:ext cx="166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697000" y="4227480"/>
                <a:ext cx="1667880" cy="1419840"/>
                <a:chOff x="5697000" y="4227480"/>
                <a:chExt cx="1667880" cy="1419840"/>
              </a:xfrm>
            </p:grpSpPr>
            <p:sp>
              <p:nvSpPr>
                <p:cNvPr id="219" name=""/>
                <p:cNvSpPr/>
                <p:nvPr/>
              </p:nvSpPr>
              <p:spPr>
                <a:xfrm flipH="1">
                  <a:off x="5697000" y="4227480"/>
                  <a:ext cx="833400" cy="141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530760" y="4227480"/>
                  <a:ext cx="834120" cy="141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697360" y="5647320"/>
                  <a:ext cx="166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611160" y="2541600"/>
                <a:ext cx="1667880" cy="1419840"/>
                <a:chOff x="3611160" y="2541600"/>
                <a:chExt cx="1667880" cy="1419840"/>
              </a:xfrm>
            </p:grpSpPr>
            <p:sp>
              <p:nvSpPr>
                <p:cNvPr id="223" name=""/>
                <p:cNvSpPr/>
                <p:nvPr/>
              </p:nvSpPr>
              <p:spPr>
                <a:xfrm flipH="1">
                  <a:off x="3611160" y="2541600"/>
                  <a:ext cx="833760" cy="141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444920" y="2541600"/>
                  <a:ext cx="834120" cy="141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611160" y="3961440"/>
                  <a:ext cx="166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766800" y="3576600"/>
                <a:ext cx="2850840" cy="2071080"/>
              </a:xfrm>
              <a:custGeom>
                <a:avLst/>
                <a:gdLst/>
                <a:ahLst/>
                <a:rect l="l" t="t" r="r" b="b"/>
                <a:pathLst>
                  <a:path w="1230" h="1050">
                    <a:moveTo>
                      <a:pt x="330" y="1050"/>
                    </a:moveTo>
                    <a:cubicBezTo>
                      <a:pt x="165" y="675"/>
                      <a:pt x="0" y="300"/>
                      <a:pt x="150" y="150"/>
                    </a:cubicBezTo>
                    <a:cubicBezTo>
                      <a:pt x="300" y="0"/>
                      <a:pt x="1050" y="150"/>
                      <a:pt x="1230" y="15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276360" y="476280"/>
                <a:ext cx="2541240" cy="93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800" spc="-1" strike="noStrike">
                    <a:solidFill>
                      <a:srgbClr val="000000"/>
                    </a:solidFill>
                    <a:latin typeface="Times New Roman"/>
                  </a:rPr>
                  <a:t>Figura 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800" spc="-1" strike="noStrike">
                    <a:solidFill>
                      <a:srgbClr val="000000"/>
                    </a:solidFill>
                    <a:latin typeface="Times New Roman"/>
                  </a:rPr>
                  <a:t>Sinécdoqu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1228320" y="3429000"/>
              <a:ext cx="7099200" cy="2878920"/>
              <a:chOff x="1228320" y="3429000"/>
              <a:chExt cx="7099200" cy="2878920"/>
            </a:xfrm>
          </p:grpSpPr>
          <p:sp>
            <p:nvSpPr>
              <p:cNvPr id="229" name=""/>
              <p:cNvSpPr/>
              <p:nvPr/>
            </p:nvSpPr>
            <p:spPr>
              <a:xfrm>
                <a:off x="5397120" y="3429000"/>
                <a:ext cx="2670120" cy="542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Hiperónim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239880" y="5814360"/>
                <a:ext cx="2087640" cy="49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Hipónimo 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733200" y="5814360"/>
                <a:ext cx="2089440" cy="49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Hipónimo 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28320" y="5814360"/>
                <a:ext cx="2087640" cy="49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Hipónimo 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766800" y="476280"/>
            <a:ext cx="7561080" cy="5832360"/>
            <a:chOff x="766800" y="476280"/>
            <a:chExt cx="7561080" cy="5832360"/>
          </a:xfrm>
        </p:grpSpPr>
        <p:grpSp>
          <p:nvGrpSpPr>
            <p:cNvPr id="234" name=""/>
            <p:cNvGrpSpPr/>
            <p:nvPr/>
          </p:nvGrpSpPr>
          <p:grpSpPr>
            <a:xfrm>
              <a:off x="766800" y="476280"/>
              <a:ext cx="7034040" cy="5172120"/>
              <a:chOff x="766800" y="476280"/>
              <a:chExt cx="7034040" cy="51721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1523880" y="4227480"/>
                <a:ext cx="1669680" cy="1420560"/>
                <a:chOff x="1523880" y="4227480"/>
                <a:chExt cx="1669680" cy="1420560"/>
              </a:xfrm>
            </p:grpSpPr>
            <p:sp>
              <p:nvSpPr>
                <p:cNvPr id="236" name=""/>
                <p:cNvSpPr/>
                <p:nvPr/>
              </p:nvSpPr>
              <p:spPr>
                <a:xfrm flipH="1">
                  <a:off x="1523880" y="4227480"/>
                  <a:ext cx="834480" cy="142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358360" y="4227480"/>
                  <a:ext cx="835200" cy="142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523880" y="5648040"/>
                  <a:ext cx="166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611520" y="4227480"/>
                <a:ext cx="1668240" cy="1420560"/>
                <a:chOff x="3611520" y="4227480"/>
                <a:chExt cx="1668240" cy="142056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3611520" y="4227480"/>
                  <a:ext cx="833760" cy="142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445280" y="4227480"/>
                  <a:ext cx="834480" cy="142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611520" y="5648040"/>
                  <a:ext cx="166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5697360" y="4227480"/>
                <a:ext cx="1668240" cy="1420560"/>
                <a:chOff x="5697360" y="4227480"/>
                <a:chExt cx="1668240" cy="1420560"/>
              </a:xfrm>
            </p:grpSpPr>
            <p:sp>
              <p:nvSpPr>
                <p:cNvPr id="244" name=""/>
                <p:cNvSpPr/>
                <p:nvPr/>
              </p:nvSpPr>
              <p:spPr>
                <a:xfrm flipH="1">
                  <a:off x="5697360" y="4227480"/>
                  <a:ext cx="833760" cy="142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531120" y="4227480"/>
                  <a:ext cx="834480" cy="142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697360" y="5648040"/>
                  <a:ext cx="166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611520" y="2541600"/>
                <a:ext cx="1668600" cy="1420920"/>
                <a:chOff x="3611520" y="2541600"/>
                <a:chExt cx="1668600" cy="1420920"/>
              </a:xfrm>
            </p:grpSpPr>
            <p:sp>
              <p:nvSpPr>
                <p:cNvPr id="248" name=""/>
                <p:cNvSpPr/>
                <p:nvPr/>
              </p:nvSpPr>
              <p:spPr>
                <a:xfrm flipH="1">
                  <a:off x="3611520" y="2541600"/>
                  <a:ext cx="835200" cy="142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446720" y="2541600"/>
                  <a:ext cx="833400" cy="142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611520" y="3962520"/>
                  <a:ext cx="166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766800" y="3576600"/>
                <a:ext cx="2851200" cy="2071800"/>
              </a:xfrm>
              <a:custGeom>
                <a:avLst/>
                <a:gdLst/>
                <a:ahLst/>
                <a:rect l="l" t="t" r="r" b="b"/>
                <a:pathLst>
                  <a:path w="1230" h="1050">
                    <a:moveTo>
                      <a:pt x="330" y="1050"/>
                    </a:moveTo>
                    <a:cubicBezTo>
                      <a:pt x="165" y="675"/>
                      <a:pt x="0" y="300"/>
                      <a:pt x="150" y="150"/>
                    </a:cubicBezTo>
                    <a:cubicBezTo>
                      <a:pt x="300" y="0"/>
                      <a:pt x="1050" y="150"/>
                      <a:pt x="1230" y="15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20840" y="476280"/>
                <a:ext cx="6480000" cy="93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800" spc="-1" strike="noStrike">
                    <a:solidFill>
                      <a:srgbClr val="000000"/>
                    </a:solidFill>
                    <a:latin typeface="Times New Roman"/>
                  </a:rPr>
                  <a:t>Figura 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800" spc="-1" strike="noStrike">
                    <a:solidFill>
                      <a:srgbClr val="000000"/>
                    </a:solidFill>
                    <a:latin typeface="Times New Roman"/>
                  </a:rPr>
                  <a:t>Metonima - el Todo Representa la Part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228680" y="3429000"/>
              <a:ext cx="7099200" cy="2879640"/>
              <a:chOff x="1228680" y="3429000"/>
              <a:chExt cx="7099200" cy="2879640"/>
            </a:xfrm>
          </p:grpSpPr>
          <p:sp>
            <p:nvSpPr>
              <p:cNvPr id="254" name=""/>
              <p:cNvSpPr/>
              <p:nvPr/>
            </p:nvSpPr>
            <p:spPr>
              <a:xfrm>
                <a:off x="5397480" y="3429000"/>
                <a:ext cx="2670120" cy="542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Hiperónim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40600" y="5815080"/>
                <a:ext cx="2087280" cy="49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Hipónimo 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733920" y="5815080"/>
                <a:ext cx="2089080" cy="49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Hipónimo 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28680" y="5815080"/>
                <a:ext cx="2087640" cy="49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Hipónimo 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419640" y="476280"/>
            <a:ext cx="22921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ura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áf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71640" y="2421000"/>
            <a:ext cx="7416720" cy="2320920"/>
            <a:chOff x="971640" y="2421000"/>
            <a:chExt cx="7416720" cy="2320920"/>
          </a:xfrm>
        </p:grpSpPr>
        <p:grpSp>
          <p:nvGrpSpPr>
            <p:cNvPr id="260" name=""/>
            <p:cNvGrpSpPr/>
            <p:nvPr/>
          </p:nvGrpSpPr>
          <p:grpSpPr>
            <a:xfrm>
              <a:off x="971640" y="2421000"/>
              <a:ext cx="7416720" cy="1655640"/>
              <a:chOff x="971640" y="2421000"/>
              <a:chExt cx="7416720" cy="1655640"/>
            </a:xfrm>
          </p:grpSpPr>
          <p:sp>
            <p:nvSpPr>
              <p:cNvPr id="261" name=""/>
              <p:cNvSpPr/>
              <p:nvPr/>
            </p:nvSpPr>
            <p:spPr>
              <a:xfrm>
                <a:off x="971640" y="2492280"/>
                <a:ext cx="1609560" cy="15130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505560" y="2421000"/>
                <a:ext cx="1882800" cy="1655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835280" y="2492280"/>
                <a:ext cx="4681440" cy="158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6804000" y="4221000"/>
              <a:ext cx="1584360" cy="5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igno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42920" y="4149720"/>
              <a:ext cx="1440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igno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35280" y="2492280"/>
              <a:ext cx="55450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00200" y="1773360"/>
            <a:ext cx="774216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geaud, Broecker y Lohma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16360" y="57340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539640" y="1557360"/>
            <a:ext cx="7958160" cy="3800520"/>
            <a:chOff x="539640" y="1557360"/>
            <a:chExt cx="7958160" cy="3800520"/>
          </a:xfrm>
        </p:grpSpPr>
        <p:grpSp>
          <p:nvGrpSpPr>
            <p:cNvPr id="270" name=""/>
            <p:cNvGrpSpPr/>
            <p:nvPr/>
          </p:nvGrpSpPr>
          <p:grpSpPr>
            <a:xfrm>
              <a:off x="2325600" y="2265120"/>
              <a:ext cx="3573720" cy="2244960"/>
              <a:chOff x="2325600" y="2265120"/>
              <a:chExt cx="3573720" cy="224496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2325600" y="2265120"/>
                <a:ext cx="1786680" cy="22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12280" y="2265480"/>
                <a:ext cx="1786680" cy="224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25600" y="4510080"/>
                <a:ext cx="35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1884240" y="1557360"/>
              <a:ext cx="4488120" cy="57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emainomenon (Phantasía Logiké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76720" y="4584600"/>
              <a:ext cx="3421080" cy="77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ynjánon (Somatikón, Ektós Hypokéimen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9640" y="4584600"/>
              <a:ext cx="2737080" cy="77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emainon (Lektón, Asomat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619280" y="54936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ángulo de los esto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971640" y="5493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iángulo de Borgeaud, Broecker y Loh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89080" y="1557360"/>
            <a:ext cx="8629560" cy="4608360"/>
            <a:chOff x="289080" y="1557360"/>
            <a:chExt cx="8629560" cy="4608360"/>
          </a:xfrm>
        </p:grpSpPr>
        <p:sp>
          <p:nvSpPr>
            <p:cNvPr id="280" name=""/>
            <p:cNvSpPr/>
            <p:nvPr/>
          </p:nvSpPr>
          <p:spPr>
            <a:xfrm flipH="1">
              <a:off x="6037200" y="205092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1747800" y="2216160"/>
              <a:ext cx="4957920" cy="2797200"/>
              <a:chOff x="1747800" y="2216160"/>
              <a:chExt cx="4957920" cy="2797200"/>
            </a:xfrm>
          </p:grpSpPr>
          <p:sp>
            <p:nvSpPr>
              <p:cNvPr id="282" name=""/>
              <p:cNvSpPr/>
              <p:nvPr/>
            </p:nvSpPr>
            <p:spPr>
              <a:xfrm flipV="1">
                <a:off x="1747800" y="2544840"/>
                <a:ext cx="2333160" cy="246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80960" y="2544840"/>
                <a:ext cx="2478960" cy="246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47800" y="5013360"/>
                <a:ext cx="481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6559920" y="2216160"/>
                <a:ext cx="145440" cy="279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1747800" y="2216160"/>
                <a:ext cx="4957920" cy="279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1403280" y="1722600"/>
              <a:ext cx="4573800" cy="72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unción Significativa o Signific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Asociación de Ideas en una Comunid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77080" y="1557360"/>
              <a:ext cx="2041560" cy="18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ignificado (lo que el hablante entiende por el signo) (Influencia parcialmente la sign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24360" y="5157720"/>
              <a:ext cx="2552760" cy="65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sa Real (Sin Pertenencia al Sign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9080" y="5178600"/>
              <a:ext cx="2627280" cy="98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teria Significante (Estructura Fonológica o Morfológic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619280" y="29098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idad y Objeto 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53920" y="404640"/>
            <a:ext cx="741996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K. Ogden and I.A. Rich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2781360" cy="367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70400" y="1628640"/>
            <a:ext cx="2757600" cy="3745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3760" y="57340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1116000" y="1052640"/>
            <a:ext cx="6984720" cy="5544720"/>
            <a:chOff x="1116000" y="1052640"/>
            <a:chExt cx="6984720" cy="5544720"/>
          </a:xfrm>
        </p:grpSpPr>
        <p:grpSp>
          <p:nvGrpSpPr>
            <p:cNvPr id="113" name=""/>
            <p:cNvGrpSpPr/>
            <p:nvPr/>
          </p:nvGrpSpPr>
          <p:grpSpPr>
            <a:xfrm>
              <a:off x="2833200" y="1891800"/>
              <a:ext cx="3332160" cy="3255840"/>
              <a:chOff x="2833200" y="1891800"/>
              <a:chExt cx="3332160" cy="325584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833200" y="1891800"/>
                <a:ext cx="1537920" cy="32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371120" y="1891800"/>
                <a:ext cx="1793880" cy="325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833200" y="5147640"/>
                <a:ext cx="333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376360" y="1052640"/>
              <a:ext cx="401544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nsamiento o Refer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16000" y="2370600"/>
              <a:ext cx="2306880" cy="140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Times New Roman"/>
                </a:rPr>
                <a:t>Correcto. Simboliza (una relación causal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94680" y="2256840"/>
              <a:ext cx="2306880" cy="168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Times New Roman"/>
                </a:rPr>
                <a:t>Adecuado. Se refiere a (otras relaciones causale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16000" y="4938480"/>
              <a:ext cx="164448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Times New Roman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21160" y="4942800"/>
              <a:ext cx="187956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3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feren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33200" y="5188680"/>
              <a:ext cx="3216960" cy="140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Times New Roman"/>
                </a:rPr>
                <a:t>Representa (una relación atribuida). Verdader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61840" y="1628640"/>
            <a:ext cx="742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hen Ull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6360" y="4005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611280" y="620640"/>
            <a:ext cx="8136720" cy="5579640"/>
            <a:chOff x="611280" y="620640"/>
            <a:chExt cx="8136720" cy="5579640"/>
          </a:xfrm>
        </p:grpSpPr>
        <p:grpSp>
          <p:nvGrpSpPr>
            <p:cNvPr id="126" name=""/>
            <p:cNvGrpSpPr/>
            <p:nvPr/>
          </p:nvGrpSpPr>
          <p:grpSpPr>
            <a:xfrm>
              <a:off x="1266840" y="620640"/>
              <a:ext cx="7481160" cy="5579640"/>
              <a:chOff x="1266840" y="620640"/>
              <a:chExt cx="7481160" cy="557964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1266840" y="620640"/>
                <a:ext cx="7481160" cy="5579640"/>
                <a:chOff x="1266840" y="620640"/>
                <a:chExt cx="7481160" cy="557964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2315520" y="1896120"/>
                  <a:ext cx="5321880" cy="3108240"/>
                  <a:chOff x="2315520" y="1896120"/>
                  <a:chExt cx="5321880" cy="310824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flipV="1">
                    <a:off x="2315520" y="1896120"/>
                    <a:ext cx="2776680" cy="310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arrow" w="med"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092200" y="1959120"/>
                    <a:ext cx="2545200" cy="304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2315520" y="5004360"/>
                    <a:ext cx="5321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4082040" y="620640"/>
                  <a:ext cx="2005200" cy="122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ctr">
                  <a:noAutofit/>
                </a:bodyPr>
                <a:p>
                  <a:pPr algn="ctr">
                    <a:lnSpc>
                      <a:spcPct val="13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Sentido (Información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66840" y="5070240"/>
                  <a:ext cx="2043720" cy="1130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ctr">
                  <a:noAutofit/>
                </a:bodyPr>
                <a:p>
                  <a:pPr algn="ctr">
                    <a:lnSpc>
                      <a:spcPct val="13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Nombre (Forma fónica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434280" y="5046840"/>
                  <a:ext cx="2313720" cy="1153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ctr">
                  <a:noAutofit/>
                </a:bodyPr>
                <a:p>
                  <a:pPr algn="ctr">
                    <a:lnSpc>
                      <a:spcPct val="13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Cosa (Elemento fuera del signo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2134080" y="3202560"/>
                <a:ext cx="1272600" cy="52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Simboliz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434280" y="2967120"/>
                <a:ext cx="2140200" cy="47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Se relaciona c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61640" y="5086080"/>
                <a:ext cx="2363760" cy="94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Representa (relación ficticia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8" name=""/>
            <p:cNvCxnSpPr/>
            <p:nvPr/>
          </p:nvCxnSpPr>
          <p:spPr>
            <a:xfrm flipV="1">
              <a:off x="880920" y="1723320"/>
              <a:ext cx="2642400" cy="294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611280" y="2472840"/>
              <a:ext cx="1542240" cy="5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Signifi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61840" y="404640"/>
            <a:ext cx="742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t Baldi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16360" y="57340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878200" y="1484280"/>
            <a:ext cx="3267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816120" y="1341360"/>
            <a:ext cx="7488000" cy="8407080"/>
            <a:chOff x="816120" y="1341360"/>
            <a:chExt cx="7488000" cy="8407080"/>
          </a:xfrm>
        </p:grpSpPr>
        <p:sp>
          <p:nvSpPr>
            <p:cNvPr id="144" name=""/>
            <p:cNvSpPr/>
            <p:nvPr/>
          </p:nvSpPr>
          <p:spPr>
            <a:xfrm>
              <a:off x="816120" y="3770280"/>
              <a:ext cx="1830240" cy="37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Signific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971640" y="1341360"/>
              <a:ext cx="7332480" cy="8407080"/>
              <a:chOff x="971640" y="1341360"/>
              <a:chExt cx="7332480" cy="840708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971640" y="1341360"/>
                <a:ext cx="7332480" cy="5040360"/>
                <a:chOff x="971640" y="1341360"/>
                <a:chExt cx="7332480" cy="504036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2293920" y="2617920"/>
                  <a:ext cx="5321160" cy="3108240"/>
                  <a:chOff x="2293920" y="2617920"/>
                  <a:chExt cx="5321160" cy="310824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V="1">
                    <a:off x="2293920" y="2617920"/>
                    <a:ext cx="2776320" cy="310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arrow" w="med"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070240" y="2680920"/>
                    <a:ext cx="2544840" cy="304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2293920" y="5726160"/>
                    <a:ext cx="5321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4059360" y="1341360"/>
                  <a:ext cx="2006640" cy="100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ctr">
                  <a:noAutofit/>
                </a:bodyPr>
                <a:p>
                  <a:pPr algn="ctr">
                    <a:lnSpc>
                      <a:spcPct val="13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Concepto (objeto mental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971640" y="5791320"/>
                  <a:ext cx="2679480" cy="446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ctr">
                  <a:noAutofit/>
                </a:bodyPr>
                <a:p>
                  <a:pPr algn="ctr">
                    <a:lnSpc>
                      <a:spcPct val="13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Significante (Forma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926400" y="5838840"/>
                  <a:ext cx="1377720" cy="54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ctr">
                  <a:noAutofit/>
                </a:bodyPr>
                <a:p>
                  <a:pPr algn="ctr">
                    <a:lnSpc>
                      <a:spcPct val="13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Cos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 flipV="1" rot="11416800">
                <a:off x="2252520" y="2555280"/>
                <a:ext cx="3742920" cy="6914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802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80241"/>
                  </a:path>
                </a:pathLst>
              </a:custGeom>
              <a:noFill/>
              <a:ln w="22320">
                <a:solidFill>
                  <a:srgbClr val="0000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2411280" y="549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ciones semasi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27280" y="620640"/>
            <a:ext cx="38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olisem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22400" y="2030400"/>
            <a:ext cx="8842320" cy="3414600"/>
            <a:chOff x="122400" y="2030400"/>
            <a:chExt cx="8842320" cy="3414600"/>
          </a:xfrm>
        </p:grpSpPr>
        <p:grpSp>
          <p:nvGrpSpPr>
            <p:cNvPr id="158" name=""/>
            <p:cNvGrpSpPr/>
            <p:nvPr/>
          </p:nvGrpSpPr>
          <p:grpSpPr>
            <a:xfrm>
              <a:off x="420840" y="3396960"/>
              <a:ext cx="8183160" cy="1400400"/>
              <a:chOff x="420840" y="3396960"/>
              <a:chExt cx="8183160" cy="140040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420840" y="3396960"/>
                <a:ext cx="8183160" cy="1400400"/>
                <a:chOff x="420840" y="3396960"/>
                <a:chExt cx="8183160" cy="14004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20840" y="3397320"/>
                  <a:ext cx="667800" cy="1400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937880" y="3397320"/>
                  <a:ext cx="667800" cy="1400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27960" y="3397320"/>
                  <a:ext cx="667800" cy="1400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266160" y="3397320"/>
                  <a:ext cx="667800" cy="1400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936200" y="3397320"/>
                  <a:ext cx="667800" cy="1400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>
                  <a:off x="3927960" y="3396960"/>
                  <a:ext cx="4342320" cy="140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3927960" y="3396960"/>
                  <a:ext cx="2671920" cy="140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flipV="1">
                  <a:off x="2257920" y="3396960"/>
                  <a:ext cx="1669680" cy="140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flipV="1">
                  <a:off x="754920" y="3396960"/>
                  <a:ext cx="3173040" cy="140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3530520" y="3397320"/>
                <a:ext cx="708840" cy="1400040"/>
              </a:xfrm>
              <a:custGeom>
                <a:avLst/>
                <a:gdLst/>
                <a:ahLst/>
                <a:rect l="l" t="t" r="r" b="b"/>
                <a:pathLst>
                  <a:path w="780" h="900">
                    <a:moveTo>
                      <a:pt x="420" y="900"/>
                    </a:moveTo>
                    <a:cubicBezTo>
                      <a:pt x="210" y="615"/>
                      <a:pt x="0" y="330"/>
                      <a:pt x="60" y="180"/>
                    </a:cubicBezTo>
                    <a:cubicBezTo>
                      <a:pt x="120" y="30"/>
                      <a:pt x="660" y="30"/>
                      <a:pt x="78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780000" y="5030640"/>
              <a:ext cx="761760" cy="41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p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98960" y="2832120"/>
              <a:ext cx="698400" cy="42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51640" y="2924280"/>
              <a:ext cx="1674720" cy="33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l en una ob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6800" y="2276640"/>
              <a:ext cx="1447920" cy="10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os personales de algui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03480" y="2271600"/>
              <a:ext cx="1677960" cy="9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unciones de una persona en un lug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2400" y="2030400"/>
              <a:ext cx="1777680" cy="125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Genérico para tipos de de productos de celul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68360" y="69228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ciones Onomasi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816120" y="1341360"/>
            <a:ext cx="7488000" cy="7343280"/>
            <a:chOff x="816120" y="1341360"/>
            <a:chExt cx="7488000" cy="7343280"/>
          </a:xfrm>
        </p:grpSpPr>
        <p:grpSp>
          <p:nvGrpSpPr>
            <p:cNvPr id="178" name=""/>
            <p:cNvGrpSpPr/>
            <p:nvPr/>
          </p:nvGrpSpPr>
          <p:grpSpPr>
            <a:xfrm>
              <a:off x="816120" y="1341360"/>
              <a:ext cx="7488000" cy="5040360"/>
              <a:chOff x="816120" y="1341360"/>
              <a:chExt cx="7488000" cy="5040360"/>
            </a:xfrm>
          </p:grpSpPr>
          <p:sp>
            <p:nvSpPr>
              <p:cNvPr id="179" name=""/>
              <p:cNvSpPr/>
              <p:nvPr/>
            </p:nvSpPr>
            <p:spPr>
              <a:xfrm>
                <a:off x="816120" y="3770280"/>
                <a:ext cx="183024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Times New Roman"/>
                  </a:rPr>
                  <a:t>Designació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971640" y="1341360"/>
                <a:ext cx="7332480" cy="5040360"/>
                <a:chOff x="971640" y="1341360"/>
                <a:chExt cx="7332480" cy="504036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2293920" y="2617920"/>
                  <a:ext cx="5321160" cy="3108240"/>
                  <a:chOff x="2293920" y="2617920"/>
                  <a:chExt cx="5321160" cy="31082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flipV="1">
                    <a:off x="2293920" y="2617920"/>
                    <a:ext cx="2776320" cy="310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arrow" w="med"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070240" y="2680920"/>
                    <a:ext cx="2544840" cy="304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293920" y="5726160"/>
                    <a:ext cx="5321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>
                  <a:off x="4059360" y="1341360"/>
                  <a:ext cx="2006640" cy="100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ctr">
                  <a:noAutofit/>
                </a:bodyPr>
                <a:p>
                  <a:pPr algn="ctr">
                    <a:lnSpc>
                      <a:spcPct val="13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Concepto (objeto mental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71640" y="5791320"/>
                  <a:ext cx="2679480" cy="446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ctr">
                  <a:noAutofit/>
                </a:bodyPr>
                <a:p>
                  <a:pPr algn="ctr">
                    <a:lnSpc>
                      <a:spcPct val="13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Significante (Forma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926400" y="5838840"/>
                  <a:ext cx="1377720" cy="54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ctr">
                  <a:noAutofit/>
                </a:bodyPr>
                <a:p>
                  <a:pPr algn="ctr">
                    <a:lnSpc>
                      <a:spcPct val="13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Times New Roman"/>
                    </a:rPr>
                    <a:t>Cos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"/>
            <p:cNvSpPr/>
            <p:nvPr/>
          </p:nvSpPr>
          <p:spPr>
            <a:xfrm flipH="1">
              <a:off x="2124000" y="2637000"/>
              <a:ext cx="5616000" cy="604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232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8:47:48Z</dcterms:created>
  <dc:creator>Cristián</dc:creator>
  <dc:description/>
  <dc:language>en-US</dc:language>
  <cp:lastModifiedBy>Cristián</cp:lastModifiedBy>
  <dcterms:modified xsi:type="dcterms:W3CDTF">2010-04-14T23:46:24Z</dcterms:modified>
  <cp:revision>2</cp:revision>
  <dc:subject/>
  <dc:title>Diapositiva 1</dc:title>
</cp:coreProperties>
</file>