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0D04-F633-453E-922E-25A0E28EFA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8005-079D-4D3F-BB99-9865192C2A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0F2-37EA-42F7-980E-D2872CF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E7D-CEA3-414D-AB7C-E3AE178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1DD-9E3D-405A-97E2-EA90895C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31A-2A9F-491B-AA52-45CE1274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CC3-502C-4D57-8203-A5F6CD96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AD1-A9E3-407D-90C3-C76DBAA4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B4E-BFF0-4BE4-9376-881C989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82F-913B-41B7-A89C-5FBBE8D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DD4-2333-4BCD-944A-42EFDEA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8B0-DC3E-4675-9A3D-424E6CE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CC9-F91A-40D1-934A-B963EDA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E06-E8C3-4C13-A320-F886008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3C8E-8F9A-49A6-8693-15301EB4FC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Dr.  Pedro Perez Perez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Médico- cirujano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RUT 6.248.231-k  ICM 13.196-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Seminario 80         Fono: 850505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Providencia-Santiago</a:t>
            </a:r>
            <a:br>
              <a:rPr sz="1400"/>
            </a:br>
            <a:r>
              <a:rPr b="1" i="1" lang="es-ES_tradnl" sz="10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28800" y="3657600"/>
            <a:ext cx="35812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ombre: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omicilio: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ad: __________ C. Ident. : 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echa :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Times New Roman"/>
              </a:rPr>
              <a:t>Imprenta Globito, Calle Larga 666  Fono: 5555555  RUT: 806.235.200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828800" y="2362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828800" y="2362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5410080" y="2362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0"/>
          <p:cNvSpPr/>
          <p:nvPr/>
        </p:nvSpPr>
        <p:spPr>
          <a:xfrm>
            <a:off x="1828800" y="73152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17680" y="19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17680" y="11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0" y="228600"/>
            <a:ext cx="35053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parte superior izquierda de la rece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rá contener impreso los nombr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ellidos del médico cirujano, cédula de Id,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bicación de la consulta, teléfono y ciu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533520" y="1676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6"/>
          <p:cNvSpPr/>
          <p:nvPr/>
        </p:nvSpPr>
        <p:spPr>
          <a:xfrm>
            <a:off x="5335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3657600" y="189000"/>
            <a:ext cx="3200400" cy="11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continuación se dejará un esp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identificar al paciente: nombres y apellidos, edad, número de carné, domicilio, ciudad y fecha de emisi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0" y="5940360"/>
            <a:ext cx="1773360" cy="237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 de la rece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onde aparec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crip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m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riodo del tr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tal 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905360" y="6934320"/>
            <a:ext cx="1957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pacio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firm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ional autor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1176480" y="7924680"/>
            <a:ext cx="570240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da receta debe contener, en forma clara y visible a contin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la firma del médico cirujano, la identificación de la imprenta d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confeccionan dichas recetas, indicándose su nombre, RU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omicilio, teléfono y ciu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3"/>
          <p:cNvSpPr/>
          <p:nvPr/>
        </p:nvSpPr>
        <p:spPr>
          <a:xfrm>
            <a:off x="1828800" y="6858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5"/>
          <p:cNvSpPr/>
          <p:nvPr/>
        </p:nvSpPr>
        <p:spPr>
          <a:xfrm>
            <a:off x="1844640" y="7164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1"/>
          <p:cNvSpPr/>
          <p:nvPr/>
        </p:nvSpPr>
        <p:spPr>
          <a:xfrm>
            <a:off x="5410080" y="6781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4"/>
          <p:cNvSpPr/>
          <p:nvPr/>
        </p:nvSpPr>
        <p:spPr>
          <a:xfrm flipH="1">
            <a:off x="548640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5"/>
          <p:cNvSpPr/>
          <p:nvPr/>
        </p:nvSpPr>
        <p:spPr>
          <a:xfrm>
            <a:off x="6477120" y="1371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6"/>
          <p:cNvSpPr/>
          <p:nvPr/>
        </p:nvSpPr>
        <p:spPr>
          <a:xfrm flipV="1">
            <a:off x="6248520" y="6171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7"/>
          <p:cNvSpPr/>
          <p:nvPr/>
        </p:nvSpPr>
        <p:spPr>
          <a:xfrm flipH="1">
            <a:off x="548604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8"/>
          <p:cNvSpPr/>
          <p:nvPr/>
        </p:nvSpPr>
        <p:spPr>
          <a:xfrm flipV="1">
            <a:off x="3429000" y="7391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9"/>
          <p:cNvSpPr/>
          <p:nvPr/>
        </p:nvSpPr>
        <p:spPr>
          <a:xfrm flipV="1">
            <a:off x="8380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>
            <a:off x="8380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23:35:29Z</dcterms:created>
  <dc:creator>aleida kulikoff</dc:creator>
  <dc:description/>
  <dc:language>en-US</dc:language>
  <cp:lastModifiedBy>Fernanda Belén Barrera Manríquez</cp:lastModifiedBy>
  <dcterms:modified xsi:type="dcterms:W3CDTF">2011-12-13T05:49:19Z</dcterms:modified>
  <cp:revision>38</cp:revision>
  <dc:subject/>
  <dc:title>Dr.  Pedro Perez Perez     Médico- cirujano RUT 6.248.231-k  ICM 13.196-1 Seminario 80         Fono: 8505050 Providencia-Santiago ______________________________________________</dc:title>
</cp:coreProperties>
</file>