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1000-5B9D-4AB6-AA2D-EC52B1B4DC1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95A4-556E-49DB-8622-AEF52C8E15E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757E-EA24-49CA-8341-D4CE6CBB4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D136-5253-4B20-8B83-99894A98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9651-B0DC-40B1-8AC3-685559BC8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65C3-F41C-4F33-A7CF-42047EC11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AF9B-3BCD-4E91-BA2F-8DCE6EE4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1C79-73C1-4960-84E9-52C0E380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7FE0-456F-475D-961B-26E3EEC1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2EBB-08D3-4218-8D83-6057C2F9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3433-14BD-44B0-A0EF-2575B094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5879-C282-4A17-A851-C9E0BBA8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ECD0-393D-4716-A4BA-9CD5F42E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ACD7-0AE1-4DE3-B418-084DD717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EDF1-405B-43F6-BF4B-EAB65A9685B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4760" y="1600200"/>
            <a:ext cx="29718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Calibri"/>
              </a:rPr>
              <a:t>Dr.  Pedro Perez Perez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s-ES_tradnl" sz="1400" spc="-1" strike="noStrike">
                <a:solidFill>
                  <a:srgbClr val="000000"/>
                </a:solidFill>
                <a:latin typeface="Calibri"/>
              </a:rPr>
              <a:t>Médico- cirujano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Calibri"/>
              </a:rPr>
              <a:t>RUT 6.248.231-k  ICM 13.196-1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Calibri"/>
              </a:rPr>
              <a:t>Seminario 80         Fono: 8505050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Calibri"/>
              </a:rPr>
              <a:t>Providencia-Santiago</a:t>
            </a:r>
            <a:br>
              <a:rPr sz="1400"/>
            </a:br>
            <a:r>
              <a:rPr b="1" i="1" lang="es-ES_tradnl" sz="1000" spc="-1" strike="noStrike">
                <a:solidFill>
                  <a:srgbClr val="000000"/>
                </a:solidFill>
                <a:latin typeface="Calibri"/>
              </a:rPr>
              <a:t>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828800" y="3657600"/>
            <a:ext cx="3581280" cy="38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Nombre: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omicilio: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dad: __________ C. Ident. : 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echa :_______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Times New Roman"/>
              </a:rPr>
              <a:t>Imprenta Globito, Calle Larga 666  Fono: 5555555  RUT: 806.235.200-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1828800" y="236232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5"/>
          <p:cNvSpPr/>
          <p:nvPr/>
        </p:nvSpPr>
        <p:spPr>
          <a:xfrm>
            <a:off x="1828800" y="236232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7"/>
          <p:cNvSpPr/>
          <p:nvPr/>
        </p:nvSpPr>
        <p:spPr>
          <a:xfrm>
            <a:off x="5410080" y="236232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0"/>
          <p:cNvSpPr/>
          <p:nvPr/>
        </p:nvSpPr>
        <p:spPr>
          <a:xfrm>
            <a:off x="1828800" y="731520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517680" y="19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17680" y="11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2"/>
          <p:cNvSpPr/>
          <p:nvPr/>
        </p:nvSpPr>
        <p:spPr>
          <a:xfrm>
            <a:off x="0" y="228600"/>
            <a:ext cx="35053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 la parte superior izquierda de la rece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berá contener impreso los nombres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pellidos del médico cirujano, cédula de Id,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bicación de la consulta, teléfono y ciu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34"/>
          <p:cNvSpPr/>
          <p:nvPr/>
        </p:nvSpPr>
        <p:spPr>
          <a:xfrm>
            <a:off x="533520" y="1676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6"/>
          <p:cNvSpPr/>
          <p:nvPr/>
        </p:nvSpPr>
        <p:spPr>
          <a:xfrm>
            <a:off x="533520" y="2743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1"/>
          <p:cNvSpPr/>
          <p:nvPr/>
        </p:nvSpPr>
        <p:spPr>
          <a:xfrm>
            <a:off x="3657600" y="189000"/>
            <a:ext cx="3200400" cy="11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 continuación se dejará un espa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ra identificar al paciente: nombres y apellidos, edad, número de carné, domicilio, ciudad y fecha de emisión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0" y="5940360"/>
            <a:ext cx="1773360" cy="237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uerpo de la receta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onde aparece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cripció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omb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osolog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eriodo del tr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otal un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8"/>
          <p:cNvSpPr/>
          <p:nvPr/>
        </p:nvSpPr>
        <p:spPr>
          <a:xfrm>
            <a:off x="4905360" y="6934320"/>
            <a:ext cx="195768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spacio pa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a firma 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ional autoriz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1"/>
          <p:cNvSpPr/>
          <p:nvPr/>
        </p:nvSpPr>
        <p:spPr>
          <a:xfrm>
            <a:off x="1176480" y="7924680"/>
            <a:ext cx="5702400" cy="9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oda receta debe contener, en forma clara y visible a continu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 la firma del médico cirujano, la identificación de la imprenta don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 confeccionan dichas recetas, indicándose su nombre, RUT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omicilio, teléfono y ciu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3"/>
          <p:cNvSpPr/>
          <p:nvPr/>
        </p:nvSpPr>
        <p:spPr>
          <a:xfrm>
            <a:off x="1828800" y="6858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5"/>
          <p:cNvSpPr/>
          <p:nvPr/>
        </p:nvSpPr>
        <p:spPr>
          <a:xfrm>
            <a:off x="1844640" y="7164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1"/>
          <p:cNvSpPr/>
          <p:nvPr/>
        </p:nvSpPr>
        <p:spPr>
          <a:xfrm>
            <a:off x="5410080" y="6781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4"/>
          <p:cNvSpPr/>
          <p:nvPr/>
        </p:nvSpPr>
        <p:spPr>
          <a:xfrm flipH="1">
            <a:off x="5486400" y="4114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5"/>
          <p:cNvSpPr/>
          <p:nvPr/>
        </p:nvSpPr>
        <p:spPr>
          <a:xfrm>
            <a:off x="6477120" y="13716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6"/>
          <p:cNvSpPr/>
          <p:nvPr/>
        </p:nvSpPr>
        <p:spPr>
          <a:xfrm flipV="1">
            <a:off x="6248520" y="6171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7"/>
          <p:cNvSpPr/>
          <p:nvPr/>
        </p:nvSpPr>
        <p:spPr>
          <a:xfrm flipH="1">
            <a:off x="5486040" y="6172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8"/>
          <p:cNvSpPr/>
          <p:nvPr/>
        </p:nvSpPr>
        <p:spPr>
          <a:xfrm flipV="1">
            <a:off x="3429000" y="7391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9"/>
          <p:cNvSpPr/>
          <p:nvPr/>
        </p:nvSpPr>
        <p:spPr>
          <a:xfrm flipV="1">
            <a:off x="838080" y="5486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0"/>
          <p:cNvSpPr/>
          <p:nvPr/>
        </p:nvSpPr>
        <p:spPr>
          <a:xfrm>
            <a:off x="838080" y="5486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23:35:29Z</dcterms:created>
  <dc:creator>aleida kulikoff</dc:creator>
  <dc:description/>
  <dc:language>en-US</dc:language>
  <cp:lastModifiedBy>Fernanda Belén Barrera Manríquez</cp:lastModifiedBy>
  <dcterms:modified xsi:type="dcterms:W3CDTF">2011-12-13T05:49:19Z</dcterms:modified>
  <cp:revision>38</cp:revision>
  <dc:subject/>
  <dc:title>Dr.  Pedro Perez Perez     Médico- cirujano RUT 6.248.231-k  ICM 13.196-1 Seminario 80         Fono: 8505050 Providencia-Santiago ______________________________________________</dc:title>
</cp:coreProperties>
</file>